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3D6976-20D7-494C-A8A5-9C61F66375A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"/>
          <p:cNvSpPr txBox="1"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263AEF-2C46-4D02-B3BA-2000EDC6099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 txBox="1"/>
          <p:nvPr/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 txBox="1"/>
          <p:nvPr/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023840" y="789120"/>
            <a:ext cx="5052960" cy="378936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946080" y="4897440"/>
            <a:ext cx="520704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"/>
          <p:cNvSpPr txBox="1"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2FA5C57-7117-4F24-B366-F1DF4D17C24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92526"/>
                </a:solidFill>
                <a:latin typeface="UnicaSB-Light"/>
              </a:rPr>
              <a:t>In most countries, the wholesale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92526"/>
                </a:solidFill>
                <a:latin typeface="UnicaSB-Light"/>
              </a:rPr>
              <a:t>comprises two main seg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e333b"/>
                </a:solidFill>
                <a:latin typeface="UnicaSB-Light"/>
              </a:rPr>
              <a:t>• </a:t>
            </a:r>
            <a:r>
              <a:rPr b="0" lang="fr-FR" sz="1200" spc="-1" strike="noStrike">
                <a:solidFill>
                  <a:srgbClr val="292526"/>
                </a:solidFill>
                <a:latin typeface="UnicaSB-Light"/>
              </a:rPr>
              <a:t>the organised market, in the form of an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92526"/>
                </a:solidFill>
                <a:latin typeface="UnicaSB-Light"/>
              </a:rPr>
              <a:t>exchange or pool (Powernext in Fra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92526"/>
                </a:solidFill>
                <a:latin typeface="UnicaSB-Light"/>
              </a:rPr>
              <a:t>EEX in Germany, Nordpool for the Nordic countri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92526"/>
                </a:solidFill>
                <a:latin typeface="UnicaSB-Light"/>
              </a:rPr>
              <a:t>etc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e333b"/>
                </a:solidFill>
                <a:latin typeface="UnicaSB-Light"/>
              </a:rPr>
              <a:t>• </a:t>
            </a:r>
            <a:r>
              <a:rPr b="0" lang="fr-FR" sz="1200" spc="-1" strike="noStrike">
                <a:solidFill>
                  <a:srgbClr val="292526"/>
                </a:solidFill>
                <a:latin typeface="UnicaSB-Light"/>
              </a:rPr>
              <a:t>the OTC market, where exchange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92526"/>
                </a:solidFill>
                <a:latin typeface="UnicaSB-Light"/>
              </a:rPr>
              <a:t>on a bilateral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"/>
          <p:cNvSpPr txBox="1"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EE95066-614C-483E-B232-A3AD01FFABE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023840" y="787320"/>
            <a:ext cx="5056200" cy="379260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946080" y="4897440"/>
            <a:ext cx="520704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D1C9-B832-40A5-A6B3-757B0B3C8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1329-9974-4F27-B987-899F064E7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9CF6-1732-4864-884C-5D4EB9757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5BF3-9454-4969-BB45-D4AA9AD1D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DF21-E4B1-4EEC-93FD-6E43DF78C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6E820-E1F7-4B30-88A4-8061062F1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1536-77A9-41B5-A3CF-724704B0D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ACCD-3B00-4836-9F26-8F8DF4150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218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B8E7-1B9B-482D-9E54-98B1D3A87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EE44-7702-4A3C-A2E8-D3DA719CA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B0C3-2EA5-428D-9171-EA6E01AE5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EB8D-6C3C-484C-BB38-DB36BD152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165360"/>
            <a:ext cx="3359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Україна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Впровадження Концепції ОРЕ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"/>
              </a:rPr>
              <a:t>Технічна допомога НКР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"/>
              </a:rPr>
              <a:t>Позика МБРР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# 4795 – 0 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284720" y="6165720"/>
            <a:ext cx="4464000" cy="547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7280" y="6181200"/>
            <a:ext cx="419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9326-6CA5-40C9-93D1-D4D501FB7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420560"/>
            <a:ext cx="8305920" cy="26924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Головні принципи</a:t>
            </a:r>
            <a:br>
              <a:rPr sz="4400"/>
            </a:b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архітектури нового ринку </a:t>
            </a:r>
            <a:br>
              <a:rPr sz="4400"/>
            </a:b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та переходу до нього </a:t>
            </a:r>
            <a:br>
              <a:rPr sz="4000"/>
            </a:b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71640" y="3500280"/>
            <a:ext cx="7291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лка Левінг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9720" y="5576760"/>
            <a:ext cx="77486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cc"/>
                </a:solidFill>
                <a:latin typeface="Futura Md BT"/>
              </a:rPr>
              <a:t>Конференція 29 вересня </a:t>
            </a:r>
            <a:r>
              <a:rPr b="1" lang="en-GB" sz="1800" spc="-1" strike="noStrike">
                <a:solidFill>
                  <a:srgbClr val="0000cc"/>
                </a:solidFill>
                <a:latin typeface="Futura Md BT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DDC8-B3E9-4FC5-A37E-BDA01A2A3B0C}" type="slidenum">
              <a:t>1</a:t>
            </a:fld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2520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Двосто-ронні договори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0"/>
            <a:ext cx="0" cy="589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228600"/>
            <a:ext cx="5867280" cy="2514600"/>
          </a:xfrm>
          <a:prstGeom prst="rect">
            <a:avLst/>
          </a:prstGeom>
          <a:noFill/>
          <a:ln w="6480">
            <a:solidFill>
              <a:srgbClr val="5270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Futura Md BT"/>
              </a:rPr>
              <a:t>Що  хоче продати виробник</a:t>
            </a:r>
            <a:r>
              <a:rPr b="1" lang="en-US" sz="3000" spc="-1" strike="noStrike">
                <a:solidFill>
                  <a:srgbClr val="000000"/>
                </a:solidFill>
                <a:latin typeface="Futura Md BT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97800" y="1389240"/>
            <a:ext cx="1079640" cy="8269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75440" y="1658880"/>
            <a:ext cx="1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97800" y="1906560"/>
            <a:ext cx="37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975440" y="1644480"/>
            <a:ext cx="0" cy="2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70800" y="17413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31320" y="14652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8145360" y="146520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8483760" y="14652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97800" y="24192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859520" y="240264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Md BT"/>
              </a:rPr>
              <a:t>24 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85200" y="812880"/>
            <a:ext cx="12412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Futura Md BT"/>
              </a:rPr>
              <a:t>Профільоване навантаж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63760" y="1389240"/>
            <a:ext cx="1079640" cy="8269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63760" y="184644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05080" y="870120"/>
            <a:ext cx="1074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Futura Md BT"/>
              </a:rPr>
              <a:t>Базове навантаж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63760" y="23954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25840" y="237888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Md BT"/>
              </a:rPr>
              <a:t>24 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735440" y="1389240"/>
            <a:ext cx="1079280" cy="826560"/>
            <a:chOff x="4735440" y="1389240"/>
            <a:chExt cx="1079280" cy="826560"/>
          </a:xfrm>
        </p:grpSpPr>
        <p:sp>
          <p:nvSpPr>
            <p:cNvPr id="295" name=""/>
            <p:cNvSpPr/>
            <p:nvPr/>
          </p:nvSpPr>
          <p:spPr>
            <a:xfrm>
              <a:off x="4735440" y="1389240"/>
              <a:ext cx="1079280" cy="82656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948200" y="1702080"/>
              <a:ext cx="859320" cy="513000"/>
            </a:xfrm>
            <a:prstGeom prst="flowChartManualOpera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800600" y="907920"/>
            <a:ext cx="111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Futura Md BT"/>
              </a:rPr>
              <a:t>Денне  навантаж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748040" y="2378880"/>
            <a:ext cx="1079640" cy="246240"/>
            <a:chOff x="4748040" y="2378880"/>
            <a:chExt cx="1079640" cy="246240"/>
          </a:xfrm>
        </p:grpSpPr>
        <p:sp>
          <p:nvSpPr>
            <p:cNvPr id="299" name=""/>
            <p:cNvSpPr/>
            <p:nvPr/>
          </p:nvSpPr>
          <p:spPr>
            <a:xfrm>
              <a:off x="4748040" y="23954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10120" y="2378880"/>
              <a:ext cx="5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Futura Md BT"/>
                </a:rPr>
                <a:t>24 h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183360" y="1393920"/>
            <a:ext cx="1079280" cy="8269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1000" y="1663560"/>
            <a:ext cx="70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83360" y="1911240"/>
            <a:ext cx="37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561000" y="1649160"/>
            <a:ext cx="0" cy="26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72200" y="838080"/>
            <a:ext cx="12193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Futura Md BT"/>
              </a:rPr>
              <a:t>Базове навантаження</a:t>
            </a: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 + </a:t>
            </a:r>
            <a:r>
              <a:rPr b="1" lang="uk-UA" sz="1200" spc="-1" strike="noStrike">
                <a:solidFill>
                  <a:srgbClr val="000000"/>
                </a:solidFill>
                <a:latin typeface="Futura Md BT"/>
              </a:rPr>
              <a:t>ден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8680" y="24192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40400" y="240264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Md BT"/>
              </a:rPr>
              <a:t>24 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971800" y="2895480"/>
            <a:ext cx="3124080" cy="2971800"/>
            <a:chOff x="2971800" y="2895480"/>
            <a:chExt cx="3124080" cy="2971800"/>
          </a:xfrm>
        </p:grpSpPr>
        <p:grpSp>
          <p:nvGrpSpPr>
            <p:cNvPr id="309" name=""/>
            <p:cNvGrpSpPr/>
            <p:nvPr/>
          </p:nvGrpSpPr>
          <p:grpSpPr>
            <a:xfrm>
              <a:off x="3200400" y="3946680"/>
              <a:ext cx="1128600" cy="1769040"/>
              <a:chOff x="3200400" y="3946680"/>
              <a:chExt cx="1128600" cy="17690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3200400" y="4443480"/>
                <a:ext cx="1079640" cy="826560"/>
                <a:chOff x="3200400" y="4443480"/>
                <a:chExt cx="1079640" cy="8265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200400" y="4443480"/>
                  <a:ext cx="1079640" cy="826560"/>
                </a:xfrm>
                <a:prstGeom prst="rect">
                  <a:avLst/>
                </a:prstGeom>
                <a:solidFill>
                  <a:srgbClr val="dddddd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200400" y="4551120"/>
                  <a:ext cx="1079640" cy="539280"/>
                </a:xfrm>
                <a:custGeom>
                  <a:avLst/>
                  <a:gdLst/>
                  <a:ahLst/>
                  <a:rect l="l" t="t" r="r" b="b"/>
                  <a:pathLst>
                    <a:path w="4800" h="1488">
                      <a:moveTo>
                        <a:pt x="0" y="1072"/>
                      </a:moveTo>
                      <a:cubicBezTo>
                        <a:pt x="200" y="1192"/>
                        <a:pt x="400" y="1312"/>
                        <a:pt x="624" y="1360"/>
                      </a:cubicBezTo>
                      <a:cubicBezTo>
                        <a:pt x="848" y="1408"/>
                        <a:pt x="1120" y="1488"/>
                        <a:pt x="1344" y="1360"/>
                      </a:cubicBezTo>
                      <a:cubicBezTo>
                        <a:pt x="1568" y="1232"/>
                        <a:pt x="1768" y="792"/>
                        <a:pt x="1968" y="592"/>
                      </a:cubicBezTo>
                      <a:cubicBezTo>
                        <a:pt x="2168" y="392"/>
                        <a:pt x="2320" y="248"/>
                        <a:pt x="2544" y="160"/>
                      </a:cubicBezTo>
                      <a:cubicBezTo>
                        <a:pt x="2768" y="72"/>
                        <a:pt x="3040" y="0"/>
                        <a:pt x="3312" y="64"/>
                      </a:cubicBezTo>
                      <a:cubicBezTo>
                        <a:pt x="3584" y="128"/>
                        <a:pt x="3928" y="392"/>
                        <a:pt x="4176" y="544"/>
                      </a:cubicBezTo>
                      <a:cubicBezTo>
                        <a:pt x="4424" y="696"/>
                        <a:pt x="4612" y="836"/>
                        <a:pt x="4800" y="97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200400" y="4636800"/>
                  <a:ext cx="1079640" cy="499680"/>
                </a:xfrm>
                <a:custGeom>
                  <a:avLst/>
                  <a:gdLst/>
                  <a:ahLst/>
                  <a:rect l="l" t="t" r="r" b="b"/>
                  <a:pathLst>
                    <a:path w="4800" h="1488">
                      <a:moveTo>
                        <a:pt x="0" y="1072"/>
                      </a:moveTo>
                      <a:cubicBezTo>
                        <a:pt x="200" y="1192"/>
                        <a:pt x="400" y="1312"/>
                        <a:pt x="624" y="1360"/>
                      </a:cubicBezTo>
                      <a:cubicBezTo>
                        <a:pt x="848" y="1408"/>
                        <a:pt x="1120" y="1488"/>
                        <a:pt x="1344" y="1360"/>
                      </a:cubicBezTo>
                      <a:cubicBezTo>
                        <a:pt x="1568" y="1232"/>
                        <a:pt x="1768" y="792"/>
                        <a:pt x="1968" y="592"/>
                      </a:cubicBezTo>
                      <a:cubicBezTo>
                        <a:pt x="2168" y="392"/>
                        <a:pt x="2320" y="248"/>
                        <a:pt x="2544" y="160"/>
                      </a:cubicBezTo>
                      <a:cubicBezTo>
                        <a:pt x="2768" y="72"/>
                        <a:pt x="3040" y="0"/>
                        <a:pt x="3312" y="64"/>
                      </a:cubicBezTo>
                      <a:cubicBezTo>
                        <a:pt x="3584" y="128"/>
                        <a:pt x="3928" y="392"/>
                        <a:pt x="4176" y="544"/>
                      </a:cubicBezTo>
                      <a:cubicBezTo>
                        <a:pt x="4424" y="696"/>
                        <a:pt x="4612" y="836"/>
                        <a:pt x="4800" y="976"/>
                      </a:cubicBezTo>
                    </a:path>
                  </a:pathLst>
                </a:custGeom>
                <a:noFill/>
                <a:ln w="28440">
                  <a:solidFill>
                    <a:srgbClr val="3366f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00400" y="4455720"/>
                  <a:ext cx="1079640" cy="582480"/>
                </a:xfrm>
                <a:custGeom>
                  <a:avLst/>
                  <a:gdLst/>
                  <a:ahLst/>
                  <a:rect l="l" t="t" r="r" b="b"/>
                  <a:pathLst>
                    <a:path w="4800" h="1488">
                      <a:moveTo>
                        <a:pt x="0" y="1072"/>
                      </a:moveTo>
                      <a:cubicBezTo>
                        <a:pt x="200" y="1192"/>
                        <a:pt x="400" y="1312"/>
                        <a:pt x="624" y="1360"/>
                      </a:cubicBezTo>
                      <a:cubicBezTo>
                        <a:pt x="848" y="1408"/>
                        <a:pt x="1120" y="1488"/>
                        <a:pt x="1344" y="1360"/>
                      </a:cubicBezTo>
                      <a:cubicBezTo>
                        <a:pt x="1568" y="1232"/>
                        <a:pt x="1768" y="792"/>
                        <a:pt x="1968" y="592"/>
                      </a:cubicBezTo>
                      <a:cubicBezTo>
                        <a:pt x="2168" y="392"/>
                        <a:pt x="2320" y="248"/>
                        <a:pt x="2544" y="160"/>
                      </a:cubicBezTo>
                      <a:cubicBezTo>
                        <a:pt x="2768" y="72"/>
                        <a:pt x="3040" y="0"/>
                        <a:pt x="3312" y="64"/>
                      </a:cubicBezTo>
                      <a:cubicBezTo>
                        <a:pt x="3584" y="128"/>
                        <a:pt x="3928" y="392"/>
                        <a:pt x="4176" y="544"/>
                      </a:cubicBezTo>
                      <a:cubicBezTo>
                        <a:pt x="4424" y="696"/>
                        <a:pt x="4612" y="836"/>
                        <a:pt x="4800" y="976"/>
                      </a:cubicBezTo>
                    </a:path>
                  </a:pathLst>
                </a:custGeom>
                <a:noFill/>
                <a:ln w="28440">
                  <a:solidFill>
                    <a:srgbClr val="3366f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200400" y="5469480"/>
                <a:ext cx="1079640" cy="246240"/>
                <a:chOff x="3200400" y="5469480"/>
                <a:chExt cx="1079640" cy="2462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200400" y="5486040"/>
                  <a:ext cx="10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63200" y="5469480"/>
                  <a:ext cx="54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Futura Md BT"/>
                    </a:rPr>
                    <a:t>24 hr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3213000" y="3946680"/>
                <a:ext cx="111600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200" spc="-1" strike="noStrike">
                    <a:solidFill>
                      <a:srgbClr val="000000"/>
                    </a:solidFill>
                    <a:latin typeface="Futura Md BT"/>
                  </a:rPr>
                  <a:t>Усі  вимоги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Futura Md BT"/>
                  </a:rPr>
                  <a:t> = </a:t>
                </a:r>
                <a:r>
                  <a:rPr b="1" lang="uk-UA" sz="1200" spc="-1" strike="noStrike">
                    <a:solidFill>
                      <a:srgbClr val="000000"/>
                    </a:solidFill>
                    <a:latin typeface="Futura Md BT"/>
                  </a:rPr>
                  <a:t>фактичне навантаженн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971800" y="2895480"/>
              <a:ext cx="3124080" cy="2971800"/>
            </a:xfrm>
            <a:prstGeom prst="rect">
              <a:avLst/>
            </a:prstGeom>
            <a:noFill/>
            <a:ln w="6480">
              <a:solidFill>
                <a:srgbClr val="527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Futura Md BT"/>
                </a:rPr>
                <a:t>Що хоче купити споживач</a:t>
              </a:r>
              <a:r>
                <a:rPr b="1" lang="en-US" sz="2800" spc="-1" strike="noStrike">
                  <a:solidFill>
                    <a:srgbClr val="000000"/>
                  </a:solidFill>
                  <a:latin typeface="Futura Md BT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74600" y="2665440"/>
            <a:ext cx="228600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Відповідність між  виробниками  та споживач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400800" y="2895480"/>
            <a:ext cx="2438280" cy="2971800"/>
            <a:chOff x="6400800" y="2895480"/>
            <a:chExt cx="2438280" cy="2971800"/>
          </a:xfrm>
        </p:grpSpPr>
        <p:sp>
          <p:nvSpPr>
            <p:cNvPr id="322" name=""/>
            <p:cNvSpPr/>
            <p:nvPr/>
          </p:nvSpPr>
          <p:spPr>
            <a:xfrm>
              <a:off x="6797520" y="4362480"/>
              <a:ext cx="1079640" cy="82692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6797520" y="4846680"/>
              <a:ext cx="1079280" cy="1440"/>
              <a:chOff x="6797520" y="4846680"/>
              <a:chExt cx="1079280" cy="1440"/>
            </a:xfrm>
          </p:grpSpPr>
          <p:sp>
            <p:nvSpPr>
              <p:cNvPr id="324" name=""/>
              <p:cNvSpPr/>
              <p:nvPr/>
            </p:nvSpPr>
            <p:spPr>
              <a:xfrm>
                <a:off x="6797520" y="4846680"/>
                <a:ext cx="4755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660800" y="484668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7273800" y="4840200"/>
              <a:ext cx="0" cy="34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73800" y="5189400"/>
              <a:ext cx="387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61160" y="4840200"/>
              <a:ext cx="0" cy="34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97520" y="541008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59600" y="5393520"/>
              <a:ext cx="5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Futura Md BT"/>
                </a:rPr>
                <a:t>24 h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81680" y="3981600"/>
              <a:ext cx="138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Futura Md BT"/>
                </a:rPr>
                <a:t>Базове з відключе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00800" y="2895480"/>
              <a:ext cx="2438280" cy="2971800"/>
            </a:xfrm>
            <a:prstGeom prst="rect">
              <a:avLst/>
            </a:prstGeom>
            <a:noFill/>
            <a:ln w="6480">
              <a:solidFill>
                <a:srgbClr val="5270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Futura Md BT"/>
                </a:rPr>
                <a:t>Що  може  статись</a:t>
              </a:r>
              <a:r>
                <a:rPr b="1" lang="en-US" sz="3000" spc="-1" strike="noStrike">
                  <a:solidFill>
                    <a:srgbClr val="000000"/>
                  </a:solidFill>
                  <a:latin typeface="Futura Md BT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D60E-F943-433A-A7C4-8DEFE0B761A7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2915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Договір  вимагає збалансування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71800" y="1295280"/>
            <a:ext cx="5913360" cy="4800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981160" y="1661760"/>
            <a:ext cx="5857920" cy="2986200"/>
            <a:chOff x="2981160" y="1661760"/>
            <a:chExt cx="5857920" cy="2986200"/>
          </a:xfrm>
        </p:grpSpPr>
        <p:sp>
          <p:nvSpPr>
            <p:cNvPr id="336" name=""/>
            <p:cNvSpPr/>
            <p:nvPr/>
          </p:nvSpPr>
          <p:spPr>
            <a:xfrm rot="16200000">
              <a:off x="5107680" y="2610360"/>
              <a:ext cx="887400" cy="615960"/>
            </a:xfrm>
            <a:prstGeom prst="rtTriangl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62760" y="2770200"/>
              <a:ext cx="976320" cy="1125720"/>
            </a:xfrm>
            <a:prstGeom prst="rtTriangl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572000" y="4167000"/>
              <a:ext cx="639720" cy="322200"/>
            </a:xfrm>
            <a:prstGeom prst="rtTriangl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913360" y="1998720"/>
              <a:ext cx="1630440" cy="416160"/>
            </a:xfrm>
            <a:custGeom>
              <a:avLst/>
              <a:gdLst>
                <a:gd name="textAreaLeft" fmla="*/ 451440 w 1630440"/>
                <a:gd name="textAreaRight" fmla="*/ 1179000 w 1630440"/>
                <a:gd name="textAreaTop" fmla="*/ 115200 h 416160"/>
                <a:gd name="textAreaBottom" fmla="*/ 300960 h 4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982" y="21600"/>
                  </a:lnTo>
                  <a:lnTo>
                    <a:pt x="7618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79600" y="1661760"/>
              <a:ext cx="132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Дефіц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72080" y="1905120"/>
              <a:ext cx="114768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68720" y="1998720"/>
              <a:ext cx="777960" cy="10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5400000">
              <a:off x="3016800" y="4177800"/>
              <a:ext cx="425520" cy="496800"/>
            </a:xfrm>
            <a:prstGeom prst="rtTriangl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 rot="5400000">
            <a:off x="4921920" y="3506040"/>
            <a:ext cx="533520" cy="262080"/>
          </a:xfrm>
          <a:prstGeom prst="rtTriangle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7484760" y="2418840"/>
            <a:ext cx="374760" cy="358920"/>
          </a:xfrm>
          <a:prstGeom prst="rtTriangle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16480" y="4641840"/>
            <a:ext cx="1312560" cy="268200"/>
          </a:xfrm>
          <a:custGeom>
            <a:avLst/>
            <a:gdLst>
              <a:gd name="textAreaLeft" fmla="*/ 348480 w 1312560"/>
              <a:gd name="textAreaRight" fmla="*/ 964080 w 1312560"/>
              <a:gd name="textAreaTop" fmla="*/ 71280 h 268200"/>
              <a:gd name="textAreaBottom" fmla="*/ 19692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14920" y="5062320"/>
            <a:ext cx="178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utura Md BT"/>
              </a:rPr>
              <a:t>Надлиш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5219640" y="3508200"/>
            <a:ext cx="573120" cy="157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4630680" y="4830840"/>
            <a:ext cx="984240" cy="43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971800" y="2421000"/>
            <a:ext cx="5943600" cy="2235240"/>
            <a:chOff x="2971800" y="2421000"/>
            <a:chExt cx="5943600" cy="2235240"/>
          </a:xfrm>
        </p:grpSpPr>
        <p:sp>
          <p:nvSpPr>
            <p:cNvPr id="351" name=""/>
            <p:cNvSpPr/>
            <p:nvPr/>
          </p:nvSpPr>
          <p:spPr>
            <a:xfrm>
              <a:off x="5029200" y="335304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1800" y="4641840"/>
              <a:ext cx="207468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029200" y="3368880"/>
              <a:ext cx="4680" cy="128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920" y="3875040"/>
              <a:ext cx="104148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2436840"/>
              <a:ext cx="2001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867280" y="24386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873920" y="2421000"/>
              <a:ext cx="0" cy="14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982960" y="1924200"/>
            <a:ext cx="5913360" cy="3133440"/>
          </a:xfrm>
          <a:custGeom>
            <a:avLst/>
            <a:gdLst/>
            <a:ahLst/>
            <a:rect l="l" t="t" r="r" b="b"/>
            <a:pathLst>
              <a:path w="4800" h="1488">
                <a:moveTo>
                  <a:pt x="0" y="1072"/>
                </a:moveTo>
                <a:cubicBezTo>
                  <a:pt x="200" y="1192"/>
                  <a:pt x="400" y="1312"/>
                  <a:pt x="624" y="1360"/>
                </a:cubicBezTo>
                <a:cubicBezTo>
                  <a:pt x="848" y="1408"/>
                  <a:pt x="1120" y="1488"/>
                  <a:pt x="1344" y="1360"/>
                </a:cubicBezTo>
                <a:cubicBezTo>
                  <a:pt x="1568" y="1232"/>
                  <a:pt x="1768" y="792"/>
                  <a:pt x="1968" y="592"/>
                </a:cubicBezTo>
                <a:cubicBezTo>
                  <a:pt x="2168" y="392"/>
                  <a:pt x="2320" y="248"/>
                  <a:pt x="2544" y="160"/>
                </a:cubicBezTo>
                <a:cubicBezTo>
                  <a:pt x="2768" y="72"/>
                  <a:pt x="3040" y="0"/>
                  <a:pt x="3312" y="64"/>
                </a:cubicBezTo>
                <a:cubicBezTo>
                  <a:pt x="3584" y="128"/>
                  <a:pt x="3928" y="392"/>
                  <a:pt x="4176" y="544"/>
                </a:cubicBezTo>
                <a:cubicBezTo>
                  <a:pt x="4424" y="696"/>
                  <a:pt x="4612" y="836"/>
                  <a:pt x="4800" y="976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209600"/>
            <a:ext cx="281952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робники та   великі споживачі ніколи не зможуть досягти  повного  балансу  між виробництвом електричної  енергії та споживанням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стемний оператор  має забезпечити послуги з  балансування та  відшкодувати  свої  витрати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частина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вил ринк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7DAE-C5A2-413E-9144-7BCC8556C2CE}" type="slidenum">
              <a:t>11</a:t>
            </a:fld>
          </a:p>
        </p:txBody>
      </p:sp>
    </p:spTree>
  </p:cSld>
  <p:transition spd="med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556000" y="1371600"/>
            <a:ext cx="5852880" cy="45529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563920" y="1662120"/>
            <a:ext cx="5857920" cy="2987640"/>
            <a:chOff x="2563920" y="1662120"/>
            <a:chExt cx="5857920" cy="2987640"/>
          </a:xfrm>
        </p:grpSpPr>
        <p:sp>
          <p:nvSpPr>
            <p:cNvPr id="362" name=""/>
            <p:cNvSpPr/>
            <p:nvPr/>
          </p:nvSpPr>
          <p:spPr>
            <a:xfrm>
              <a:off x="2563920" y="3449520"/>
              <a:ext cx="2049480" cy="1200240"/>
            </a:xfrm>
            <a:custGeom>
              <a:avLst/>
              <a:gdLst/>
              <a:ahLst/>
              <a:rect l="l" t="t" r="r" b="b"/>
              <a:pathLst>
                <a:path w="1291" h="756">
                  <a:moveTo>
                    <a:pt x="1" y="131"/>
                  </a:moveTo>
                  <a:lnTo>
                    <a:pt x="0" y="756"/>
                  </a:lnTo>
                  <a:lnTo>
                    <a:pt x="1291" y="747"/>
                  </a:lnTo>
                  <a:lnTo>
                    <a:pt x="1278" y="0"/>
                  </a:lnTo>
                  <a:cubicBezTo>
                    <a:pt x="1273" y="12"/>
                    <a:pt x="1270" y="25"/>
                    <a:pt x="1266" y="38"/>
                  </a:cubicBezTo>
                  <a:cubicBezTo>
                    <a:pt x="1257" y="65"/>
                    <a:pt x="1248" y="88"/>
                    <a:pt x="1235" y="112"/>
                  </a:cubicBezTo>
                  <a:cubicBezTo>
                    <a:pt x="1223" y="137"/>
                    <a:pt x="1201" y="161"/>
                    <a:pt x="1192" y="187"/>
                  </a:cubicBezTo>
                  <a:cubicBezTo>
                    <a:pt x="1175" y="238"/>
                    <a:pt x="1150" y="338"/>
                    <a:pt x="1106" y="367"/>
                  </a:cubicBezTo>
                  <a:cubicBezTo>
                    <a:pt x="1094" y="406"/>
                    <a:pt x="1067" y="451"/>
                    <a:pt x="1033" y="473"/>
                  </a:cubicBezTo>
                  <a:cubicBezTo>
                    <a:pt x="1011" y="540"/>
                    <a:pt x="931" y="531"/>
                    <a:pt x="879" y="548"/>
                  </a:cubicBezTo>
                  <a:cubicBezTo>
                    <a:pt x="846" y="560"/>
                    <a:pt x="822" y="567"/>
                    <a:pt x="787" y="573"/>
                  </a:cubicBezTo>
                  <a:cubicBezTo>
                    <a:pt x="757" y="570"/>
                    <a:pt x="726" y="570"/>
                    <a:pt x="695" y="567"/>
                  </a:cubicBezTo>
                  <a:cubicBezTo>
                    <a:pt x="652" y="562"/>
                    <a:pt x="608" y="540"/>
                    <a:pt x="566" y="529"/>
                  </a:cubicBezTo>
                  <a:cubicBezTo>
                    <a:pt x="543" y="524"/>
                    <a:pt x="514" y="522"/>
                    <a:pt x="493" y="511"/>
                  </a:cubicBezTo>
                  <a:cubicBezTo>
                    <a:pt x="493" y="511"/>
                    <a:pt x="447" y="479"/>
                    <a:pt x="437" y="473"/>
                  </a:cubicBezTo>
                  <a:cubicBezTo>
                    <a:pt x="425" y="465"/>
                    <a:pt x="415" y="452"/>
                    <a:pt x="400" y="448"/>
                  </a:cubicBezTo>
                  <a:cubicBezTo>
                    <a:pt x="375" y="442"/>
                    <a:pt x="344" y="443"/>
                    <a:pt x="321" y="430"/>
                  </a:cubicBezTo>
                  <a:cubicBezTo>
                    <a:pt x="299" y="421"/>
                    <a:pt x="279" y="403"/>
                    <a:pt x="265" y="392"/>
                  </a:cubicBezTo>
                  <a:cubicBezTo>
                    <a:pt x="232" y="343"/>
                    <a:pt x="275" y="402"/>
                    <a:pt x="235" y="361"/>
                  </a:cubicBezTo>
                  <a:cubicBezTo>
                    <a:pt x="212" y="338"/>
                    <a:pt x="195" y="311"/>
                    <a:pt x="167" y="293"/>
                  </a:cubicBezTo>
                  <a:cubicBezTo>
                    <a:pt x="132" y="239"/>
                    <a:pt x="179" y="302"/>
                    <a:pt x="137" y="268"/>
                  </a:cubicBezTo>
                  <a:cubicBezTo>
                    <a:pt x="127" y="260"/>
                    <a:pt x="117" y="251"/>
                    <a:pt x="106" y="243"/>
                  </a:cubicBezTo>
                  <a:cubicBezTo>
                    <a:pt x="93" y="236"/>
                    <a:pt x="69" y="218"/>
                    <a:pt x="69" y="218"/>
                  </a:cubicBezTo>
                  <a:cubicBezTo>
                    <a:pt x="53" y="205"/>
                    <a:pt x="19" y="177"/>
                    <a:pt x="8" y="162"/>
                  </a:cubicBezTo>
                  <a:cubicBezTo>
                    <a:pt x="2" y="153"/>
                    <a:pt x="4" y="141"/>
                    <a:pt x="1" y="131"/>
                  </a:cubicBez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11600" y="1662120"/>
              <a:ext cx="2791080" cy="1720800"/>
            </a:xfrm>
            <a:custGeom>
              <a:avLst/>
              <a:gdLst/>
              <a:ahLst/>
              <a:rect l="l" t="t" r="r" b="b"/>
              <a:pathLst>
                <a:path w="1758" h="1084">
                  <a:moveTo>
                    <a:pt x="534" y="1071"/>
                  </a:moveTo>
                  <a:lnTo>
                    <a:pt x="528" y="486"/>
                  </a:lnTo>
                  <a:lnTo>
                    <a:pt x="1758" y="484"/>
                  </a:lnTo>
                  <a:cubicBezTo>
                    <a:pt x="1746" y="472"/>
                    <a:pt x="1712" y="423"/>
                    <a:pt x="1694" y="411"/>
                  </a:cubicBezTo>
                  <a:cubicBezTo>
                    <a:pt x="1682" y="392"/>
                    <a:pt x="1667" y="370"/>
                    <a:pt x="1651" y="355"/>
                  </a:cubicBezTo>
                  <a:cubicBezTo>
                    <a:pt x="1630" y="332"/>
                    <a:pt x="1587" y="295"/>
                    <a:pt x="1565" y="274"/>
                  </a:cubicBezTo>
                  <a:cubicBezTo>
                    <a:pt x="1555" y="264"/>
                    <a:pt x="1527" y="238"/>
                    <a:pt x="1516" y="230"/>
                  </a:cubicBezTo>
                  <a:cubicBezTo>
                    <a:pt x="1498" y="213"/>
                    <a:pt x="1495" y="202"/>
                    <a:pt x="1455" y="174"/>
                  </a:cubicBezTo>
                  <a:cubicBezTo>
                    <a:pt x="1415" y="113"/>
                    <a:pt x="1343" y="85"/>
                    <a:pt x="1277" y="62"/>
                  </a:cubicBezTo>
                  <a:cubicBezTo>
                    <a:pt x="1251" y="54"/>
                    <a:pt x="1228" y="27"/>
                    <a:pt x="1203" y="19"/>
                  </a:cubicBezTo>
                  <a:cubicBezTo>
                    <a:pt x="1152" y="2"/>
                    <a:pt x="1179" y="8"/>
                    <a:pt x="1123" y="0"/>
                  </a:cubicBezTo>
                  <a:cubicBezTo>
                    <a:pt x="1050" y="2"/>
                    <a:pt x="976" y="1"/>
                    <a:pt x="902" y="6"/>
                  </a:cubicBezTo>
                  <a:cubicBezTo>
                    <a:pt x="852" y="10"/>
                    <a:pt x="797" y="53"/>
                    <a:pt x="755" y="75"/>
                  </a:cubicBezTo>
                  <a:cubicBezTo>
                    <a:pt x="710" y="97"/>
                    <a:pt x="668" y="115"/>
                    <a:pt x="626" y="143"/>
                  </a:cubicBezTo>
                  <a:cubicBezTo>
                    <a:pt x="614" y="152"/>
                    <a:pt x="602" y="160"/>
                    <a:pt x="589" y="168"/>
                  </a:cubicBezTo>
                  <a:cubicBezTo>
                    <a:pt x="575" y="179"/>
                    <a:pt x="558" y="193"/>
                    <a:pt x="540" y="212"/>
                  </a:cubicBezTo>
                  <a:cubicBezTo>
                    <a:pt x="518" y="234"/>
                    <a:pt x="506" y="262"/>
                    <a:pt x="479" y="280"/>
                  </a:cubicBezTo>
                  <a:cubicBezTo>
                    <a:pt x="450" y="324"/>
                    <a:pt x="466" y="309"/>
                    <a:pt x="436" y="330"/>
                  </a:cubicBezTo>
                  <a:cubicBezTo>
                    <a:pt x="401" y="382"/>
                    <a:pt x="422" y="356"/>
                    <a:pt x="374" y="405"/>
                  </a:cubicBezTo>
                  <a:cubicBezTo>
                    <a:pt x="374" y="405"/>
                    <a:pt x="344" y="451"/>
                    <a:pt x="338" y="461"/>
                  </a:cubicBezTo>
                  <a:cubicBezTo>
                    <a:pt x="322" y="486"/>
                    <a:pt x="293" y="523"/>
                    <a:pt x="276" y="554"/>
                  </a:cubicBezTo>
                  <a:cubicBezTo>
                    <a:pt x="261" y="586"/>
                    <a:pt x="245" y="613"/>
                    <a:pt x="233" y="647"/>
                  </a:cubicBezTo>
                  <a:cubicBezTo>
                    <a:pt x="228" y="664"/>
                    <a:pt x="212" y="671"/>
                    <a:pt x="202" y="685"/>
                  </a:cubicBezTo>
                  <a:cubicBezTo>
                    <a:pt x="182" y="711"/>
                    <a:pt x="170" y="736"/>
                    <a:pt x="147" y="759"/>
                  </a:cubicBezTo>
                  <a:cubicBezTo>
                    <a:pt x="138" y="787"/>
                    <a:pt x="123" y="806"/>
                    <a:pt x="114" y="832"/>
                  </a:cubicBezTo>
                  <a:cubicBezTo>
                    <a:pt x="103" y="867"/>
                    <a:pt x="87" y="923"/>
                    <a:pt x="67" y="952"/>
                  </a:cubicBezTo>
                  <a:cubicBezTo>
                    <a:pt x="44" y="988"/>
                    <a:pt x="14" y="1043"/>
                    <a:pt x="0" y="1084"/>
                  </a:cubicBezTo>
                  <a:lnTo>
                    <a:pt x="534" y="107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18520" y="2441520"/>
              <a:ext cx="1003320" cy="1443240"/>
            </a:xfrm>
            <a:custGeom>
              <a:avLst/>
              <a:gdLst/>
              <a:ahLst/>
              <a:rect l="l" t="t" r="r" b="b"/>
              <a:pathLst>
                <a:path w="632" h="909">
                  <a:moveTo>
                    <a:pt x="62" y="63"/>
                  </a:moveTo>
                  <a:cubicBezTo>
                    <a:pt x="93" y="88"/>
                    <a:pt x="111" y="88"/>
                    <a:pt x="135" y="125"/>
                  </a:cubicBezTo>
                  <a:cubicBezTo>
                    <a:pt x="179" y="192"/>
                    <a:pt x="111" y="91"/>
                    <a:pt x="166" y="162"/>
                  </a:cubicBezTo>
                  <a:cubicBezTo>
                    <a:pt x="190" y="193"/>
                    <a:pt x="206" y="227"/>
                    <a:pt x="239" y="249"/>
                  </a:cubicBezTo>
                  <a:cubicBezTo>
                    <a:pt x="265" y="287"/>
                    <a:pt x="236" y="250"/>
                    <a:pt x="270" y="280"/>
                  </a:cubicBezTo>
                  <a:cubicBezTo>
                    <a:pt x="296" y="304"/>
                    <a:pt x="315" y="329"/>
                    <a:pt x="344" y="349"/>
                  </a:cubicBezTo>
                  <a:cubicBezTo>
                    <a:pt x="361" y="374"/>
                    <a:pt x="387" y="394"/>
                    <a:pt x="411" y="411"/>
                  </a:cubicBezTo>
                  <a:cubicBezTo>
                    <a:pt x="440" y="455"/>
                    <a:pt x="423" y="440"/>
                    <a:pt x="454" y="461"/>
                  </a:cubicBezTo>
                  <a:cubicBezTo>
                    <a:pt x="458" y="467"/>
                    <a:pt x="461" y="474"/>
                    <a:pt x="466" y="480"/>
                  </a:cubicBezTo>
                  <a:cubicBezTo>
                    <a:pt x="472" y="485"/>
                    <a:pt x="480" y="486"/>
                    <a:pt x="485" y="492"/>
                  </a:cubicBezTo>
                  <a:cubicBezTo>
                    <a:pt x="519" y="535"/>
                    <a:pt x="456" y="487"/>
                    <a:pt x="509" y="523"/>
                  </a:cubicBezTo>
                  <a:cubicBezTo>
                    <a:pt x="521" y="541"/>
                    <a:pt x="537" y="565"/>
                    <a:pt x="552" y="579"/>
                  </a:cubicBezTo>
                  <a:cubicBezTo>
                    <a:pt x="563" y="589"/>
                    <a:pt x="589" y="604"/>
                    <a:pt x="589" y="604"/>
                  </a:cubicBezTo>
                  <a:cubicBezTo>
                    <a:pt x="603" y="625"/>
                    <a:pt x="620" y="641"/>
                    <a:pt x="626" y="654"/>
                  </a:cubicBezTo>
                  <a:cubicBezTo>
                    <a:pt x="624" y="739"/>
                    <a:pt x="632" y="825"/>
                    <a:pt x="620" y="909"/>
                  </a:cubicBezTo>
                  <a:lnTo>
                    <a:pt x="2" y="899"/>
                  </a:lnTo>
                  <a:lnTo>
                    <a:pt x="0" y="0"/>
                  </a:lnTo>
                  <a:cubicBezTo>
                    <a:pt x="12" y="14"/>
                    <a:pt x="40" y="42"/>
                    <a:pt x="62" y="63"/>
                  </a:cubicBez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14600" y="2668680"/>
            <a:ext cx="5851440" cy="2896920"/>
          </a:xfrm>
          <a:custGeom>
            <a:avLst/>
            <a:gdLst/>
            <a:ahLst/>
            <a:rect l="l" t="t" r="r" b="b"/>
            <a:pathLst>
              <a:path w="4800" h="1488">
                <a:moveTo>
                  <a:pt x="0" y="1072"/>
                </a:moveTo>
                <a:cubicBezTo>
                  <a:pt x="200" y="1192"/>
                  <a:pt x="400" y="1312"/>
                  <a:pt x="624" y="1360"/>
                </a:cubicBezTo>
                <a:cubicBezTo>
                  <a:pt x="848" y="1408"/>
                  <a:pt x="1120" y="1488"/>
                  <a:pt x="1344" y="1360"/>
                </a:cubicBezTo>
                <a:cubicBezTo>
                  <a:pt x="1568" y="1232"/>
                  <a:pt x="1768" y="792"/>
                  <a:pt x="1968" y="592"/>
                </a:cubicBezTo>
                <a:cubicBezTo>
                  <a:pt x="2168" y="392"/>
                  <a:pt x="2320" y="248"/>
                  <a:pt x="2544" y="160"/>
                </a:cubicBezTo>
                <a:cubicBezTo>
                  <a:pt x="2768" y="72"/>
                  <a:pt x="3040" y="0"/>
                  <a:pt x="3312" y="64"/>
                </a:cubicBezTo>
                <a:cubicBezTo>
                  <a:pt x="3584" y="128"/>
                  <a:pt x="3928" y="392"/>
                  <a:pt x="4176" y="544"/>
                </a:cubicBezTo>
                <a:cubicBezTo>
                  <a:pt x="4424" y="696"/>
                  <a:pt x="4612" y="836"/>
                  <a:pt x="4800" y="976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527200" y="2346480"/>
            <a:ext cx="5892480" cy="3120480"/>
            <a:chOff x="2527200" y="2346480"/>
            <a:chExt cx="5892480" cy="3120480"/>
          </a:xfrm>
        </p:grpSpPr>
        <p:grpSp>
          <p:nvGrpSpPr>
            <p:cNvPr id="367" name=""/>
            <p:cNvGrpSpPr/>
            <p:nvPr/>
          </p:nvGrpSpPr>
          <p:grpSpPr>
            <a:xfrm>
              <a:off x="2527200" y="2346480"/>
              <a:ext cx="5892480" cy="3120480"/>
              <a:chOff x="2527200" y="2346480"/>
              <a:chExt cx="5892480" cy="3120480"/>
            </a:xfrm>
          </p:grpSpPr>
          <p:sp>
            <p:nvSpPr>
              <p:cNvPr id="368" name=""/>
              <p:cNvSpPr/>
              <p:nvPr/>
            </p:nvSpPr>
            <p:spPr>
              <a:xfrm>
                <a:off x="2527200" y="4589640"/>
                <a:ext cx="1976760" cy="877320"/>
              </a:xfrm>
              <a:custGeom>
                <a:avLst/>
                <a:gdLst/>
                <a:ahLst/>
                <a:rect l="l" t="t" r="r" b="b"/>
                <a:pathLst>
                  <a:path w="1623" h="711">
                    <a:moveTo>
                      <a:pt x="23" y="36"/>
                    </a:moveTo>
                    <a:cubicBezTo>
                      <a:pt x="8" y="94"/>
                      <a:pt x="0" y="108"/>
                      <a:pt x="15" y="180"/>
                    </a:cubicBezTo>
                    <a:cubicBezTo>
                      <a:pt x="21" y="206"/>
                      <a:pt x="65" y="227"/>
                      <a:pt x="79" y="236"/>
                    </a:cubicBezTo>
                    <a:cubicBezTo>
                      <a:pt x="87" y="241"/>
                      <a:pt x="103" y="252"/>
                      <a:pt x="103" y="252"/>
                    </a:cubicBezTo>
                    <a:cubicBezTo>
                      <a:pt x="121" y="280"/>
                      <a:pt x="139" y="298"/>
                      <a:pt x="167" y="316"/>
                    </a:cubicBezTo>
                    <a:cubicBezTo>
                      <a:pt x="196" y="359"/>
                      <a:pt x="244" y="369"/>
                      <a:pt x="279" y="404"/>
                    </a:cubicBezTo>
                    <a:cubicBezTo>
                      <a:pt x="322" y="447"/>
                      <a:pt x="372" y="472"/>
                      <a:pt x="423" y="500"/>
                    </a:cubicBezTo>
                    <a:cubicBezTo>
                      <a:pt x="464" y="523"/>
                      <a:pt x="504" y="554"/>
                      <a:pt x="543" y="580"/>
                    </a:cubicBezTo>
                    <a:cubicBezTo>
                      <a:pt x="558" y="590"/>
                      <a:pt x="644" y="608"/>
                      <a:pt x="655" y="612"/>
                    </a:cubicBezTo>
                    <a:cubicBezTo>
                      <a:pt x="737" y="639"/>
                      <a:pt x="817" y="672"/>
                      <a:pt x="903" y="684"/>
                    </a:cubicBezTo>
                    <a:cubicBezTo>
                      <a:pt x="999" y="681"/>
                      <a:pt x="1105" y="711"/>
                      <a:pt x="1191" y="668"/>
                    </a:cubicBezTo>
                    <a:cubicBezTo>
                      <a:pt x="1223" y="652"/>
                      <a:pt x="1256" y="624"/>
                      <a:pt x="1287" y="604"/>
                    </a:cubicBezTo>
                    <a:cubicBezTo>
                      <a:pt x="1301" y="595"/>
                      <a:pt x="1319" y="593"/>
                      <a:pt x="1335" y="588"/>
                    </a:cubicBezTo>
                    <a:cubicBezTo>
                      <a:pt x="1343" y="585"/>
                      <a:pt x="1359" y="580"/>
                      <a:pt x="1359" y="580"/>
                    </a:cubicBezTo>
                    <a:cubicBezTo>
                      <a:pt x="1370" y="564"/>
                      <a:pt x="1385" y="550"/>
                      <a:pt x="1391" y="532"/>
                    </a:cubicBezTo>
                    <a:cubicBezTo>
                      <a:pt x="1399" y="508"/>
                      <a:pt x="1401" y="481"/>
                      <a:pt x="1415" y="460"/>
                    </a:cubicBezTo>
                    <a:cubicBezTo>
                      <a:pt x="1442" y="420"/>
                      <a:pt x="1468" y="380"/>
                      <a:pt x="1495" y="340"/>
                    </a:cubicBezTo>
                    <a:cubicBezTo>
                      <a:pt x="1506" y="324"/>
                      <a:pt x="1521" y="310"/>
                      <a:pt x="1527" y="292"/>
                    </a:cubicBezTo>
                    <a:cubicBezTo>
                      <a:pt x="1549" y="225"/>
                      <a:pt x="1561" y="125"/>
                      <a:pt x="1623" y="84"/>
                    </a:cubicBezTo>
                    <a:cubicBezTo>
                      <a:pt x="1602" y="0"/>
                      <a:pt x="1504" y="48"/>
                      <a:pt x="1423" y="52"/>
                    </a:cubicBezTo>
                    <a:cubicBezTo>
                      <a:pt x="957" y="46"/>
                      <a:pt x="489" y="36"/>
                      <a:pt x="23" y="36"/>
                    </a:cubicBezTo>
                    <a:close/>
                  </a:path>
                </a:pathLst>
              </a:cu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81720" y="3343320"/>
                <a:ext cx="604080" cy="1095480"/>
              </a:xfrm>
              <a:custGeom>
                <a:avLst/>
                <a:gdLst/>
                <a:ahLst/>
                <a:rect l="l" t="t" r="r" b="b"/>
                <a:pathLst>
                  <a:path w="496" h="888">
                    <a:moveTo>
                      <a:pt x="24" y="46"/>
                    </a:moveTo>
                    <a:cubicBezTo>
                      <a:pt x="19" y="120"/>
                      <a:pt x="14" y="183"/>
                      <a:pt x="0" y="254"/>
                    </a:cubicBezTo>
                    <a:cubicBezTo>
                      <a:pt x="3" y="289"/>
                      <a:pt x="3" y="324"/>
                      <a:pt x="8" y="358"/>
                    </a:cubicBezTo>
                    <a:cubicBezTo>
                      <a:pt x="11" y="380"/>
                      <a:pt x="24" y="422"/>
                      <a:pt x="24" y="422"/>
                    </a:cubicBezTo>
                    <a:cubicBezTo>
                      <a:pt x="34" y="524"/>
                      <a:pt x="45" y="615"/>
                      <a:pt x="24" y="718"/>
                    </a:cubicBezTo>
                    <a:cubicBezTo>
                      <a:pt x="37" y="888"/>
                      <a:pt x="10" y="818"/>
                      <a:pt x="64" y="782"/>
                    </a:cubicBezTo>
                    <a:cubicBezTo>
                      <a:pt x="96" y="735"/>
                      <a:pt x="110" y="692"/>
                      <a:pt x="128" y="638"/>
                    </a:cubicBezTo>
                    <a:cubicBezTo>
                      <a:pt x="134" y="620"/>
                      <a:pt x="149" y="606"/>
                      <a:pt x="160" y="590"/>
                    </a:cubicBezTo>
                    <a:cubicBezTo>
                      <a:pt x="174" y="569"/>
                      <a:pt x="170" y="539"/>
                      <a:pt x="184" y="518"/>
                    </a:cubicBezTo>
                    <a:cubicBezTo>
                      <a:pt x="199" y="496"/>
                      <a:pt x="213" y="470"/>
                      <a:pt x="224" y="446"/>
                    </a:cubicBezTo>
                    <a:cubicBezTo>
                      <a:pt x="231" y="431"/>
                      <a:pt x="231" y="412"/>
                      <a:pt x="240" y="398"/>
                    </a:cubicBezTo>
                    <a:cubicBezTo>
                      <a:pt x="268" y="355"/>
                      <a:pt x="300" y="321"/>
                      <a:pt x="328" y="278"/>
                    </a:cubicBezTo>
                    <a:cubicBezTo>
                      <a:pt x="359" y="231"/>
                      <a:pt x="385" y="173"/>
                      <a:pt x="432" y="142"/>
                    </a:cubicBezTo>
                    <a:cubicBezTo>
                      <a:pt x="448" y="118"/>
                      <a:pt x="464" y="94"/>
                      <a:pt x="480" y="70"/>
                    </a:cubicBezTo>
                    <a:cubicBezTo>
                      <a:pt x="485" y="62"/>
                      <a:pt x="496" y="46"/>
                      <a:pt x="496" y="46"/>
                    </a:cubicBezTo>
                    <a:cubicBezTo>
                      <a:pt x="427" y="0"/>
                      <a:pt x="319" y="34"/>
                      <a:pt x="240" y="54"/>
                    </a:cubicBezTo>
                    <a:cubicBezTo>
                      <a:pt x="164" y="49"/>
                      <a:pt x="98" y="35"/>
                      <a:pt x="24" y="46"/>
                    </a:cubicBezTo>
                    <a:close/>
                  </a:path>
                </a:pathLst>
              </a:cu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95320" y="2346480"/>
                <a:ext cx="2064600" cy="1191600"/>
              </a:xfrm>
              <a:custGeom>
                <a:avLst/>
                <a:gdLst/>
                <a:ahLst/>
                <a:rect l="l" t="t" r="r" b="b"/>
                <a:pathLst>
                  <a:path w="1695" h="966">
                    <a:moveTo>
                      <a:pt x="52" y="70"/>
                    </a:moveTo>
                    <a:cubicBezTo>
                      <a:pt x="129" y="75"/>
                      <a:pt x="175" y="80"/>
                      <a:pt x="244" y="94"/>
                    </a:cubicBezTo>
                    <a:cubicBezTo>
                      <a:pt x="279" y="91"/>
                      <a:pt x="314" y="91"/>
                      <a:pt x="348" y="86"/>
                    </a:cubicBezTo>
                    <a:cubicBezTo>
                      <a:pt x="365" y="83"/>
                      <a:pt x="396" y="70"/>
                      <a:pt x="396" y="70"/>
                    </a:cubicBezTo>
                    <a:cubicBezTo>
                      <a:pt x="661" y="76"/>
                      <a:pt x="932" y="70"/>
                      <a:pt x="1196" y="94"/>
                    </a:cubicBezTo>
                    <a:cubicBezTo>
                      <a:pt x="1231" y="91"/>
                      <a:pt x="1266" y="91"/>
                      <a:pt x="1300" y="86"/>
                    </a:cubicBezTo>
                    <a:cubicBezTo>
                      <a:pt x="1322" y="83"/>
                      <a:pt x="1343" y="75"/>
                      <a:pt x="1364" y="70"/>
                    </a:cubicBezTo>
                    <a:cubicBezTo>
                      <a:pt x="1375" y="67"/>
                      <a:pt x="1396" y="62"/>
                      <a:pt x="1396" y="62"/>
                    </a:cubicBezTo>
                    <a:cubicBezTo>
                      <a:pt x="1695" y="72"/>
                      <a:pt x="1649" y="0"/>
                      <a:pt x="1660" y="286"/>
                    </a:cubicBezTo>
                    <a:cubicBezTo>
                      <a:pt x="1657" y="347"/>
                      <a:pt x="1653" y="409"/>
                      <a:pt x="1652" y="470"/>
                    </a:cubicBezTo>
                    <a:cubicBezTo>
                      <a:pt x="1648" y="633"/>
                      <a:pt x="1650" y="795"/>
                      <a:pt x="1644" y="958"/>
                    </a:cubicBezTo>
                    <a:cubicBezTo>
                      <a:pt x="1644" y="966"/>
                      <a:pt x="1640" y="942"/>
                      <a:pt x="1636" y="934"/>
                    </a:cubicBezTo>
                    <a:cubicBezTo>
                      <a:pt x="1632" y="925"/>
                      <a:pt x="1627" y="916"/>
                      <a:pt x="1620" y="910"/>
                    </a:cubicBezTo>
                    <a:cubicBezTo>
                      <a:pt x="1620" y="910"/>
                      <a:pt x="1560" y="870"/>
                      <a:pt x="1548" y="862"/>
                    </a:cubicBezTo>
                    <a:cubicBezTo>
                      <a:pt x="1532" y="851"/>
                      <a:pt x="1500" y="830"/>
                      <a:pt x="1500" y="830"/>
                    </a:cubicBezTo>
                    <a:cubicBezTo>
                      <a:pt x="1436" y="734"/>
                      <a:pt x="1535" y="875"/>
                      <a:pt x="1460" y="790"/>
                    </a:cubicBezTo>
                    <a:cubicBezTo>
                      <a:pt x="1447" y="776"/>
                      <a:pt x="1442" y="756"/>
                      <a:pt x="1428" y="742"/>
                    </a:cubicBezTo>
                    <a:cubicBezTo>
                      <a:pt x="1368" y="682"/>
                      <a:pt x="1324" y="614"/>
                      <a:pt x="1252" y="566"/>
                    </a:cubicBezTo>
                    <a:cubicBezTo>
                      <a:pt x="1220" y="518"/>
                      <a:pt x="1164" y="486"/>
                      <a:pt x="1116" y="454"/>
                    </a:cubicBezTo>
                    <a:cubicBezTo>
                      <a:pt x="999" y="376"/>
                      <a:pt x="931" y="334"/>
                      <a:pt x="788" y="310"/>
                    </a:cubicBezTo>
                    <a:cubicBezTo>
                      <a:pt x="705" y="313"/>
                      <a:pt x="623" y="313"/>
                      <a:pt x="540" y="318"/>
                    </a:cubicBezTo>
                    <a:cubicBezTo>
                      <a:pt x="460" y="323"/>
                      <a:pt x="389" y="382"/>
                      <a:pt x="316" y="406"/>
                    </a:cubicBezTo>
                    <a:cubicBezTo>
                      <a:pt x="269" y="422"/>
                      <a:pt x="235" y="448"/>
                      <a:pt x="196" y="478"/>
                    </a:cubicBezTo>
                    <a:cubicBezTo>
                      <a:pt x="181" y="490"/>
                      <a:pt x="164" y="499"/>
                      <a:pt x="148" y="510"/>
                    </a:cubicBezTo>
                    <a:cubicBezTo>
                      <a:pt x="140" y="515"/>
                      <a:pt x="124" y="526"/>
                      <a:pt x="124" y="526"/>
                    </a:cubicBezTo>
                    <a:cubicBezTo>
                      <a:pt x="105" y="555"/>
                      <a:pt x="85" y="557"/>
                      <a:pt x="60" y="582"/>
                    </a:cubicBezTo>
                    <a:cubicBezTo>
                      <a:pt x="55" y="566"/>
                      <a:pt x="49" y="550"/>
                      <a:pt x="44" y="534"/>
                    </a:cubicBezTo>
                    <a:cubicBezTo>
                      <a:pt x="41" y="526"/>
                      <a:pt x="36" y="510"/>
                      <a:pt x="36" y="510"/>
                    </a:cubicBezTo>
                    <a:cubicBezTo>
                      <a:pt x="44" y="86"/>
                      <a:pt x="0" y="226"/>
                      <a:pt x="52" y="70"/>
                    </a:cubicBezTo>
                    <a:close/>
                  </a:path>
                </a:pathLst>
              </a:cu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708680" y="3876480"/>
                <a:ext cx="711000" cy="767520"/>
              </a:xfrm>
              <a:custGeom>
                <a:avLst/>
                <a:gdLst/>
                <a:ahLst/>
                <a:rect l="l" t="t" r="r" b="b"/>
                <a:pathLst>
                  <a:path w="584" h="622">
                    <a:moveTo>
                      <a:pt x="569" y="6"/>
                    </a:moveTo>
                    <a:cubicBezTo>
                      <a:pt x="584" y="51"/>
                      <a:pt x="562" y="183"/>
                      <a:pt x="561" y="198"/>
                    </a:cubicBezTo>
                    <a:cubicBezTo>
                      <a:pt x="570" y="357"/>
                      <a:pt x="575" y="452"/>
                      <a:pt x="569" y="622"/>
                    </a:cubicBezTo>
                    <a:cubicBezTo>
                      <a:pt x="550" y="594"/>
                      <a:pt x="550" y="577"/>
                      <a:pt x="521" y="558"/>
                    </a:cubicBezTo>
                    <a:cubicBezTo>
                      <a:pt x="484" y="502"/>
                      <a:pt x="505" y="521"/>
                      <a:pt x="465" y="494"/>
                    </a:cubicBezTo>
                    <a:cubicBezTo>
                      <a:pt x="450" y="448"/>
                      <a:pt x="468" y="491"/>
                      <a:pt x="433" y="446"/>
                    </a:cubicBezTo>
                    <a:cubicBezTo>
                      <a:pt x="402" y="406"/>
                      <a:pt x="380" y="363"/>
                      <a:pt x="337" y="334"/>
                    </a:cubicBezTo>
                    <a:cubicBezTo>
                      <a:pt x="319" y="306"/>
                      <a:pt x="301" y="288"/>
                      <a:pt x="273" y="270"/>
                    </a:cubicBezTo>
                    <a:cubicBezTo>
                      <a:pt x="255" y="242"/>
                      <a:pt x="237" y="224"/>
                      <a:pt x="209" y="206"/>
                    </a:cubicBezTo>
                    <a:cubicBezTo>
                      <a:pt x="186" y="171"/>
                      <a:pt x="98" y="73"/>
                      <a:pt x="57" y="46"/>
                    </a:cubicBezTo>
                    <a:cubicBezTo>
                      <a:pt x="47" y="30"/>
                      <a:pt x="0" y="14"/>
                      <a:pt x="17" y="6"/>
                    </a:cubicBezTo>
                    <a:cubicBezTo>
                      <a:pt x="29" y="0"/>
                      <a:pt x="43" y="14"/>
                      <a:pt x="57" y="14"/>
                    </a:cubicBezTo>
                    <a:cubicBezTo>
                      <a:pt x="228" y="14"/>
                      <a:pt x="398" y="9"/>
                      <a:pt x="569" y="6"/>
                    </a:cubicBezTo>
                    <a:close/>
                  </a:path>
                </a:pathLst>
              </a:cu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5227560" y="3125880"/>
              <a:ext cx="2514600" cy="797760"/>
              <a:chOff x="5227560" y="3125880"/>
              <a:chExt cx="2514600" cy="797760"/>
            </a:xfrm>
          </p:grpSpPr>
          <p:sp>
            <p:nvSpPr>
              <p:cNvPr id="373" name=""/>
              <p:cNvSpPr/>
              <p:nvPr/>
            </p:nvSpPr>
            <p:spPr>
              <a:xfrm>
                <a:off x="5227560" y="3125880"/>
                <a:ext cx="216000" cy="274320"/>
              </a:xfrm>
              <a:custGeom>
                <a:avLst/>
                <a:gdLst/>
                <a:ahLst/>
                <a:rect l="l" t="t" r="r" b="b"/>
                <a:pathLst>
                  <a:path w="136" h="173">
                    <a:moveTo>
                      <a:pt x="136" y="0"/>
                    </a:moveTo>
                    <a:cubicBezTo>
                      <a:pt x="133" y="45"/>
                      <a:pt x="132" y="91"/>
                      <a:pt x="128" y="136"/>
                    </a:cubicBezTo>
                    <a:cubicBezTo>
                      <a:pt x="127" y="147"/>
                      <a:pt x="129" y="161"/>
                      <a:pt x="120" y="168"/>
                    </a:cubicBezTo>
                    <a:cubicBezTo>
                      <a:pt x="113" y="173"/>
                      <a:pt x="104" y="161"/>
                      <a:pt x="96" y="160"/>
                    </a:cubicBezTo>
                    <a:cubicBezTo>
                      <a:pt x="64" y="156"/>
                      <a:pt x="32" y="155"/>
                      <a:pt x="0" y="152"/>
                    </a:cubicBezTo>
                    <a:cubicBezTo>
                      <a:pt x="17" y="126"/>
                      <a:pt x="54" y="89"/>
                      <a:pt x="80" y="72"/>
                    </a:cubicBezTo>
                    <a:cubicBezTo>
                      <a:pt x="118" y="15"/>
                      <a:pt x="98" y="38"/>
                      <a:pt x="136" y="0"/>
                    </a:cubicBez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88280" y="3531960"/>
                <a:ext cx="353880" cy="391680"/>
              </a:xfrm>
              <a:custGeom>
                <a:avLst/>
                <a:gdLst/>
                <a:ahLst/>
                <a:rect l="l" t="t" r="r" b="b"/>
                <a:pathLst>
                  <a:path w="223" h="247">
                    <a:moveTo>
                      <a:pt x="15" y="0"/>
                    </a:moveTo>
                    <a:cubicBezTo>
                      <a:pt x="12" y="64"/>
                      <a:pt x="7" y="128"/>
                      <a:pt x="7" y="192"/>
                    </a:cubicBezTo>
                    <a:cubicBezTo>
                      <a:pt x="7" y="208"/>
                      <a:pt x="5" y="227"/>
                      <a:pt x="15" y="240"/>
                    </a:cubicBezTo>
                    <a:cubicBezTo>
                      <a:pt x="20" y="247"/>
                      <a:pt x="31" y="234"/>
                      <a:pt x="39" y="232"/>
                    </a:cubicBezTo>
                    <a:cubicBezTo>
                      <a:pt x="52" y="229"/>
                      <a:pt x="66" y="226"/>
                      <a:pt x="79" y="224"/>
                    </a:cubicBezTo>
                    <a:cubicBezTo>
                      <a:pt x="146" y="212"/>
                      <a:pt x="135" y="215"/>
                      <a:pt x="223" y="208"/>
                    </a:cubicBezTo>
                    <a:cubicBezTo>
                      <a:pt x="218" y="200"/>
                      <a:pt x="214" y="190"/>
                      <a:pt x="207" y="184"/>
                    </a:cubicBezTo>
                    <a:cubicBezTo>
                      <a:pt x="193" y="171"/>
                      <a:pt x="159" y="152"/>
                      <a:pt x="159" y="152"/>
                    </a:cubicBezTo>
                    <a:cubicBezTo>
                      <a:pt x="135" y="116"/>
                      <a:pt x="126" y="130"/>
                      <a:pt x="95" y="104"/>
                    </a:cubicBezTo>
                    <a:cubicBezTo>
                      <a:pt x="33" y="53"/>
                      <a:pt x="107" y="104"/>
                      <a:pt x="47" y="64"/>
                    </a:cubicBezTo>
                    <a:cubicBezTo>
                      <a:pt x="21" y="24"/>
                      <a:pt x="0" y="44"/>
                      <a:pt x="15" y="0"/>
                    </a:cubicBez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2556000" y="2422080"/>
            <a:ext cx="5882760" cy="2234160"/>
            <a:chOff x="2556000" y="2422080"/>
            <a:chExt cx="5882760" cy="2234160"/>
          </a:xfrm>
        </p:grpSpPr>
        <p:sp>
          <p:nvSpPr>
            <p:cNvPr id="376" name=""/>
            <p:cNvSpPr/>
            <p:nvPr/>
          </p:nvSpPr>
          <p:spPr>
            <a:xfrm flipV="1">
              <a:off x="4609440" y="3369960"/>
              <a:ext cx="84852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56000" y="4641480"/>
              <a:ext cx="20534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609440" y="3370320"/>
              <a:ext cx="4680" cy="12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8440" y="3876120"/>
              <a:ext cx="1030320" cy="1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47520" y="2432160"/>
              <a:ext cx="195588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447520" y="2422080"/>
              <a:ext cx="0" cy="9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408440" y="2422440"/>
              <a:ext cx="0" cy="14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0" y="1407960"/>
            <a:ext cx="246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Ден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високого рівня спожи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835440"/>
            <a:ext cx="250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День низького рівня спожи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38360" y="1579680"/>
            <a:ext cx="5851440" cy="2896920"/>
          </a:xfrm>
          <a:custGeom>
            <a:avLst/>
            <a:gdLst/>
            <a:ahLst/>
            <a:rect l="l" t="t" r="r" b="b"/>
            <a:pathLst>
              <a:path w="4800" h="1488">
                <a:moveTo>
                  <a:pt x="0" y="1072"/>
                </a:moveTo>
                <a:cubicBezTo>
                  <a:pt x="200" y="1192"/>
                  <a:pt x="400" y="1312"/>
                  <a:pt x="624" y="1360"/>
                </a:cubicBezTo>
                <a:cubicBezTo>
                  <a:pt x="848" y="1408"/>
                  <a:pt x="1120" y="1488"/>
                  <a:pt x="1344" y="1360"/>
                </a:cubicBezTo>
                <a:cubicBezTo>
                  <a:pt x="1568" y="1232"/>
                  <a:pt x="1768" y="792"/>
                  <a:pt x="1968" y="592"/>
                </a:cubicBezTo>
                <a:cubicBezTo>
                  <a:pt x="2168" y="392"/>
                  <a:pt x="2320" y="248"/>
                  <a:pt x="2544" y="160"/>
                </a:cubicBezTo>
                <a:cubicBezTo>
                  <a:pt x="2768" y="72"/>
                  <a:pt x="3040" y="0"/>
                  <a:pt x="3312" y="64"/>
                </a:cubicBezTo>
                <a:cubicBezTo>
                  <a:pt x="3584" y="128"/>
                  <a:pt x="3928" y="392"/>
                  <a:pt x="4176" y="544"/>
                </a:cubicBezTo>
                <a:cubicBezTo>
                  <a:pt x="4424" y="696"/>
                  <a:pt x="4612" y="836"/>
                  <a:pt x="4800" y="976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25760" y="1925640"/>
            <a:ext cx="5913360" cy="3133800"/>
          </a:xfrm>
          <a:custGeom>
            <a:avLst/>
            <a:gdLst/>
            <a:ahLst/>
            <a:rect l="l" t="t" r="r" b="b"/>
            <a:pathLst>
              <a:path w="4800" h="1488">
                <a:moveTo>
                  <a:pt x="0" y="1072"/>
                </a:moveTo>
                <a:cubicBezTo>
                  <a:pt x="200" y="1192"/>
                  <a:pt x="400" y="1312"/>
                  <a:pt x="624" y="1360"/>
                </a:cubicBezTo>
                <a:cubicBezTo>
                  <a:pt x="848" y="1408"/>
                  <a:pt x="1120" y="1488"/>
                  <a:pt x="1344" y="1360"/>
                </a:cubicBezTo>
                <a:cubicBezTo>
                  <a:pt x="1568" y="1232"/>
                  <a:pt x="1768" y="792"/>
                  <a:pt x="1968" y="592"/>
                </a:cubicBezTo>
                <a:cubicBezTo>
                  <a:pt x="2168" y="392"/>
                  <a:pt x="2320" y="248"/>
                  <a:pt x="2544" y="160"/>
                </a:cubicBezTo>
                <a:cubicBezTo>
                  <a:pt x="2768" y="72"/>
                  <a:pt x="3040" y="0"/>
                  <a:pt x="3312" y="64"/>
                </a:cubicBezTo>
                <a:cubicBezTo>
                  <a:pt x="3584" y="128"/>
                  <a:pt x="3928" y="392"/>
                  <a:pt x="4176" y="544"/>
                </a:cubicBezTo>
                <a:cubicBezTo>
                  <a:pt x="4424" y="696"/>
                  <a:pt x="4612" y="836"/>
                  <a:pt x="4800" y="976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920" y="225000"/>
            <a:ext cx="859644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Балансування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 Високий  та  низький  рівні  споживання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9855-4501-4AAD-9BC7-1C3D114EF91F}" type="slidenum">
              <a:t>12</a:t>
            </a:fld>
          </a:p>
        </p:txBody>
      </p:sp>
    </p:spTree>
  </p:cSld>
  <p:transition spd="med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516480" y="771480"/>
            <a:ext cx="1627200" cy="1203480"/>
          </a:xfrm>
          <a:custGeom>
            <a:avLst/>
            <a:gdLst/>
            <a:ahLst/>
            <a:rect l="l" t="t" r="r" b="b"/>
            <a:pathLst>
              <a:path w="1895" h="1324">
                <a:moveTo>
                  <a:pt x="948" y="0"/>
                </a:moveTo>
                <a:lnTo>
                  <a:pt x="0" y="1324"/>
                </a:lnTo>
                <a:lnTo>
                  <a:pt x="1895" y="1324"/>
                </a:lnTo>
                <a:lnTo>
                  <a:pt x="948" y="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31800" y="5487840"/>
            <a:ext cx="7596000" cy="414360"/>
            <a:chOff x="631800" y="5487840"/>
            <a:chExt cx="7596000" cy="414360"/>
          </a:xfrm>
        </p:grpSpPr>
        <p:sp>
          <p:nvSpPr>
            <p:cNvPr id="390" name=""/>
            <p:cNvSpPr/>
            <p:nvPr/>
          </p:nvSpPr>
          <p:spPr>
            <a:xfrm>
              <a:off x="631800" y="5492520"/>
              <a:ext cx="2350440" cy="409680"/>
            </a:xfrm>
            <a:custGeom>
              <a:avLst/>
              <a:gdLst/>
              <a:ahLst/>
              <a:rect l="l" t="t" r="r" b="b"/>
              <a:pathLst>
                <a:path w="3102" h="258">
                  <a:moveTo>
                    <a:pt x="2703" y="0"/>
                  </a:moveTo>
                  <a:lnTo>
                    <a:pt x="0" y="0"/>
                  </a:lnTo>
                  <a:lnTo>
                    <a:pt x="398" y="128"/>
                  </a:lnTo>
                  <a:lnTo>
                    <a:pt x="0" y="258"/>
                  </a:lnTo>
                  <a:lnTo>
                    <a:pt x="2703" y="258"/>
                  </a:lnTo>
                  <a:lnTo>
                    <a:pt x="3102" y="128"/>
                  </a:lnTo>
                  <a:lnTo>
                    <a:pt x="270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21760" y="5591160"/>
              <a:ext cx="135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000000"/>
                  </a:solidFill>
                  <a:latin typeface="Arial"/>
                </a:rPr>
                <a:t>Виробництв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89680" y="5492520"/>
              <a:ext cx="2315160" cy="409680"/>
            </a:xfrm>
            <a:custGeom>
              <a:avLst/>
              <a:gdLst/>
              <a:ahLst/>
              <a:rect l="l" t="t" r="r" b="b"/>
              <a:pathLst>
                <a:path w="3054" h="258">
                  <a:moveTo>
                    <a:pt x="2661" y="0"/>
                  </a:moveTo>
                  <a:lnTo>
                    <a:pt x="0" y="0"/>
                  </a:lnTo>
                  <a:lnTo>
                    <a:pt x="393" y="128"/>
                  </a:lnTo>
                  <a:lnTo>
                    <a:pt x="0" y="258"/>
                  </a:lnTo>
                  <a:lnTo>
                    <a:pt x="2661" y="258"/>
                  </a:lnTo>
                  <a:lnTo>
                    <a:pt x="3054" y="128"/>
                  </a:lnTo>
                  <a:lnTo>
                    <a:pt x="266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83760" y="5591160"/>
              <a:ext cx="90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000000"/>
                  </a:solidFill>
                  <a:latin typeface="Arial"/>
                </a:rPr>
                <a:t>Передач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14080" y="5487840"/>
              <a:ext cx="2313720" cy="409680"/>
            </a:xfrm>
            <a:custGeom>
              <a:avLst/>
              <a:gdLst/>
              <a:ahLst/>
              <a:rect l="l" t="t" r="r" b="b"/>
              <a:pathLst>
                <a:path w="3054" h="258">
                  <a:moveTo>
                    <a:pt x="2662" y="0"/>
                  </a:moveTo>
                  <a:lnTo>
                    <a:pt x="0" y="0"/>
                  </a:lnTo>
                  <a:lnTo>
                    <a:pt x="393" y="128"/>
                  </a:lnTo>
                  <a:lnTo>
                    <a:pt x="0" y="258"/>
                  </a:lnTo>
                  <a:lnTo>
                    <a:pt x="2662" y="258"/>
                  </a:lnTo>
                  <a:lnTo>
                    <a:pt x="3054" y="128"/>
                  </a:lnTo>
                  <a:lnTo>
                    <a:pt x="266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58760" y="5586120"/>
              <a:ext cx="119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000000"/>
                  </a:solidFill>
                  <a:latin typeface="Arial"/>
                </a:rPr>
                <a:t>Споживанн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31800" y="2336760"/>
            <a:ext cx="1185840" cy="2536200"/>
            <a:chOff x="631800" y="2336760"/>
            <a:chExt cx="1185840" cy="2536200"/>
          </a:xfrm>
        </p:grpSpPr>
        <p:sp>
          <p:nvSpPr>
            <p:cNvPr id="397" name=""/>
            <p:cNvSpPr/>
            <p:nvPr/>
          </p:nvSpPr>
          <p:spPr>
            <a:xfrm>
              <a:off x="631800" y="2336760"/>
              <a:ext cx="1185840" cy="377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1120" y="2409480"/>
              <a:ext cx="100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Продав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1800" y="2823840"/>
              <a:ext cx="1185840" cy="37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1120" y="2896920"/>
              <a:ext cx="100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Продав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1800" y="3309840"/>
              <a:ext cx="1185840" cy="377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1120" y="3382920"/>
              <a:ext cx="100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Продав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1800" y="3797280"/>
              <a:ext cx="1185840" cy="37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1120" y="3868560"/>
              <a:ext cx="1003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Продав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800" y="4281480"/>
              <a:ext cx="1185840" cy="379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1120" y="4354200"/>
              <a:ext cx="1003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Продав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31800" y="4657680"/>
            <a:ext cx="7665840" cy="730080"/>
            <a:chOff x="631800" y="4657680"/>
            <a:chExt cx="7665840" cy="730080"/>
          </a:xfrm>
        </p:grpSpPr>
        <p:grpSp>
          <p:nvGrpSpPr>
            <p:cNvPr id="408" name=""/>
            <p:cNvGrpSpPr/>
            <p:nvPr/>
          </p:nvGrpSpPr>
          <p:grpSpPr>
            <a:xfrm>
              <a:off x="631800" y="4952880"/>
              <a:ext cx="7665840" cy="42840"/>
              <a:chOff x="631800" y="4952880"/>
              <a:chExt cx="7665840" cy="42840"/>
            </a:xfrm>
          </p:grpSpPr>
          <p:sp>
            <p:nvSpPr>
              <p:cNvPr id="409" name=""/>
              <p:cNvSpPr/>
              <p:nvPr/>
            </p:nvSpPr>
            <p:spPr>
              <a:xfrm>
                <a:off x="63180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7552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1960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6368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60740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5148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9556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3964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58336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2744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7152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31560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55932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80340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04748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29120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35280" y="4952880"/>
                <a:ext cx="1375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7756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2164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26572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50944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75352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9760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4168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85400" y="4952880"/>
                <a:ext cx="1393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2948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97356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21728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136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70544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49520" y="4952880"/>
                <a:ext cx="1389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193240" y="4952880"/>
                <a:ext cx="10440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3698640" y="4657680"/>
              <a:ext cx="1424160" cy="730080"/>
            </a:xfrm>
            <a:custGeom>
              <a:avLst/>
              <a:gdLst/>
              <a:ahLst/>
              <a:rect l="l" t="t" r="r" b="b"/>
              <a:pathLst>
                <a:path w="1880" h="460">
                  <a:moveTo>
                    <a:pt x="238" y="0"/>
                  </a:moveTo>
                  <a:lnTo>
                    <a:pt x="0" y="135"/>
                  </a:lnTo>
                  <a:lnTo>
                    <a:pt x="0" y="325"/>
                  </a:lnTo>
                  <a:lnTo>
                    <a:pt x="238" y="460"/>
                  </a:lnTo>
                  <a:lnTo>
                    <a:pt x="1642" y="460"/>
                  </a:lnTo>
                  <a:lnTo>
                    <a:pt x="1880" y="325"/>
                  </a:lnTo>
                  <a:lnTo>
                    <a:pt x="1880" y="135"/>
                  </a:lnTo>
                  <a:lnTo>
                    <a:pt x="1642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766680" y="4756320"/>
            <a:ext cx="1279440" cy="25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ffffff"/>
                </a:solidFill>
                <a:latin typeface="Arial"/>
              </a:rPr>
              <a:t>Систем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41920" y="5035680"/>
            <a:ext cx="1191960" cy="25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ffffff"/>
                </a:solidFill>
                <a:latin typeface="Arial"/>
              </a:rPr>
              <a:t>Операто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834240" y="2336760"/>
            <a:ext cx="1185840" cy="2323800"/>
            <a:chOff x="6834240" y="2336760"/>
            <a:chExt cx="1185840" cy="2323800"/>
          </a:xfrm>
        </p:grpSpPr>
        <p:sp>
          <p:nvSpPr>
            <p:cNvPr id="445" name=""/>
            <p:cNvSpPr/>
            <p:nvPr/>
          </p:nvSpPr>
          <p:spPr>
            <a:xfrm>
              <a:off x="6834240" y="2336760"/>
              <a:ext cx="1185840" cy="377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52760" y="240948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Покуп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34240" y="2823840"/>
              <a:ext cx="1185840" cy="37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51320" y="289692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Покуп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34240" y="3309840"/>
              <a:ext cx="1185840" cy="377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51320" y="338292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Покуп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34240" y="3797280"/>
              <a:ext cx="1185840" cy="37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51320" y="386856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Покуп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34240" y="4281480"/>
              <a:ext cx="1185840" cy="379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51320" y="435420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Покуп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31800" y="1341360"/>
            <a:ext cx="7387920" cy="500040"/>
            <a:chOff x="631800" y="1341360"/>
            <a:chExt cx="7387920" cy="500040"/>
          </a:xfrm>
        </p:grpSpPr>
        <p:sp>
          <p:nvSpPr>
            <p:cNvPr id="456" name=""/>
            <p:cNvSpPr/>
            <p:nvPr/>
          </p:nvSpPr>
          <p:spPr>
            <a:xfrm>
              <a:off x="631800" y="1341360"/>
              <a:ext cx="1186200" cy="5000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09360" y="147456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Імпор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33520" y="1341360"/>
              <a:ext cx="1186200" cy="5000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37280" y="1474560"/>
              <a:ext cx="87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Arial"/>
                </a:rPr>
                <a:t>Експор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843200" y="4021200"/>
            <a:ext cx="911160" cy="496440"/>
            <a:chOff x="1843200" y="4021200"/>
            <a:chExt cx="911160" cy="496440"/>
          </a:xfrm>
        </p:grpSpPr>
        <p:sp>
          <p:nvSpPr>
            <p:cNvPr id="461" name=""/>
            <p:cNvSpPr/>
            <p:nvPr/>
          </p:nvSpPr>
          <p:spPr>
            <a:xfrm flipV="1">
              <a:off x="1843200" y="4047480"/>
              <a:ext cx="86832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00000" y="4021200"/>
              <a:ext cx="54360" cy="53280"/>
            </a:xfrm>
            <a:custGeom>
              <a:avLst/>
              <a:gdLst/>
              <a:ahLst/>
              <a:rect l="l" t="t" r="r" b="b"/>
              <a:pathLst>
                <a:path w="132" h="62">
                  <a:moveTo>
                    <a:pt x="50" y="62"/>
                  </a:moveTo>
                  <a:lnTo>
                    <a:pt x="132" y="3"/>
                  </a:lnTo>
                  <a:lnTo>
                    <a:pt x="0" y="0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843200" y="3673440"/>
            <a:ext cx="917280" cy="347760"/>
            <a:chOff x="1843200" y="3673440"/>
            <a:chExt cx="917280" cy="347760"/>
          </a:xfrm>
        </p:grpSpPr>
        <p:sp>
          <p:nvSpPr>
            <p:cNvPr id="464" name=""/>
            <p:cNvSpPr/>
            <p:nvPr/>
          </p:nvSpPr>
          <p:spPr>
            <a:xfrm flipV="1">
              <a:off x="1843200" y="3703680"/>
              <a:ext cx="86976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04320" y="3673440"/>
              <a:ext cx="56160" cy="60480"/>
            </a:xfrm>
            <a:custGeom>
              <a:avLst/>
              <a:gdLst/>
              <a:ahLst/>
              <a:rect l="l" t="t" r="r" b="b"/>
              <a:pathLst>
                <a:path w="131" h="66">
                  <a:moveTo>
                    <a:pt x="35" y="66"/>
                  </a:moveTo>
                  <a:lnTo>
                    <a:pt x="131" y="13"/>
                  </a:lnTo>
                  <a:lnTo>
                    <a:pt x="0" y="0"/>
                  </a:lnTo>
                  <a:lnTo>
                    <a:pt x="3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843200" y="3349800"/>
            <a:ext cx="961560" cy="172440"/>
            <a:chOff x="1843200" y="3349800"/>
            <a:chExt cx="961560" cy="172440"/>
          </a:xfrm>
        </p:grpSpPr>
        <p:sp>
          <p:nvSpPr>
            <p:cNvPr id="467" name=""/>
            <p:cNvSpPr/>
            <p:nvPr/>
          </p:nvSpPr>
          <p:spPr>
            <a:xfrm flipV="1">
              <a:off x="1843200" y="3380760"/>
              <a:ext cx="90792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45000" y="3349800"/>
              <a:ext cx="59760" cy="64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17" y="68"/>
                  </a:moveTo>
                  <a:lnTo>
                    <a:pt x="127" y="25"/>
                  </a:lnTo>
                  <a:lnTo>
                    <a:pt x="0" y="0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843200" y="2971800"/>
            <a:ext cx="936000" cy="84240"/>
            <a:chOff x="1843200" y="2971800"/>
            <a:chExt cx="936000" cy="84240"/>
          </a:xfrm>
        </p:grpSpPr>
        <p:sp>
          <p:nvSpPr>
            <p:cNvPr id="470" name=""/>
            <p:cNvSpPr/>
            <p:nvPr/>
          </p:nvSpPr>
          <p:spPr>
            <a:xfrm>
              <a:off x="1843200" y="3013200"/>
              <a:ext cx="88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24120" y="2971800"/>
              <a:ext cx="55080" cy="8424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0" y="69"/>
                  </a:moveTo>
                  <a:lnTo>
                    <a:pt x="119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843200" y="2529000"/>
            <a:ext cx="917280" cy="161640"/>
            <a:chOff x="1843200" y="2529000"/>
            <a:chExt cx="917280" cy="161640"/>
          </a:xfrm>
        </p:grpSpPr>
        <p:sp>
          <p:nvSpPr>
            <p:cNvPr id="473" name=""/>
            <p:cNvSpPr/>
            <p:nvPr/>
          </p:nvSpPr>
          <p:spPr>
            <a:xfrm>
              <a:off x="1843200" y="2529000"/>
              <a:ext cx="86832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06120" y="2630160"/>
              <a:ext cx="54360" cy="6048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68"/>
                  </a:moveTo>
                  <a:lnTo>
                    <a:pt x="127" y="42"/>
                  </a:lnTo>
                  <a:lnTo>
                    <a:pt x="1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916600" y="2568600"/>
            <a:ext cx="942480" cy="144000"/>
            <a:chOff x="5916600" y="2568600"/>
            <a:chExt cx="942480" cy="144000"/>
          </a:xfrm>
        </p:grpSpPr>
        <p:sp>
          <p:nvSpPr>
            <p:cNvPr id="476" name=""/>
            <p:cNvSpPr/>
            <p:nvPr/>
          </p:nvSpPr>
          <p:spPr>
            <a:xfrm flipV="1">
              <a:off x="5916600" y="2604600"/>
              <a:ext cx="8874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98960" y="2568600"/>
              <a:ext cx="60120" cy="74880"/>
            </a:xfrm>
            <a:custGeom>
              <a:avLst/>
              <a:gdLst/>
              <a:ahLst/>
              <a:rect l="l" t="t" r="r" b="b"/>
              <a:pathLst>
                <a:path w="125" h="68">
                  <a:moveTo>
                    <a:pt x="12" y="68"/>
                  </a:moveTo>
                  <a:lnTo>
                    <a:pt x="125" y="27"/>
                  </a:lnTo>
                  <a:lnTo>
                    <a:pt x="0" y="0"/>
                  </a:lnTo>
                  <a:lnTo>
                    <a:pt x="1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961240" y="2959200"/>
            <a:ext cx="897840" cy="121680"/>
            <a:chOff x="5961240" y="2959200"/>
            <a:chExt cx="897840" cy="121680"/>
          </a:xfrm>
        </p:grpSpPr>
        <p:sp>
          <p:nvSpPr>
            <p:cNvPr id="479" name=""/>
            <p:cNvSpPr/>
            <p:nvPr/>
          </p:nvSpPr>
          <p:spPr>
            <a:xfrm>
              <a:off x="5961240" y="3019320"/>
              <a:ext cx="84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01840" y="2959200"/>
              <a:ext cx="57240" cy="12168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0" y="69"/>
                  </a:moveTo>
                  <a:lnTo>
                    <a:pt x="119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916600" y="3421080"/>
            <a:ext cx="942480" cy="147240"/>
            <a:chOff x="5916600" y="3421080"/>
            <a:chExt cx="942480" cy="147240"/>
          </a:xfrm>
        </p:grpSpPr>
        <p:sp>
          <p:nvSpPr>
            <p:cNvPr id="482" name=""/>
            <p:cNvSpPr/>
            <p:nvPr/>
          </p:nvSpPr>
          <p:spPr>
            <a:xfrm>
              <a:off x="5916600" y="3421080"/>
              <a:ext cx="88740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8960" y="3492000"/>
              <a:ext cx="60120" cy="763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0" y="69"/>
                  </a:moveTo>
                  <a:lnTo>
                    <a:pt x="125" y="40"/>
                  </a:lnTo>
                  <a:lnTo>
                    <a:pt x="12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935680" y="3759120"/>
            <a:ext cx="923760" cy="290520"/>
            <a:chOff x="5935680" y="3759120"/>
            <a:chExt cx="923760" cy="290520"/>
          </a:xfrm>
        </p:grpSpPr>
        <p:sp>
          <p:nvSpPr>
            <p:cNvPr id="485" name=""/>
            <p:cNvSpPr/>
            <p:nvPr/>
          </p:nvSpPr>
          <p:spPr>
            <a:xfrm>
              <a:off x="5935680" y="3759120"/>
              <a:ext cx="872640" cy="25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00040" y="3980880"/>
              <a:ext cx="59400" cy="68760"/>
            </a:xfrm>
            <a:custGeom>
              <a:avLst/>
              <a:gdLst/>
              <a:ahLst/>
              <a:rect l="l" t="t" r="r" b="b"/>
              <a:pathLst>
                <a:path w="130" h="66">
                  <a:moveTo>
                    <a:pt x="0" y="66"/>
                  </a:moveTo>
                  <a:lnTo>
                    <a:pt x="130" y="48"/>
                  </a:lnTo>
                  <a:lnTo>
                    <a:pt x="28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929200" y="4089240"/>
            <a:ext cx="930240" cy="441360"/>
            <a:chOff x="5929200" y="4089240"/>
            <a:chExt cx="930240" cy="441360"/>
          </a:xfrm>
        </p:grpSpPr>
        <p:sp>
          <p:nvSpPr>
            <p:cNvPr id="488" name=""/>
            <p:cNvSpPr/>
            <p:nvPr/>
          </p:nvSpPr>
          <p:spPr>
            <a:xfrm>
              <a:off x="5929200" y="4089240"/>
              <a:ext cx="882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01480" y="4470840"/>
              <a:ext cx="57960" cy="59760"/>
            </a:xfrm>
            <a:custGeom>
              <a:avLst/>
              <a:gdLst/>
              <a:ahLst/>
              <a:rect l="l" t="t" r="r" b="b"/>
              <a:pathLst>
                <a:path w="132" h="65">
                  <a:moveTo>
                    <a:pt x="0" y="65"/>
                  </a:moveTo>
                  <a:lnTo>
                    <a:pt x="132" y="57"/>
                  </a:lnTo>
                  <a:lnTo>
                    <a:pt x="4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53560" cy="817560"/>
          </a:xfrm>
          <a:prstGeom prst="rect">
            <a:avLst/>
          </a:prstGeom>
          <a:noFill/>
          <a:ln w="0">
            <a:noFill/>
          </a:ln>
        </p:spPr>
        <p:txBody>
          <a:bodyPr lIns="30240" rIns="3024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Повна модель - РДДБ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268880" y="4148280"/>
            <a:ext cx="268200" cy="519120"/>
          </a:xfrm>
          <a:custGeom>
            <a:avLst/>
            <a:gdLst/>
            <a:ahLst/>
            <a:rect l="l" t="t" r="r" b="b"/>
            <a:pathLst>
              <a:path w="355" h="327">
                <a:moveTo>
                  <a:pt x="176" y="327"/>
                </a:moveTo>
                <a:lnTo>
                  <a:pt x="351" y="262"/>
                </a:lnTo>
                <a:lnTo>
                  <a:pt x="265" y="261"/>
                </a:lnTo>
                <a:lnTo>
                  <a:pt x="267" y="65"/>
                </a:lnTo>
                <a:lnTo>
                  <a:pt x="355" y="66"/>
                </a:lnTo>
                <a:lnTo>
                  <a:pt x="178" y="0"/>
                </a:lnTo>
                <a:lnTo>
                  <a:pt x="4" y="64"/>
                </a:lnTo>
                <a:lnTo>
                  <a:pt x="90" y="65"/>
                </a:lnTo>
                <a:lnTo>
                  <a:pt x="88" y="261"/>
                </a:lnTo>
                <a:lnTo>
                  <a:pt x="0" y="260"/>
                </a:lnTo>
                <a:lnTo>
                  <a:pt x="176" y="32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67040" y="2433600"/>
            <a:ext cx="585720" cy="803160"/>
          </a:xfrm>
          <a:custGeom>
            <a:avLst/>
            <a:gdLst/>
            <a:ahLst/>
            <a:rect l="l" t="t" r="r" b="b"/>
            <a:pathLst>
              <a:path w="715" h="813">
                <a:moveTo>
                  <a:pt x="209" y="0"/>
                </a:moveTo>
                <a:lnTo>
                  <a:pt x="0" y="205"/>
                </a:lnTo>
                <a:lnTo>
                  <a:pt x="0" y="608"/>
                </a:lnTo>
                <a:lnTo>
                  <a:pt x="209" y="813"/>
                </a:lnTo>
                <a:lnTo>
                  <a:pt x="506" y="813"/>
                </a:lnTo>
                <a:lnTo>
                  <a:pt x="715" y="608"/>
                </a:lnTo>
                <a:lnTo>
                  <a:pt x="715" y="205"/>
                </a:lnTo>
                <a:lnTo>
                  <a:pt x="506" y="0"/>
                </a:lnTo>
                <a:lnTo>
                  <a:pt x="209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20400" y="262080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ffffff"/>
                </a:solidFill>
                <a:latin typeface="Arial"/>
              </a:rPr>
              <a:t>Е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93960" y="2286000"/>
            <a:ext cx="312732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847880" y="1609560"/>
            <a:ext cx="1847520" cy="87480"/>
            <a:chOff x="1847880" y="1609560"/>
            <a:chExt cx="1847520" cy="87480"/>
          </a:xfrm>
        </p:grpSpPr>
        <p:sp>
          <p:nvSpPr>
            <p:cNvPr id="496" name=""/>
            <p:cNvSpPr/>
            <p:nvPr/>
          </p:nvSpPr>
          <p:spPr>
            <a:xfrm>
              <a:off x="1847880" y="1652400"/>
              <a:ext cx="1768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13680" y="1609560"/>
              <a:ext cx="81720" cy="8748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117"/>
                  </a:moveTo>
                  <a:lnTo>
                    <a:pt x="117" y="58"/>
                  </a:lnTo>
                  <a:lnTo>
                    <a:pt x="0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951440" y="1609560"/>
            <a:ext cx="1915560" cy="87480"/>
            <a:chOff x="4951440" y="1609560"/>
            <a:chExt cx="1915560" cy="87480"/>
          </a:xfrm>
        </p:grpSpPr>
        <p:sp>
          <p:nvSpPr>
            <p:cNvPr id="499" name=""/>
            <p:cNvSpPr/>
            <p:nvPr/>
          </p:nvSpPr>
          <p:spPr>
            <a:xfrm>
              <a:off x="4951440" y="1652400"/>
              <a:ext cx="1829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77720" y="1609560"/>
              <a:ext cx="89280" cy="8748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117"/>
                  </a:moveTo>
                  <a:lnTo>
                    <a:pt x="117" y="58"/>
                  </a:lnTo>
                  <a:lnTo>
                    <a:pt x="0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191120" y="1938240"/>
            <a:ext cx="274680" cy="352440"/>
          </a:xfrm>
          <a:custGeom>
            <a:avLst/>
            <a:gdLst/>
            <a:ahLst/>
            <a:rect l="l" t="t" r="r" b="b"/>
            <a:pathLst>
              <a:path w="361" h="445">
                <a:moveTo>
                  <a:pt x="179" y="445"/>
                </a:moveTo>
                <a:lnTo>
                  <a:pt x="361" y="357"/>
                </a:lnTo>
                <a:lnTo>
                  <a:pt x="271" y="356"/>
                </a:lnTo>
                <a:lnTo>
                  <a:pt x="271" y="89"/>
                </a:lnTo>
                <a:lnTo>
                  <a:pt x="361" y="91"/>
                </a:lnTo>
                <a:lnTo>
                  <a:pt x="182" y="0"/>
                </a:lnTo>
                <a:lnTo>
                  <a:pt x="0" y="87"/>
                </a:lnTo>
                <a:lnTo>
                  <a:pt x="90" y="89"/>
                </a:lnTo>
                <a:lnTo>
                  <a:pt x="90" y="356"/>
                </a:lnTo>
                <a:lnTo>
                  <a:pt x="0" y="354"/>
                </a:lnTo>
                <a:lnTo>
                  <a:pt x="179" y="44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70200" y="2376360"/>
            <a:ext cx="2252880" cy="1212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54320" y="2476440"/>
            <a:ext cx="158400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восторонн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гов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Позабіржо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угод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71720" y="3638520"/>
            <a:ext cx="1478160" cy="527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54400" y="3198960"/>
            <a:ext cx="349200" cy="398160"/>
          </a:xfrm>
          <a:custGeom>
            <a:avLst/>
            <a:gdLst/>
            <a:ahLst/>
            <a:rect l="l" t="t" r="r" b="b"/>
            <a:pathLst>
              <a:path w="425" h="404">
                <a:moveTo>
                  <a:pt x="87" y="19"/>
                </a:moveTo>
                <a:lnTo>
                  <a:pt x="0" y="184"/>
                </a:lnTo>
                <a:lnTo>
                  <a:pt x="68" y="137"/>
                </a:lnTo>
                <a:lnTo>
                  <a:pt x="220" y="358"/>
                </a:lnTo>
                <a:lnTo>
                  <a:pt x="151" y="404"/>
                </a:lnTo>
                <a:lnTo>
                  <a:pt x="338" y="386"/>
                </a:lnTo>
                <a:lnTo>
                  <a:pt x="425" y="221"/>
                </a:lnTo>
                <a:lnTo>
                  <a:pt x="357" y="267"/>
                </a:lnTo>
                <a:lnTo>
                  <a:pt x="205" y="47"/>
                </a:lnTo>
                <a:lnTo>
                  <a:pt x="275" y="0"/>
                </a:lnTo>
                <a:lnTo>
                  <a:pt x="87" y="1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60920" y="3301920"/>
            <a:ext cx="306360" cy="346320"/>
          </a:xfrm>
          <a:custGeom>
            <a:avLst/>
            <a:gdLst/>
            <a:ahLst/>
            <a:rect l="l" t="t" r="r" b="b"/>
            <a:pathLst>
              <a:path w="372" h="348">
                <a:moveTo>
                  <a:pt x="146" y="348"/>
                </a:moveTo>
                <a:lnTo>
                  <a:pt x="323" y="315"/>
                </a:lnTo>
                <a:lnTo>
                  <a:pt x="242" y="297"/>
                </a:lnTo>
                <a:lnTo>
                  <a:pt x="291" y="89"/>
                </a:lnTo>
                <a:lnTo>
                  <a:pt x="372" y="106"/>
                </a:lnTo>
                <a:lnTo>
                  <a:pt x="225" y="0"/>
                </a:lnTo>
                <a:lnTo>
                  <a:pt x="49" y="33"/>
                </a:lnTo>
                <a:lnTo>
                  <a:pt x="130" y="52"/>
                </a:lnTo>
                <a:lnTo>
                  <a:pt x="81" y="259"/>
                </a:lnTo>
                <a:lnTo>
                  <a:pt x="0" y="243"/>
                </a:lnTo>
                <a:lnTo>
                  <a:pt x="146" y="34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28880" y="1384200"/>
            <a:ext cx="128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Аукці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 потужні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895480" y="3645000"/>
            <a:ext cx="138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Балансуюч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ри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436920" y="2544840"/>
            <a:ext cx="433440" cy="280800"/>
          </a:xfrm>
          <a:custGeom>
            <a:avLst/>
            <a:gdLst/>
            <a:ahLst/>
            <a:rect l="l" t="t" r="r" b="b"/>
            <a:pathLst>
              <a:path w="526" h="285">
                <a:moveTo>
                  <a:pt x="0" y="142"/>
                </a:moveTo>
                <a:lnTo>
                  <a:pt x="105" y="285"/>
                </a:lnTo>
                <a:lnTo>
                  <a:pt x="105" y="213"/>
                </a:lnTo>
                <a:lnTo>
                  <a:pt x="421" y="213"/>
                </a:lnTo>
                <a:lnTo>
                  <a:pt x="421" y="285"/>
                </a:lnTo>
                <a:lnTo>
                  <a:pt x="526" y="142"/>
                </a:lnTo>
                <a:lnTo>
                  <a:pt x="421" y="0"/>
                </a:lnTo>
                <a:lnTo>
                  <a:pt x="421" y="70"/>
                </a:lnTo>
                <a:lnTo>
                  <a:pt x="105" y="70"/>
                </a:lnTo>
                <a:lnTo>
                  <a:pt x="105" y="0"/>
                </a:lnTo>
                <a:lnTo>
                  <a:pt x="0" y="1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D00D4-0E21-4B73-951D-7BCF78EDAB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52680" y="1600200"/>
            <a:ext cx="7211880" cy="434340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593120" y="5287320"/>
            <a:ext cx="100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Arial"/>
              </a:rPr>
              <a:t>Менше ніж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 24 </a:t>
            </a:r>
            <a:r>
              <a:rPr b="1" lang="uk-UA" sz="1200" spc="-1" strike="noStrike">
                <a:solidFill>
                  <a:srgbClr val="000066"/>
                </a:solidFill>
                <a:latin typeface="Arial"/>
              </a:rPr>
              <a:t>год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800680" y="5280840"/>
            <a:ext cx="106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1" lang="uk-UA" sz="1200" spc="-1" strike="noStrike">
                <a:solidFill>
                  <a:srgbClr val="000066"/>
                </a:solidFill>
                <a:latin typeface="Arial"/>
              </a:rPr>
              <a:t>Д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1 </a:t>
            </a:r>
            <a:r>
              <a:rPr b="1" lang="uk-UA" sz="1200" spc="-1" strike="noStrike">
                <a:solidFill>
                  <a:srgbClr val="000066"/>
                </a:solidFill>
                <a:latin typeface="Arial"/>
              </a:rPr>
              <a:t>доби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006560" y="5245200"/>
            <a:ext cx="7742160" cy="1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562200" y="5245200"/>
            <a:ext cx="0" cy="75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43880" y="5245200"/>
            <a:ext cx="0" cy="75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22680" y="5268240"/>
            <a:ext cx="8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Arial"/>
              </a:rPr>
              <a:t>Від 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3 </a:t>
            </a:r>
            <a:r>
              <a:rPr b="1" lang="uk-UA" sz="1200" spc="-1" strike="noStrike">
                <a:solidFill>
                  <a:srgbClr val="000066"/>
                </a:solidFill>
                <a:latin typeface="Arial"/>
              </a:rPr>
              <a:t>до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 1 </a:t>
            </a:r>
            <a:r>
              <a:rPr b="1" lang="uk-UA" sz="1200" spc="-1" strike="noStrike">
                <a:solidFill>
                  <a:srgbClr val="000066"/>
                </a:solidFill>
                <a:latin typeface="Arial"/>
              </a:rPr>
              <a:t>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594400" y="5254560"/>
            <a:ext cx="0" cy="76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678040" y="5264280"/>
            <a:ext cx="0" cy="75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62040" y="5277600"/>
            <a:ext cx="9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Arial"/>
              </a:rPr>
              <a:t>Більше 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3 </a:t>
            </a:r>
            <a:r>
              <a:rPr b="1" lang="uk-UA" sz="1200" spc="-1" strike="noStrike">
                <a:solidFill>
                  <a:srgbClr val="000066"/>
                </a:solidFill>
                <a:latin typeface="Arial"/>
              </a:rPr>
              <a:t>рок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57640" y="5276160"/>
            <a:ext cx="7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Arial"/>
              </a:rPr>
              <a:t>Менше 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1 </a:t>
            </a:r>
            <a:r>
              <a:rPr b="1" lang="uk-UA" sz="1200" spc="-1" strike="noStrike">
                <a:solidFill>
                  <a:srgbClr val="000066"/>
                </a:solidFill>
                <a:latin typeface="Arial"/>
              </a:rPr>
              <a:t>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304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510520" y="2048040"/>
            <a:ext cx="1672560" cy="691200"/>
            <a:chOff x="5510520" y="2048040"/>
            <a:chExt cx="1672560" cy="691200"/>
          </a:xfrm>
        </p:grpSpPr>
        <p:sp>
          <p:nvSpPr>
            <p:cNvPr id="523" name=""/>
            <p:cNvSpPr/>
            <p:nvPr/>
          </p:nvSpPr>
          <p:spPr>
            <a:xfrm>
              <a:off x="5510520" y="2432160"/>
              <a:ext cx="1672560" cy="307080"/>
            </a:xfrm>
            <a:prstGeom prst="rect">
              <a:avLst/>
            </a:prstGeom>
            <a:solidFill>
              <a:srgbClr val="00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На добу напере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95600" y="2048040"/>
              <a:ext cx="341640" cy="3902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507960" y="3079800"/>
            <a:ext cx="127656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забіржо- вий ри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960" y="3780000"/>
            <a:ext cx="128916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рганізова-ний ри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38120" y="1879560"/>
            <a:ext cx="7602480" cy="3288960"/>
            <a:chOff x="438120" y="1879560"/>
            <a:chExt cx="7602480" cy="3288960"/>
          </a:xfrm>
        </p:grpSpPr>
        <p:sp>
          <p:nvSpPr>
            <p:cNvPr id="528" name=""/>
            <p:cNvSpPr/>
            <p:nvPr/>
          </p:nvSpPr>
          <p:spPr>
            <a:xfrm>
              <a:off x="438120" y="1879560"/>
              <a:ext cx="7602480" cy="3288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6360" y="1879560"/>
              <a:ext cx="120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0000"/>
                  </a:solidFill>
                  <a:latin typeface="Arial"/>
                </a:rPr>
                <a:t>Оптовий ри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7867800" y="2036880"/>
            <a:ext cx="342720" cy="390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316280" y="2429280"/>
            <a:ext cx="1454760" cy="307080"/>
          </a:xfrm>
          <a:prstGeom prst="rect">
            <a:avLst/>
          </a:prstGeom>
          <a:solidFill>
            <a:srgbClr val="0000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Баланс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595880" y="2068560"/>
            <a:ext cx="2358360" cy="675360"/>
            <a:chOff x="1595880" y="2068560"/>
            <a:chExt cx="2358360" cy="675360"/>
          </a:xfrm>
        </p:grpSpPr>
        <p:sp>
          <p:nvSpPr>
            <p:cNvPr id="533" name=""/>
            <p:cNvSpPr/>
            <p:nvPr/>
          </p:nvSpPr>
          <p:spPr>
            <a:xfrm>
              <a:off x="1595880" y="2436840"/>
              <a:ext cx="2358360" cy="307080"/>
            </a:xfrm>
            <a:prstGeom prst="rect">
              <a:avLst/>
            </a:prstGeom>
            <a:solidFill>
              <a:srgbClr val="00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Довгострокові договор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5000" y="2068560"/>
              <a:ext cx="343440" cy="3902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7289640" y="787320"/>
            <a:ext cx="1474920" cy="515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359320" y="2513160"/>
            <a:ext cx="0" cy="271296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497560" y="3759120"/>
            <a:ext cx="160344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Arial"/>
              </a:rPr>
              <a:t>Енергобіржа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Arial"/>
              </a:rPr>
              <a:t>На добу напе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411360" y="2540160"/>
            <a:ext cx="0" cy="285408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6200000">
            <a:off x="7685640" y="3752280"/>
            <a:ext cx="148968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Договори з С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6484320" y="3809160"/>
            <a:ext cx="226116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Балансуючий механіз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304040" y="762120"/>
            <a:ext cx="13892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Ринок на балансуючі по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55880" y="3759120"/>
            <a:ext cx="247644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b2b2b2"/>
                </a:solidFill>
                <a:latin typeface="Arial"/>
              </a:rPr>
              <a:t>Енергобіржа - Ф'ючер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79200"/>
            <a:ext cx="89535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240" rIns="30240" tIns="60120" bIns="60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получення різних ринк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57240" y="3073320"/>
            <a:ext cx="5283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uk-UA" sz="1600" spc="-1" strike="noStrike">
                <a:solidFill>
                  <a:srgbClr val="000066"/>
                </a:solidFill>
                <a:latin typeface="Arial"/>
              </a:rPr>
              <a:t>Двосторонні догов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26EF-C33D-4B7F-BC8B-FA7287F951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60240" y="19051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19240" y="5803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91040" y="580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90840" y="580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77120" y="580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360" y="580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0240" y="5865840"/>
            <a:ext cx="64008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60240" y="2946240"/>
            <a:ext cx="7619760" cy="2895480"/>
            <a:chOff x="660240" y="2946240"/>
            <a:chExt cx="7619760" cy="2895480"/>
          </a:xfrm>
        </p:grpSpPr>
        <p:sp>
          <p:nvSpPr>
            <p:cNvPr id="553" name=""/>
            <p:cNvSpPr/>
            <p:nvPr/>
          </p:nvSpPr>
          <p:spPr>
            <a:xfrm>
              <a:off x="660240" y="4317840"/>
              <a:ext cx="1523880" cy="1523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84120" y="4317840"/>
              <a:ext cx="1523880" cy="1523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08000" y="4317840"/>
              <a:ext cx="1524240" cy="1523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32240" y="4317840"/>
              <a:ext cx="1523880" cy="1523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56120" y="4317840"/>
              <a:ext cx="1523880" cy="1523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0240" y="3632040"/>
              <a:ext cx="1523880" cy="6858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84120" y="3403440"/>
              <a:ext cx="152388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708000" y="3403440"/>
              <a:ext cx="152424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32240" y="3403440"/>
              <a:ext cx="152388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56120" y="3403440"/>
              <a:ext cx="152388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32240" y="3174840"/>
              <a:ext cx="1523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08000" y="2946240"/>
              <a:ext cx="152424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0240" y="2971440"/>
            <a:ext cx="7619760" cy="686160"/>
            <a:chOff x="660240" y="2971440"/>
            <a:chExt cx="7619760" cy="686160"/>
          </a:xfrm>
        </p:grpSpPr>
        <p:sp>
          <p:nvSpPr>
            <p:cNvPr id="566" name=""/>
            <p:cNvSpPr/>
            <p:nvPr/>
          </p:nvSpPr>
          <p:spPr>
            <a:xfrm>
              <a:off x="660240" y="3657600"/>
              <a:ext cx="15238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32240" y="3200400"/>
              <a:ext cx="15238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08000" y="2971800"/>
              <a:ext cx="152424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4120" y="3429000"/>
              <a:ext cx="15238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56120" y="3429000"/>
              <a:ext cx="15238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2184120" y="342864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756120" y="320004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232240" y="297144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708000" y="2971800"/>
              <a:ext cx="0" cy="457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660240" y="2793960"/>
            <a:ext cx="7363080" cy="1092240"/>
          </a:xfrm>
          <a:custGeom>
            <a:avLst/>
            <a:gdLst/>
            <a:ahLst/>
            <a:rect l="l" t="t" r="r" b="b"/>
            <a:pathLst>
              <a:path w="4638" h="688">
                <a:moveTo>
                  <a:pt x="0" y="688"/>
                </a:moveTo>
                <a:cubicBezTo>
                  <a:pt x="64" y="680"/>
                  <a:pt x="128" y="672"/>
                  <a:pt x="192" y="640"/>
                </a:cubicBezTo>
                <a:cubicBezTo>
                  <a:pt x="256" y="608"/>
                  <a:pt x="328" y="520"/>
                  <a:pt x="384" y="496"/>
                </a:cubicBezTo>
                <a:cubicBezTo>
                  <a:pt x="440" y="472"/>
                  <a:pt x="480" y="480"/>
                  <a:pt x="528" y="496"/>
                </a:cubicBezTo>
                <a:cubicBezTo>
                  <a:pt x="576" y="512"/>
                  <a:pt x="632" y="584"/>
                  <a:pt x="672" y="592"/>
                </a:cubicBezTo>
                <a:cubicBezTo>
                  <a:pt x="712" y="600"/>
                  <a:pt x="728" y="560"/>
                  <a:pt x="768" y="544"/>
                </a:cubicBezTo>
                <a:cubicBezTo>
                  <a:pt x="808" y="528"/>
                  <a:pt x="848" y="528"/>
                  <a:pt x="912" y="496"/>
                </a:cubicBezTo>
                <a:cubicBezTo>
                  <a:pt x="976" y="464"/>
                  <a:pt x="1080" y="384"/>
                  <a:pt x="1152" y="352"/>
                </a:cubicBezTo>
                <a:cubicBezTo>
                  <a:pt x="1224" y="320"/>
                  <a:pt x="1280" y="304"/>
                  <a:pt x="1344" y="304"/>
                </a:cubicBezTo>
                <a:cubicBezTo>
                  <a:pt x="1408" y="304"/>
                  <a:pt x="1493" y="319"/>
                  <a:pt x="1536" y="352"/>
                </a:cubicBezTo>
                <a:cubicBezTo>
                  <a:pt x="1579" y="385"/>
                  <a:pt x="1578" y="502"/>
                  <a:pt x="1602" y="502"/>
                </a:cubicBezTo>
                <a:cubicBezTo>
                  <a:pt x="1626" y="502"/>
                  <a:pt x="1635" y="353"/>
                  <a:pt x="1680" y="352"/>
                </a:cubicBezTo>
                <a:cubicBezTo>
                  <a:pt x="1725" y="351"/>
                  <a:pt x="1824" y="512"/>
                  <a:pt x="1872" y="496"/>
                </a:cubicBezTo>
                <a:cubicBezTo>
                  <a:pt x="1920" y="480"/>
                  <a:pt x="1928" y="312"/>
                  <a:pt x="1968" y="256"/>
                </a:cubicBezTo>
                <a:cubicBezTo>
                  <a:pt x="2008" y="200"/>
                  <a:pt x="2072" y="192"/>
                  <a:pt x="2112" y="160"/>
                </a:cubicBezTo>
                <a:cubicBezTo>
                  <a:pt x="2152" y="128"/>
                  <a:pt x="2160" y="88"/>
                  <a:pt x="2208" y="64"/>
                </a:cubicBezTo>
                <a:cubicBezTo>
                  <a:pt x="2256" y="40"/>
                  <a:pt x="2344" y="0"/>
                  <a:pt x="2400" y="16"/>
                </a:cubicBezTo>
                <a:cubicBezTo>
                  <a:pt x="2456" y="32"/>
                  <a:pt x="2496" y="120"/>
                  <a:pt x="2544" y="160"/>
                </a:cubicBezTo>
                <a:cubicBezTo>
                  <a:pt x="2592" y="200"/>
                  <a:pt x="2640" y="248"/>
                  <a:pt x="2688" y="256"/>
                </a:cubicBezTo>
                <a:cubicBezTo>
                  <a:pt x="2736" y="264"/>
                  <a:pt x="2800" y="216"/>
                  <a:pt x="2832" y="208"/>
                </a:cubicBezTo>
                <a:cubicBezTo>
                  <a:pt x="2864" y="200"/>
                  <a:pt x="2848" y="200"/>
                  <a:pt x="2880" y="208"/>
                </a:cubicBezTo>
                <a:cubicBezTo>
                  <a:pt x="2912" y="216"/>
                  <a:pt x="2968" y="232"/>
                  <a:pt x="3024" y="256"/>
                </a:cubicBezTo>
                <a:cubicBezTo>
                  <a:pt x="3080" y="280"/>
                  <a:pt x="3144" y="344"/>
                  <a:pt x="3216" y="352"/>
                </a:cubicBezTo>
                <a:cubicBezTo>
                  <a:pt x="3288" y="360"/>
                  <a:pt x="3400" y="320"/>
                  <a:pt x="3456" y="304"/>
                </a:cubicBezTo>
                <a:cubicBezTo>
                  <a:pt x="3512" y="288"/>
                  <a:pt x="3520" y="280"/>
                  <a:pt x="3552" y="256"/>
                </a:cubicBezTo>
                <a:cubicBezTo>
                  <a:pt x="3584" y="232"/>
                  <a:pt x="3608" y="160"/>
                  <a:pt x="3648" y="160"/>
                </a:cubicBezTo>
                <a:cubicBezTo>
                  <a:pt x="3688" y="160"/>
                  <a:pt x="3760" y="224"/>
                  <a:pt x="3792" y="256"/>
                </a:cubicBezTo>
                <a:cubicBezTo>
                  <a:pt x="3824" y="288"/>
                  <a:pt x="3808" y="328"/>
                  <a:pt x="3840" y="352"/>
                </a:cubicBezTo>
                <a:cubicBezTo>
                  <a:pt x="3872" y="376"/>
                  <a:pt x="3944" y="384"/>
                  <a:pt x="3984" y="400"/>
                </a:cubicBezTo>
                <a:cubicBezTo>
                  <a:pt x="4024" y="416"/>
                  <a:pt x="4032" y="456"/>
                  <a:pt x="4080" y="448"/>
                </a:cubicBezTo>
                <a:cubicBezTo>
                  <a:pt x="4128" y="440"/>
                  <a:pt x="4232" y="342"/>
                  <a:pt x="4272" y="352"/>
                </a:cubicBezTo>
                <a:cubicBezTo>
                  <a:pt x="4312" y="362"/>
                  <a:pt x="4259" y="487"/>
                  <a:pt x="4320" y="508"/>
                </a:cubicBezTo>
                <a:cubicBezTo>
                  <a:pt x="4381" y="529"/>
                  <a:pt x="4572" y="484"/>
                  <a:pt x="4638" y="478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074000" y="1295280"/>
            <a:ext cx="1295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9360" y="114300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тужні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МВ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327480" y="4572000"/>
            <a:ext cx="1600200" cy="762120"/>
          </a:xfrm>
          <a:prstGeom prst="wedgeRectCallout">
            <a:avLst>
              <a:gd name="adj1" fmla="val -59523"/>
              <a:gd name="adj2" fmla="val -122291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ion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327480" y="4572000"/>
            <a:ext cx="1600200" cy="762120"/>
          </a:xfrm>
          <a:prstGeom prst="wedgeRectCallout">
            <a:avLst>
              <a:gd name="adj1" fmla="val 22620"/>
              <a:gd name="adj2" fmla="val -213541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ion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327480" y="4572000"/>
            <a:ext cx="1752480" cy="1003320"/>
          </a:xfrm>
          <a:prstGeom prst="wedgeRectCallout">
            <a:avLst>
              <a:gd name="adj1" fmla="val -90759"/>
              <a:gd name="adj2" fmla="val -15666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Планові графіки виробни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30400" y="2057400"/>
            <a:ext cx="1968480" cy="1066680"/>
          </a:xfrm>
          <a:prstGeom prst="wedgeRectCallout">
            <a:avLst>
              <a:gd name="adj1" fmla="val 76129"/>
              <a:gd name="adj2" fmla="val 69791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Небаланси (Балансуючий рин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31800" y="2617920"/>
            <a:ext cx="7391520" cy="1184040"/>
          </a:xfrm>
          <a:custGeom>
            <a:avLst/>
            <a:gdLst/>
            <a:ahLst/>
            <a:rect l="l" t="t" r="r" b="b"/>
            <a:pathLst>
              <a:path w="4656" h="746">
                <a:moveTo>
                  <a:pt x="0" y="697"/>
                </a:moveTo>
                <a:cubicBezTo>
                  <a:pt x="39" y="680"/>
                  <a:pt x="165" y="606"/>
                  <a:pt x="234" y="595"/>
                </a:cubicBezTo>
                <a:cubicBezTo>
                  <a:pt x="303" y="584"/>
                  <a:pt x="364" y="607"/>
                  <a:pt x="414" y="631"/>
                </a:cubicBezTo>
                <a:cubicBezTo>
                  <a:pt x="464" y="655"/>
                  <a:pt x="488" y="746"/>
                  <a:pt x="534" y="739"/>
                </a:cubicBezTo>
                <a:cubicBezTo>
                  <a:pt x="580" y="732"/>
                  <a:pt x="637" y="617"/>
                  <a:pt x="690" y="589"/>
                </a:cubicBezTo>
                <a:cubicBezTo>
                  <a:pt x="743" y="561"/>
                  <a:pt x="800" y="575"/>
                  <a:pt x="852" y="571"/>
                </a:cubicBezTo>
                <a:cubicBezTo>
                  <a:pt x="904" y="567"/>
                  <a:pt x="949" y="588"/>
                  <a:pt x="1002" y="565"/>
                </a:cubicBezTo>
                <a:cubicBezTo>
                  <a:pt x="1055" y="542"/>
                  <a:pt x="1105" y="459"/>
                  <a:pt x="1170" y="431"/>
                </a:cubicBezTo>
                <a:cubicBezTo>
                  <a:pt x="1235" y="403"/>
                  <a:pt x="1336" y="387"/>
                  <a:pt x="1392" y="397"/>
                </a:cubicBezTo>
                <a:cubicBezTo>
                  <a:pt x="1448" y="407"/>
                  <a:pt x="1466" y="495"/>
                  <a:pt x="1506" y="493"/>
                </a:cubicBezTo>
                <a:cubicBezTo>
                  <a:pt x="1546" y="491"/>
                  <a:pt x="1578" y="396"/>
                  <a:pt x="1632" y="385"/>
                </a:cubicBezTo>
                <a:cubicBezTo>
                  <a:pt x="1686" y="374"/>
                  <a:pt x="1780" y="435"/>
                  <a:pt x="1830" y="427"/>
                </a:cubicBezTo>
                <a:cubicBezTo>
                  <a:pt x="1880" y="419"/>
                  <a:pt x="1896" y="361"/>
                  <a:pt x="1932" y="337"/>
                </a:cubicBezTo>
                <a:cubicBezTo>
                  <a:pt x="1968" y="313"/>
                  <a:pt x="2013" y="299"/>
                  <a:pt x="2046" y="283"/>
                </a:cubicBezTo>
                <a:cubicBezTo>
                  <a:pt x="2079" y="267"/>
                  <a:pt x="2100" y="271"/>
                  <a:pt x="2130" y="239"/>
                </a:cubicBezTo>
                <a:cubicBezTo>
                  <a:pt x="2160" y="207"/>
                  <a:pt x="2173" y="127"/>
                  <a:pt x="2226" y="91"/>
                </a:cubicBezTo>
                <a:cubicBezTo>
                  <a:pt x="2279" y="55"/>
                  <a:pt x="2392" y="0"/>
                  <a:pt x="2448" y="25"/>
                </a:cubicBezTo>
                <a:cubicBezTo>
                  <a:pt x="2504" y="50"/>
                  <a:pt x="2516" y="199"/>
                  <a:pt x="2562" y="239"/>
                </a:cubicBezTo>
                <a:cubicBezTo>
                  <a:pt x="2608" y="279"/>
                  <a:pt x="2680" y="264"/>
                  <a:pt x="2724" y="265"/>
                </a:cubicBezTo>
                <a:cubicBezTo>
                  <a:pt x="2768" y="266"/>
                  <a:pt x="2797" y="255"/>
                  <a:pt x="2826" y="247"/>
                </a:cubicBezTo>
                <a:cubicBezTo>
                  <a:pt x="2855" y="239"/>
                  <a:pt x="2850" y="206"/>
                  <a:pt x="2898" y="217"/>
                </a:cubicBezTo>
                <a:cubicBezTo>
                  <a:pt x="2946" y="228"/>
                  <a:pt x="3052" y="280"/>
                  <a:pt x="3114" y="313"/>
                </a:cubicBezTo>
                <a:cubicBezTo>
                  <a:pt x="3176" y="346"/>
                  <a:pt x="3209" y="393"/>
                  <a:pt x="3270" y="415"/>
                </a:cubicBezTo>
                <a:cubicBezTo>
                  <a:pt x="3331" y="437"/>
                  <a:pt x="3419" y="437"/>
                  <a:pt x="3480" y="445"/>
                </a:cubicBezTo>
                <a:cubicBezTo>
                  <a:pt x="3541" y="453"/>
                  <a:pt x="3604" y="456"/>
                  <a:pt x="3636" y="463"/>
                </a:cubicBezTo>
                <a:cubicBezTo>
                  <a:pt x="3668" y="470"/>
                  <a:pt x="3653" y="489"/>
                  <a:pt x="3672" y="487"/>
                </a:cubicBezTo>
                <a:cubicBezTo>
                  <a:pt x="3691" y="485"/>
                  <a:pt x="3730" y="461"/>
                  <a:pt x="3750" y="451"/>
                </a:cubicBezTo>
                <a:cubicBezTo>
                  <a:pt x="3770" y="441"/>
                  <a:pt x="3774" y="430"/>
                  <a:pt x="3792" y="427"/>
                </a:cubicBezTo>
                <a:cubicBezTo>
                  <a:pt x="3810" y="424"/>
                  <a:pt x="3815" y="425"/>
                  <a:pt x="3858" y="431"/>
                </a:cubicBezTo>
                <a:cubicBezTo>
                  <a:pt x="3901" y="437"/>
                  <a:pt x="4010" y="447"/>
                  <a:pt x="4050" y="463"/>
                </a:cubicBezTo>
                <a:cubicBezTo>
                  <a:pt x="4090" y="479"/>
                  <a:pt x="4058" y="532"/>
                  <a:pt x="4098" y="527"/>
                </a:cubicBezTo>
                <a:cubicBezTo>
                  <a:pt x="4138" y="522"/>
                  <a:pt x="4250" y="421"/>
                  <a:pt x="4290" y="431"/>
                </a:cubicBezTo>
                <a:cubicBezTo>
                  <a:pt x="4330" y="441"/>
                  <a:pt x="4277" y="566"/>
                  <a:pt x="4338" y="587"/>
                </a:cubicBezTo>
                <a:cubicBezTo>
                  <a:pt x="4399" y="608"/>
                  <a:pt x="4590" y="563"/>
                  <a:pt x="4656" y="557"/>
                </a:cubicBezTo>
              </a:path>
            </a:pathLst>
          </a:custGeom>
          <a:noFill/>
          <a:ln w="28440">
            <a:solidFill>
              <a:srgbClr val="030a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60240" y="2654280"/>
            <a:ext cx="6413760" cy="1231920"/>
            <a:chOff x="660240" y="2654280"/>
            <a:chExt cx="6413760" cy="1231920"/>
          </a:xfrm>
        </p:grpSpPr>
        <p:grpSp>
          <p:nvGrpSpPr>
            <p:cNvPr id="584" name=""/>
            <p:cNvGrpSpPr/>
            <p:nvPr/>
          </p:nvGrpSpPr>
          <p:grpSpPr>
            <a:xfrm>
              <a:off x="660240" y="3530520"/>
              <a:ext cx="1492200" cy="355680"/>
              <a:chOff x="660240" y="3530520"/>
              <a:chExt cx="1492200" cy="355680"/>
            </a:xfrm>
          </p:grpSpPr>
          <p:sp>
            <p:nvSpPr>
              <p:cNvPr id="585" name=""/>
              <p:cNvSpPr/>
              <p:nvPr/>
            </p:nvSpPr>
            <p:spPr>
              <a:xfrm>
                <a:off x="660240" y="3552840"/>
                <a:ext cx="590760" cy="333360"/>
              </a:xfrm>
              <a:custGeom>
                <a:avLst/>
                <a:gdLst/>
                <a:ahLst/>
                <a:rect l="l" t="t" r="r" b="b"/>
                <a:pathLst>
                  <a:path w="372" h="210">
                    <a:moveTo>
                      <a:pt x="0" y="210"/>
                    </a:moveTo>
                    <a:lnTo>
                      <a:pt x="0" y="96"/>
                    </a:lnTo>
                    <a:lnTo>
                      <a:pt x="144" y="36"/>
                    </a:lnTo>
                    <a:lnTo>
                      <a:pt x="246" y="0"/>
                    </a:lnTo>
                    <a:lnTo>
                      <a:pt x="324" y="12"/>
                    </a:lnTo>
                    <a:lnTo>
                      <a:pt x="372" y="30"/>
                    </a:lnTo>
                    <a:lnTo>
                      <a:pt x="240" y="120"/>
                    </a:lnTo>
                    <a:lnTo>
                      <a:pt x="174" y="162"/>
                    </a:lnTo>
                    <a:lnTo>
                      <a:pt x="96" y="192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63600" y="3552840"/>
                <a:ext cx="349200" cy="247680"/>
              </a:xfrm>
              <a:custGeom>
                <a:avLst/>
                <a:gdLst/>
                <a:ahLst/>
                <a:rect l="l" t="t" r="r" b="b"/>
                <a:pathLst>
                  <a:path w="220" h="156">
                    <a:moveTo>
                      <a:pt x="58" y="72"/>
                    </a:moveTo>
                    <a:lnTo>
                      <a:pt x="118" y="156"/>
                    </a:lnTo>
                    <a:lnTo>
                      <a:pt x="184" y="120"/>
                    </a:lnTo>
                    <a:lnTo>
                      <a:pt x="220" y="62"/>
                    </a:lnTo>
                    <a:lnTo>
                      <a:pt x="148" y="18"/>
                    </a:lnTo>
                    <a:lnTo>
                      <a:pt x="100" y="0"/>
                    </a:lnTo>
                    <a:lnTo>
                      <a:pt x="52" y="6"/>
                    </a:lnTo>
                    <a:lnTo>
                      <a:pt x="0" y="22"/>
                    </a:lnTo>
                    <a:lnTo>
                      <a:pt x="58" y="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625400" y="3530520"/>
                <a:ext cx="527040" cy="212760"/>
              </a:xfrm>
              <a:custGeom>
                <a:avLst/>
                <a:gdLst/>
                <a:ahLst/>
                <a:rect l="l" t="t" r="r" b="b"/>
                <a:pathLst>
                  <a:path w="332" h="134">
                    <a:moveTo>
                      <a:pt x="44" y="32"/>
                    </a:moveTo>
                    <a:lnTo>
                      <a:pt x="100" y="2"/>
                    </a:lnTo>
                    <a:lnTo>
                      <a:pt x="164" y="0"/>
                    </a:lnTo>
                    <a:lnTo>
                      <a:pt x="332" y="8"/>
                    </a:lnTo>
                    <a:lnTo>
                      <a:pt x="316" y="20"/>
                    </a:lnTo>
                    <a:lnTo>
                      <a:pt x="232" y="56"/>
                    </a:lnTo>
                    <a:lnTo>
                      <a:pt x="152" y="72"/>
                    </a:lnTo>
                    <a:lnTo>
                      <a:pt x="112" y="128"/>
                    </a:lnTo>
                    <a:lnTo>
                      <a:pt x="70" y="134"/>
                    </a:lnTo>
                    <a:lnTo>
                      <a:pt x="24" y="108"/>
                    </a:lnTo>
                    <a:lnTo>
                      <a:pt x="0" y="76"/>
                    </a:lnTo>
                    <a:lnTo>
                      <a:pt x="44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708360" y="2654280"/>
              <a:ext cx="1968480" cy="774720"/>
              <a:chOff x="3708360" y="2654280"/>
              <a:chExt cx="1968480" cy="774720"/>
            </a:xfrm>
          </p:grpSpPr>
          <p:sp>
            <p:nvSpPr>
              <p:cNvPr id="589" name=""/>
              <p:cNvSpPr/>
              <p:nvPr/>
            </p:nvSpPr>
            <p:spPr>
              <a:xfrm>
                <a:off x="3708360" y="297180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288"/>
                    </a:moveTo>
                    <a:lnTo>
                      <a:pt x="0" y="112"/>
                    </a:lnTo>
                    <a:lnTo>
                      <a:pt x="240" y="0"/>
                    </a:lnTo>
                    <a:lnTo>
                      <a:pt x="192" y="48"/>
                    </a:lnTo>
                    <a:lnTo>
                      <a:pt x="138" y="84"/>
                    </a:lnTo>
                    <a:lnTo>
                      <a:pt x="102" y="108"/>
                    </a:lnTo>
                    <a:lnTo>
                      <a:pt x="48" y="144"/>
                    </a:lnTo>
                    <a:lnTo>
                      <a:pt x="24" y="198"/>
                    </a:lnTo>
                    <a:lnTo>
                      <a:pt x="12" y="252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051440" y="2654280"/>
                <a:ext cx="603000" cy="304920"/>
              </a:xfrm>
              <a:custGeom>
                <a:avLst/>
                <a:gdLst/>
                <a:ahLst/>
                <a:rect l="l" t="t" r="r" b="b"/>
                <a:pathLst>
                  <a:path w="380" h="192">
                    <a:moveTo>
                      <a:pt x="0" y="192"/>
                    </a:moveTo>
                    <a:lnTo>
                      <a:pt x="220" y="92"/>
                    </a:lnTo>
                    <a:lnTo>
                      <a:pt x="280" y="104"/>
                    </a:lnTo>
                    <a:lnTo>
                      <a:pt x="356" y="184"/>
                    </a:lnTo>
                    <a:lnTo>
                      <a:pt x="380" y="192"/>
                    </a:lnTo>
                    <a:lnTo>
                      <a:pt x="352" y="108"/>
                    </a:lnTo>
                    <a:lnTo>
                      <a:pt x="308" y="20"/>
                    </a:lnTo>
                    <a:lnTo>
                      <a:pt x="280" y="0"/>
                    </a:lnTo>
                    <a:lnTo>
                      <a:pt x="236" y="4"/>
                    </a:lnTo>
                    <a:lnTo>
                      <a:pt x="148" y="28"/>
                    </a:lnTo>
                    <a:lnTo>
                      <a:pt x="52" y="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622760" y="2959200"/>
                <a:ext cx="1054080" cy="260280"/>
              </a:xfrm>
              <a:custGeom>
                <a:avLst/>
                <a:gdLst/>
                <a:ahLst/>
                <a:rect l="l" t="t" r="r" b="b"/>
                <a:pathLst>
                  <a:path w="664" h="164">
                    <a:moveTo>
                      <a:pt x="0" y="8"/>
                    </a:moveTo>
                    <a:lnTo>
                      <a:pt x="28" y="0"/>
                    </a:lnTo>
                    <a:lnTo>
                      <a:pt x="64" y="36"/>
                    </a:lnTo>
                    <a:lnTo>
                      <a:pt x="120" y="56"/>
                    </a:lnTo>
                    <a:lnTo>
                      <a:pt x="256" y="52"/>
                    </a:lnTo>
                    <a:lnTo>
                      <a:pt x="384" y="8"/>
                    </a:lnTo>
                    <a:lnTo>
                      <a:pt x="484" y="44"/>
                    </a:lnTo>
                    <a:lnTo>
                      <a:pt x="580" y="88"/>
                    </a:lnTo>
                    <a:lnTo>
                      <a:pt x="664" y="144"/>
                    </a:lnTo>
                    <a:lnTo>
                      <a:pt x="564" y="164"/>
                    </a:lnTo>
                    <a:lnTo>
                      <a:pt x="384" y="104"/>
                    </a:lnTo>
                    <a:lnTo>
                      <a:pt x="336" y="104"/>
                    </a:lnTo>
                    <a:lnTo>
                      <a:pt x="240" y="152"/>
                    </a:lnTo>
                    <a:lnTo>
                      <a:pt x="192" y="152"/>
                    </a:lnTo>
                    <a:lnTo>
                      <a:pt x="138" y="122"/>
                    </a:lnTo>
                    <a:lnTo>
                      <a:pt x="48" y="5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460840" y="3048120"/>
              <a:ext cx="1613160" cy="374400"/>
              <a:chOff x="5460840" y="3048120"/>
              <a:chExt cx="1613160" cy="374400"/>
            </a:xfrm>
          </p:grpSpPr>
          <p:sp>
            <p:nvSpPr>
              <p:cNvPr id="593" name=""/>
              <p:cNvSpPr/>
              <p:nvPr/>
            </p:nvSpPr>
            <p:spPr>
              <a:xfrm>
                <a:off x="5460840" y="3187800"/>
                <a:ext cx="622440" cy="164880"/>
              </a:xfrm>
              <a:custGeom>
                <a:avLst/>
                <a:gdLst/>
                <a:ahLst/>
                <a:rect l="l" t="t" r="r" b="b"/>
                <a:pathLst>
                  <a:path w="392" h="104">
                    <a:moveTo>
                      <a:pt x="0" y="8"/>
                    </a:moveTo>
                    <a:lnTo>
                      <a:pt x="128" y="0"/>
                    </a:lnTo>
                    <a:lnTo>
                      <a:pt x="244" y="68"/>
                    </a:lnTo>
                    <a:lnTo>
                      <a:pt x="392" y="84"/>
                    </a:lnTo>
                    <a:lnTo>
                      <a:pt x="384" y="80"/>
                    </a:lnTo>
                    <a:lnTo>
                      <a:pt x="288" y="104"/>
                    </a:lnTo>
                    <a:lnTo>
                      <a:pt x="192" y="104"/>
                    </a:lnTo>
                    <a:lnTo>
                      <a:pt x="144" y="104"/>
                    </a:lnTo>
                    <a:lnTo>
                      <a:pt x="42" y="3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108840" y="3048120"/>
                <a:ext cx="609480" cy="330120"/>
              </a:xfrm>
              <a:custGeom>
                <a:avLst/>
                <a:gdLst/>
                <a:ahLst/>
                <a:rect l="l" t="t" r="r" b="b"/>
                <a:pathLst>
                  <a:path w="384" h="208">
                    <a:moveTo>
                      <a:pt x="112" y="120"/>
                    </a:moveTo>
                    <a:lnTo>
                      <a:pt x="0" y="164"/>
                    </a:lnTo>
                    <a:lnTo>
                      <a:pt x="200" y="188"/>
                    </a:lnTo>
                    <a:lnTo>
                      <a:pt x="228" y="208"/>
                    </a:lnTo>
                    <a:lnTo>
                      <a:pt x="336" y="160"/>
                    </a:lnTo>
                    <a:lnTo>
                      <a:pt x="384" y="148"/>
                    </a:lnTo>
                    <a:lnTo>
                      <a:pt x="360" y="96"/>
                    </a:lnTo>
                    <a:lnTo>
                      <a:pt x="312" y="48"/>
                    </a:lnTo>
                    <a:lnTo>
                      <a:pt x="270" y="12"/>
                    </a:lnTo>
                    <a:lnTo>
                      <a:pt x="216" y="0"/>
                    </a:lnTo>
                    <a:lnTo>
                      <a:pt x="168" y="30"/>
                    </a:lnTo>
                    <a:lnTo>
                      <a:pt x="112" y="12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43520" y="3308400"/>
                <a:ext cx="330480" cy="114120"/>
              </a:xfrm>
              <a:custGeom>
                <a:avLst/>
                <a:gdLst/>
                <a:ahLst/>
                <a:rect l="l" t="t" r="r" b="b"/>
                <a:pathLst>
                  <a:path w="208" h="72">
                    <a:moveTo>
                      <a:pt x="0" y="0"/>
                    </a:moveTo>
                    <a:lnTo>
                      <a:pt x="20" y="36"/>
                    </a:lnTo>
                    <a:lnTo>
                      <a:pt x="100" y="52"/>
                    </a:lnTo>
                    <a:lnTo>
                      <a:pt x="172" y="72"/>
                    </a:lnTo>
                    <a:lnTo>
                      <a:pt x="208" y="52"/>
                    </a:lnTo>
                    <a:lnTo>
                      <a:pt x="176" y="28"/>
                    </a:lnTo>
                    <a:lnTo>
                      <a:pt x="14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355840" y="3143160"/>
              <a:ext cx="1359000" cy="438120"/>
              <a:chOff x="2355840" y="3143160"/>
              <a:chExt cx="1359000" cy="438120"/>
            </a:xfrm>
          </p:grpSpPr>
          <p:sp>
            <p:nvSpPr>
              <p:cNvPr id="597" name=""/>
              <p:cNvSpPr/>
              <p:nvPr/>
            </p:nvSpPr>
            <p:spPr>
              <a:xfrm>
                <a:off x="3098880" y="3143160"/>
                <a:ext cx="615960" cy="438120"/>
              </a:xfrm>
              <a:custGeom>
                <a:avLst/>
                <a:gdLst/>
                <a:ahLst/>
                <a:rect l="l" t="t" r="r" b="b"/>
                <a:pathLst>
                  <a:path w="388" h="276">
                    <a:moveTo>
                      <a:pt x="0" y="128"/>
                    </a:moveTo>
                    <a:lnTo>
                      <a:pt x="32" y="188"/>
                    </a:lnTo>
                    <a:lnTo>
                      <a:pt x="66" y="270"/>
                    </a:lnTo>
                    <a:lnTo>
                      <a:pt x="88" y="216"/>
                    </a:lnTo>
                    <a:lnTo>
                      <a:pt x="112" y="152"/>
                    </a:lnTo>
                    <a:lnTo>
                      <a:pt x="148" y="128"/>
                    </a:lnTo>
                    <a:lnTo>
                      <a:pt x="208" y="168"/>
                    </a:lnTo>
                    <a:lnTo>
                      <a:pt x="284" y="248"/>
                    </a:lnTo>
                    <a:lnTo>
                      <a:pt x="336" y="276"/>
                    </a:lnTo>
                    <a:lnTo>
                      <a:pt x="388" y="180"/>
                    </a:lnTo>
                    <a:lnTo>
                      <a:pt x="380" y="0"/>
                    </a:lnTo>
                    <a:lnTo>
                      <a:pt x="312" y="92"/>
                    </a:lnTo>
                    <a:lnTo>
                      <a:pt x="236" y="100"/>
                    </a:lnTo>
                    <a:lnTo>
                      <a:pt x="184" y="72"/>
                    </a:lnTo>
                    <a:lnTo>
                      <a:pt x="92" y="52"/>
                    </a:lnTo>
                    <a:lnTo>
                      <a:pt x="56" y="64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55840" y="3238560"/>
                <a:ext cx="520560" cy="183960"/>
              </a:xfrm>
              <a:custGeom>
                <a:avLst/>
                <a:gdLst/>
                <a:ahLst/>
                <a:rect l="l" t="t" r="r" b="b"/>
                <a:pathLst>
                  <a:path w="328" h="116">
                    <a:moveTo>
                      <a:pt x="44" y="68"/>
                    </a:moveTo>
                    <a:lnTo>
                      <a:pt x="96" y="40"/>
                    </a:lnTo>
                    <a:lnTo>
                      <a:pt x="152" y="24"/>
                    </a:lnTo>
                    <a:lnTo>
                      <a:pt x="268" y="0"/>
                    </a:lnTo>
                    <a:lnTo>
                      <a:pt x="328" y="20"/>
                    </a:lnTo>
                    <a:lnTo>
                      <a:pt x="216" y="44"/>
                    </a:lnTo>
                    <a:lnTo>
                      <a:pt x="124" y="60"/>
                    </a:lnTo>
                    <a:lnTo>
                      <a:pt x="72" y="76"/>
                    </a:lnTo>
                    <a:lnTo>
                      <a:pt x="40" y="92"/>
                    </a:lnTo>
                    <a:lnTo>
                      <a:pt x="0" y="116"/>
                    </a:lnTo>
                    <a:lnTo>
                      <a:pt x="8" y="116"/>
                    </a:ln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21040" y="3289320"/>
                <a:ext cx="177840" cy="108000"/>
              </a:xfrm>
              <a:custGeom>
                <a:avLst/>
                <a:gdLst/>
                <a:ahLst/>
                <a:rect l="l" t="t" r="r" b="b"/>
                <a:pathLst>
                  <a:path w="112" h="68">
                    <a:moveTo>
                      <a:pt x="16" y="40"/>
                    </a:moveTo>
                    <a:lnTo>
                      <a:pt x="0" y="0"/>
                    </a:lnTo>
                    <a:lnTo>
                      <a:pt x="60" y="20"/>
                    </a:lnTo>
                    <a:lnTo>
                      <a:pt x="112" y="44"/>
                    </a:lnTo>
                    <a:lnTo>
                      <a:pt x="76" y="68"/>
                    </a:lnTo>
                    <a:lnTo>
                      <a:pt x="40" y="60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"/>
          <p:cNvSpPr/>
          <p:nvPr/>
        </p:nvSpPr>
        <p:spPr>
          <a:xfrm>
            <a:off x="4241880" y="1447920"/>
            <a:ext cx="1828800" cy="761760"/>
          </a:xfrm>
          <a:prstGeom prst="wedgeRectCallout">
            <a:avLst>
              <a:gd name="adj1" fmla="val 16666"/>
              <a:gd name="adj2" fmla="val 155208"/>
            </a:avLst>
          </a:prstGeom>
          <a:solidFill>
            <a:srgbClr val="ffffff"/>
          </a:solidFill>
          <a:ln w="38160">
            <a:solidFill>
              <a:srgbClr val="030a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30a4d"/>
                </a:solidFill>
                <a:latin typeface="Arial"/>
              </a:rPr>
              <a:t>Фактичне виробниц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32440" y="2514600"/>
            <a:ext cx="2006640" cy="762120"/>
          </a:xfrm>
          <a:prstGeom prst="wedgeRectCallout">
            <a:avLst>
              <a:gd name="adj1" fmla="val -35759"/>
              <a:gd name="adj2" fmla="val 70208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Arial"/>
              </a:rPr>
              <a:t>Пла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Arial"/>
              </a:rPr>
              <a:t>наванта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451560" y="3733920"/>
            <a:ext cx="1955880" cy="761760"/>
          </a:xfrm>
          <a:prstGeom prst="wedgeRectCallout">
            <a:avLst>
              <a:gd name="adj1" fmla="val -21754"/>
              <a:gd name="adj2" fmla="val -87291"/>
            </a:avLst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актичне  наванта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-139680" y="0"/>
            <a:ext cx="92581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240" rIns="30240" tIns="60120" bIns="60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Необхідність в балансуван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794640" y="5435640"/>
            <a:ext cx="1447560" cy="2746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ff"/>
                </a:solidFill>
                <a:latin typeface="Arial"/>
              </a:rPr>
              <a:t>Час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(</a:t>
            </a:r>
            <a:r>
              <a:rPr b="0" lang="uk-UA" sz="1800" spc="-1" strike="noStrike">
                <a:solidFill>
                  <a:srgbClr val="0066ff"/>
                </a:solidFill>
                <a:latin typeface="Arial"/>
              </a:rPr>
              <a:t>години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06B7-8E6B-4B17-8B4D-0256810275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655560" y="1379520"/>
            <a:ext cx="7729560" cy="4619160"/>
            <a:chOff x="655560" y="1379520"/>
            <a:chExt cx="7729560" cy="4619160"/>
          </a:xfrm>
        </p:grpSpPr>
        <p:sp>
          <p:nvSpPr>
            <p:cNvPr id="606" name=""/>
            <p:cNvSpPr/>
            <p:nvPr/>
          </p:nvSpPr>
          <p:spPr>
            <a:xfrm>
              <a:off x="655560" y="1379520"/>
              <a:ext cx="7729560" cy="4616280"/>
            </a:xfrm>
            <a:prstGeom prst="bevel">
              <a:avLst>
                <a:gd name="adj" fmla="val 61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17040" y="1406880"/>
              <a:ext cx="0" cy="458100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20880" y="1418040"/>
              <a:ext cx="0" cy="458064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55160" y="1418040"/>
              <a:ext cx="0" cy="458064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665280" y="1203480"/>
            <a:ext cx="7732440" cy="193680"/>
          </a:xfrm>
          <a:prstGeom prst="bevel">
            <a:avLst>
              <a:gd name="adj" fmla="val 85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82520" y="146196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G Omega"/>
              </a:rPr>
              <a:t>На добу напе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87800" y="146196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G Omega"/>
              </a:rPr>
              <a:t>Того ж 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994080" y="1463760"/>
            <a:ext cx="9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G Omega"/>
              </a:rPr>
              <a:t>Розраху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19480" y="2017800"/>
            <a:ext cx="1185840" cy="11761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G Omega"/>
              </a:rPr>
              <a:t>Енергетична бір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239920" y="2026080"/>
            <a:ext cx="951120" cy="917640"/>
          </a:xfrm>
          <a:prstGeom prst="rightArrow">
            <a:avLst>
              <a:gd name="adj1" fmla="val 50000"/>
              <a:gd name="adj2" fmla="val 2591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Пропозиції е/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735120" y="1959120"/>
            <a:ext cx="1434960" cy="841320"/>
            <a:chOff x="735120" y="1959120"/>
            <a:chExt cx="1434960" cy="841320"/>
          </a:xfrm>
        </p:grpSpPr>
        <p:sp>
          <p:nvSpPr>
            <p:cNvPr id="617" name=""/>
            <p:cNvSpPr/>
            <p:nvPr/>
          </p:nvSpPr>
          <p:spPr>
            <a:xfrm>
              <a:off x="735120" y="1959120"/>
              <a:ext cx="1434960" cy="841320"/>
            </a:xfrm>
            <a:prstGeom prst="rect">
              <a:avLst/>
            </a:prstGeom>
            <a:solidFill>
              <a:srgbClr val="ffe28f"/>
            </a:solidFill>
            <a:ln w="0">
              <a:noFill/>
            </a:ln>
            <a:effectLst>
              <a:outerShdw dist="17819" dir="2700000" blurRad="0" rotWithShape="0">
                <a:srgbClr val="98875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5960" y="2175120"/>
              <a:ext cx="532080" cy="408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8080"/>
                  </a:solidFill>
                  <a:latin typeface="CG Omeg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43680" y="2175120"/>
              <a:ext cx="532080" cy="408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8080"/>
                  </a:solidFill>
                  <a:latin typeface="CG Omeg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23960" y="4022640"/>
            <a:ext cx="1458720" cy="851040"/>
            <a:chOff x="723960" y="4022640"/>
            <a:chExt cx="1458720" cy="851040"/>
          </a:xfrm>
        </p:grpSpPr>
        <p:sp>
          <p:nvSpPr>
            <p:cNvPr id="621" name=""/>
            <p:cNvSpPr/>
            <p:nvPr/>
          </p:nvSpPr>
          <p:spPr>
            <a:xfrm>
              <a:off x="723960" y="4022640"/>
              <a:ext cx="1458720" cy="851040"/>
            </a:xfrm>
            <a:prstGeom prst="rect">
              <a:avLst/>
            </a:prstGeom>
            <a:solidFill>
              <a:srgbClr val="ffe28f"/>
            </a:solidFill>
            <a:ln w="0">
              <a:noFill/>
            </a:ln>
            <a:effectLst>
              <a:outerShdw dist="17819" dir="2700000" blurRad="0" rotWithShape="0">
                <a:srgbClr val="98875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040" y="4263120"/>
              <a:ext cx="540000" cy="412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39360" y="4262400"/>
              <a:ext cx="540000" cy="412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8080"/>
                  </a:solidFill>
                  <a:latin typeface="CG Omega"/>
                </a:rPr>
                <a:t>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155000" y="5515920"/>
            <a:ext cx="966600" cy="45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Обчислені обся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6200000">
            <a:off x="7350120" y="4672080"/>
            <a:ext cx="579600" cy="1077840"/>
          </a:xfrm>
          <a:prstGeom prst="rightArrow">
            <a:avLst>
              <a:gd name="adj1" fmla="val 73750"/>
              <a:gd name="adj2" fmla="val 2508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Дані облі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47200" y="20505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830840" y="3056400"/>
            <a:ext cx="1310760" cy="989640"/>
            <a:chOff x="4830840" y="3056400"/>
            <a:chExt cx="1310760" cy="989640"/>
          </a:xfrm>
        </p:grpSpPr>
        <p:sp>
          <p:nvSpPr>
            <p:cNvPr id="628" name=""/>
            <p:cNvSpPr/>
            <p:nvPr/>
          </p:nvSpPr>
          <p:spPr>
            <a:xfrm>
              <a:off x="4830840" y="3088800"/>
              <a:ext cx="1310760" cy="957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Система складання графікі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78000" y="3056400"/>
              <a:ext cx="2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994440" y="3381480"/>
            <a:ext cx="1289160" cy="1630080"/>
            <a:chOff x="6994440" y="3381480"/>
            <a:chExt cx="1289160" cy="1630080"/>
          </a:xfrm>
        </p:grpSpPr>
        <p:sp>
          <p:nvSpPr>
            <p:cNvPr id="631" name=""/>
            <p:cNvSpPr/>
            <p:nvPr/>
          </p:nvSpPr>
          <p:spPr>
            <a:xfrm>
              <a:off x="6994440" y="3381480"/>
              <a:ext cx="1289160" cy="16300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CG Omega"/>
                </a:rPr>
                <a:t>Розпорядник розрахункі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62840" y="34509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Р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965160" y="2639880"/>
            <a:ext cx="961920" cy="1529640"/>
            <a:chOff x="965160" y="2639880"/>
            <a:chExt cx="961920" cy="1529640"/>
          </a:xfrm>
        </p:grpSpPr>
        <p:sp>
          <p:nvSpPr>
            <p:cNvPr id="634" name=""/>
            <p:cNvSpPr/>
            <p:nvPr/>
          </p:nvSpPr>
          <p:spPr>
            <a:xfrm>
              <a:off x="965160" y="2639880"/>
              <a:ext cx="0" cy="152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04840" y="2639880"/>
              <a:ext cx="682200" cy="152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047240" y="2639880"/>
              <a:ext cx="744840" cy="152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27080" y="2639880"/>
              <a:ext cx="0" cy="152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992160" y="3214800"/>
            <a:ext cx="8892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восто-ронні догов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809960" y="4413960"/>
            <a:ext cx="1336320" cy="1087920"/>
            <a:chOff x="4809960" y="4413960"/>
            <a:chExt cx="1336320" cy="1087920"/>
          </a:xfrm>
        </p:grpSpPr>
        <p:sp>
          <p:nvSpPr>
            <p:cNvPr id="640" name=""/>
            <p:cNvSpPr/>
            <p:nvPr/>
          </p:nvSpPr>
          <p:spPr>
            <a:xfrm>
              <a:off x="4809960" y="4434480"/>
              <a:ext cx="1336320" cy="1067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Балансуючий механі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60360" y="4413960"/>
              <a:ext cx="2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2433600" y="3629160"/>
            <a:ext cx="2409840" cy="479160"/>
          </a:xfrm>
          <a:prstGeom prst="rightArrow">
            <a:avLst>
              <a:gd name="adj1" fmla="val 66380"/>
              <a:gd name="adj2" fmla="val 6382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Графі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411280" y="4402080"/>
            <a:ext cx="2422800" cy="644760"/>
          </a:xfrm>
          <a:prstGeom prst="rightArrow">
            <a:avLst>
              <a:gd name="adj1" fmla="val 66380"/>
              <a:gd name="adj2" fmla="val 4768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Заявки / пропозиції від енергобл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33760" y="2365200"/>
            <a:ext cx="2624400" cy="479520"/>
          </a:xfrm>
          <a:prstGeom prst="rightArrow">
            <a:avLst>
              <a:gd name="adj1" fmla="val 66380"/>
              <a:gd name="adj2" fmla="val 6945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Операції за фіксованою цін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639960" y="3247920"/>
            <a:ext cx="30816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7080" y="4062240"/>
            <a:ext cx="255600" cy="339840"/>
          </a:xfrm>
          <a:prstGeom prst="upDownArrow">
            <a:avLst>
              <a:gd name="adj1" fmla="val 50000"/>
              <a:gd name="adj2" fmla="val 26468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38720" y="3417840"/>
            <a:ext cx="866880" cy="479520"/>
          </a:xfrm>
          <a:prstGeom prst="rightArrow">
            <a:avLst>
              <a:gd name="adj1" fmla="val 66380"/>
              <a:gd name="adj2" fmla="val 2294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Кінцеві графі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138720" y="4525920"/>
            <a:ext cx="866880" cy="479520"/>
          </a:xfrm>
          <a:prstGeom prst="rightArrow">
            <a:avLst>
              <a:gd name="adj1" fmla="val 66380"/>
              <a:gd name="adj2" fmla="val 2294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Опер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020000" y="2017800"/>
            <a:ext cx="1187280" cy="11761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G Omega"/>
              </a:rPr>
              <a:t>Розрахун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088760" y="2064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889360" y="5025960"/>
            <a:ext cx="1298160" cy="804960"/>
            <a:chOff x="2889360" y="5025960"/>
            <a:chExt cx="1298160" cy="804960"/>
          </a:xfrm>
        </p:grpSpPr>
        <p:sp>
          <p:nvSpPr>
            <p:cNvPr id="652" name=""/>
            <p:cNvSpPr/>
            <p:nvPr/>
          </p:nvSpPr>
          <p:spPr>
            <a:xfrm>
              <a:off x="2889360" y="5084640"/>
              <a:ext cx="1298160" cy="746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58120" y="50259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Р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946080" y="5210280"/>
            <a:ext cx="1874880" cy="555480"/>
          </a:xfrm>
          <a:prstGeom prst="rightArrow">
            <a:avLst>
              <a:gd name="adj1" fmla="val 66380"/>
              <a:gd name="adj2" fmla="val 4283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Повідомл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про догов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46080" y="4962600"/>
            <a:ext cx="30816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8480" y="123840"/>
            <a:ext cx="82188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Кінцева архітектура ринку</a:t>
            </a:r>
            <a:br>
              <a:rPr sz="3600"/>
            </a:b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568E-4DCD-445E-9181-33B374051C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53880" y="282600"/>
            <a:ext cx="8218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Двостороння торгівля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49320" y="1766880"/>
            <a:ext cx="5996160" cy="915840"/>
          </a:xfrm>
          <a:custGeom>
            <a:avLst/>
            <a:gdLst/>
            <a:ahLst/>
            <a:rect l="l" t="t" r="r" b="b"/>
            <a:pathLst>
              <a:path w="3328" h="577">
                <a:moveTo>
                  <a:pt x="2967" y="0"/>
                </a:moveTo>
                <a:lnTo>
                  <a:pt x="0" y="0"/>
                </a:lnTo>
                <a:lnTo>
                  <a:pt x="360" y="288"/>
                </a:lnTo>
                <a:lnTo>
                  <a:pt x="0" y="576"/>
                </a:lnTo>
                <a:lnTo>
                  <a:pt x="2967" y="576"/>
                </a:lnTo>
                <a:lnTo>
                  <a:pt x="3327" y="288"/>
                </a:lnTo>
                <a:lnTo>
                  <a:pt x="2967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4469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74600" y="2019600"/>
            <a:ext cx="474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ільш довготермінова двостороння торгів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60400" y="3591000"/>
            <a:ext cx="409248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часники торгують на двосторонній основі на кількох ринках (на біржі і поза біржею), які утворюються на вимогу ринкової ситуа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84160" y="1490760"/>
            <a:ext cx="5288040" cy="212760"/>
          </a:xfrm>
          <a:custGeom>
            <a:avLst/>
            <a:gdLst/>
            <a:ahLst/>
            <a:rect l="l" t="t" r="r" b="b"/>
            <a:pathLst>
              <a:path w="3330" h="134">
                <a:moveTo>
                  <a:pt x="0" y="133"/>
                </a:moveTo>
                <a:lnTo>
                  <a:pt x="6" y="120"/>
                </a:lnTo>
                <a:lnTo>
                  <a:pt x="24" y="107"/>
                </a:lnTo>
                <a:lnTo>
                  <a:pt x="48" y="96"/>
                </a:lnTo>
                <a:lnTo>
                  <a:pt x="83" y="87"/>
                </a:lnTo>
                <a:lnTo>
                  <a:pt x="125" y="78"/>
                </a:lnTo>
                <a:lnTo>
                  <a:pt x="172" y="72"/>
                </a:lnTo>
                <a:lnTo>
                  <a:pt x="225" y="69"/>
                </a:lnTo>
                <a:lnTo>
                  <a:pt x="279" y="67"/>
                </a:lnTo>
                <a:lnTo>
                  <a:pt x="1327" y="67"/>
                </a:lnTo>
                <a:lnTo>
                  <a:pt x="1386" y="65"/>
                </a:lnTo>
                <a:lnTo>
                  <a:pt x="1434" y="61"/>
                </a:lnTo>
                <a:lnTo>
                  <a:pt x="1481" y="56"/>
                </a:lnTo>
                <a:lnTo>
                  <a:pt x="1522" y="48"/>
                </a:lnTo>
                <a:lnTo>
                  <a:pt x="1558" y="37"/>
                </a:lnTo>
                <a:lnTo>
                  <a:pt x="1582" y="26"/>
                </a:lnTo>
                <a:lnTo>
                  <a:pt x="1599" y="13"/>
                </a:lnTo>
                <a:lnTo>
                  <a:pt x="1605" y="0"/>
                </a:lnTo>
                <a:lnTo>
                  <a:pt x="1611" y="13"/>
                </a:lnTo>
                <a:lnTo>
                  <a:pt x="1629" y="26"/>
                </a:lnTo>
                <a:lnTo>
                  <a:pt x="1653" y="37"/>
                </a:lnTo>
                <a:lnTo>
                  <a:pt x="1688" y="48"/>
                </a:lnTo>
                <a:lnTo>
                  <a:pt x="1730" y="56"/>
                </a:lnTo>
                <a:lnTo>
                  <a:pt x="1777" y="61"/>
                </a:lnTo>
                <a:lnTo>
                  <a:pt x="1830" y="65"/>
                </a:lnTo>
                <a:lnTo>
                  <a:pt x="1884" y="67"/>
                </a:lnTo>
                <a:lnTo>
                  <a:pt x="3051" y="67"/>
                </a:lnTo>
                <a:lnTo>
                  <a:pt x="3110" y="69"/>
                </a:lnTo>
                <a:lnTo>
                  <a:pt x="3157" y="72"/>
                </a:lnTo>
                <a:lnTo>
                  <a:pt x="3205" y="78"/>
                </a:lnTo>
                <a:lnTo>
                  <a:pt x="3246" y="87"/>
                </a:lnTo>
                <a:lnTo>
                  <a:pt x="3282" y="96"/>
                </a:lnTo>
                <a:lnTo>
                  <a:pt x="3305" y="107"/>
                </a:lnTo>
                <a:lnTo>
                  <a:pt x="3323" y="120"/>
                </a:lnTo>
                <a:lnTo>
                  <a:pt x="3329" y="1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520000" y="1130400"/>
            <a:ext cx="1852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ки наперед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197240" y="2833560"/>
            <a:ext cx="3835440" cy="470160"/>
          </a:xfrm>
          <a:custGeom>
            <a:avLst/>
            <a:gdLst/>
            <a:ahLst/>
            <a:rect l="l" t="t" r="r" b="b"/>
            <a:pathLst>
              <a:path w="1831" h="312">
                <a:moveTo>
                  <a:pt x="1372" y="0"/>
                </a:moveTo>
                <a:lnTo>
                  <a:pt x="0" y="0"/>
                </a:lnTo>
                <a:lnTo>
                  <a:pt x="457" y="155"/>
                </a:lnTo>
                <a:lnTo>
                  <a:pt x="0" y="311"/>
                </a:lnTo>
                <a:lnTo>
                  <a:pt x="1372" y="311"/>
                </a:lnTo>
                <a:lnTo>
                  <a:pt x="1830" y="155"/>
                </a:lnTo>
                <a:lnTo>
                  <a:pt x="1372" y="0"/>
                </a:lnTo>
              </a:path>
            </a:pathLst>
          </a:custGeom>
          <a:gradFill rotWithShape="0">
            <a:gsLst>
              <a:gs pos="0">
                <a:srgbClr val="b4469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227640" y="1503360"/>
            <a:ext cx="1857600" cy="212760"/>
          </a:xfrm>
          <a:custGeom>
            <a:avLst/>
            <a:gdLst/>
            <a:ahLst/>
            <a:rect l="l" t="t" r="r" b="b"/>
            <a:pathLst>
              <a:path w="1169" h="134">
                <a:moveTo>
                  <a:pt x="0" y="133"/>
                </a:moveTo>
                <a:lnTo>
                  <a:pt x="8" y="107"/>
                </a:lnTo>
                <a:lnTo>
                  <a:pt x="31" y="87"/>
                </a:lnTo>
                <a:lnTo>
                  <a:pt x="47" y="78"/>
                </a:lnTo>
                <a:lnTo>
                  <a:pt x="62" y="72"/>
                </a:lnTo>
                <a:lnTo>
                  <a:pt x="78" y="69"/>
                </a:lnTo>
                <a:lnTo>
                  <a:pt x="101" y="67"/>
                </a:lnTo>
                <a:lnTo>
                  <a:pt x="467" y="67"/>
                </a:lnTo>
                <a:lnTo>
                  <a:pt x="491" y="65"/>
                </a:lnTo>
                <a:lnTo>
                  <a:pt x="506" y="61"/>
                </a:lnTo>
                <a:lnTo>
                  <a:pt x="522" y="56"/>
                </a:lnTo>
                <a:lnTo>
                  <a:pt x="537" y="48"/>
                </a:lnTo>
                <a:lnTo>
                  <a:pt x="553" y="26"/>
                </a:lnTo>
                <a:lnTo>
                  <a:pt x="561" y="0"/>
                </a:lnTo>
                <a:lnTo>
                  <a:pt x="568" y="26"/>
                </a:lnTo>
                <a:lnTo>
                  <a:pt x="592" y="48"/>
                </a:lnTo>
                <a:lnTo>
                  <a:pt x="607" y="56"/>
                </a:lnTo>
                <a:lnTo>
                  <a:pt x="623" y="61"/>
                </a:lnTo>
                <a:lnTo>
                  <a:pt x="638" y="65"/>
                </a:lnTo>
                <a:lnTo>
                  <a:pt x="662" y="67"/>
                </a:lnTo>
                <a:lnTo>
                  <a:pt x="1067" y="67"/>
                </a:lnTo>
                <a:lnTo>
                  <a:pt x="1090" y="69"/>
                </a:lnTo>
                <a:lnTo>
                  <a:pt x="1106" y="72"/>
                </a:lnTo>
                <a:lnTo>
                  <a:pt x="1121" y="78"/>
                </a:lnTo>
                <a:lnTo>
                  <a:pt x="1137" y="87"/>
                </a:lnTo>
                <a:lnTo>
                  <a:pt x="1160" y="107"/>
                </a:lnTo>
                <a:lnTo>
                  <a:pt x="1168" y="1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056440" y="1959120"/>
            <a:ext cx="6480" cy="3908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319440" y="1117800"/>
            <a:ext cx="1465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одини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87880" y="2895840"/>
            <a:ext cx="4640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откотермінова двостороння торгів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60400" y="4938840"/>
            <a:ext cx="44766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часники забезпечують більшість своїх потреб у виробництві / навантаженні за рахунок більш довготермінових продуктів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273720" y="3479760"/>
            <a:ext cx="182880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отім коригують свої позиції у день постачання, коли непевненість зменшується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іржа продовжує працюв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207120" y="1959120"/>
            <a:ext cx="0" cy="3908160"/>
          </a:xfrm>
          <a:prstGeom prst="line">
            <a:avLst/>
          </a:prstGeom>
          <a:ln w="1260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7592040" y="2727000"/>
            <a:ext cx="13734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криття ворі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5DAF-7B41-4E1B-9D08-376ABE4D9B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0160" y="228600"/>
            <a:ext cx="86882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Закриття воріт” та балансуючий механізм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04000" y="1382760"/>
            <a:ext cx="839880" cy="1422360"/>
          </a:xfrm>
          <a:prstGeom prst="rect">
            <a:avLst/>
          </a:prstGeom>
          <a:solidFill>
            <a:srgbClr val="009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22520" y="1387440"/>
            <a:ext cx="4294440" cy="1428840"/>
          </a:xfrm>
          <a:custGeom>
            <a:avLst/>
            <a:gdLst>
              <a:gd name="textAreaLeft" fmla="*/ 0 w 4294440"/>
              <a:gd name="textAreaRight" fmla="*/ 4294800 w 42944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9" y="0"/>
                </a:lnTo>
                <a:lnTo>
                  <a:pt x="21600" y="10800"/>
                </a:lnTo>
                <a:lnTo>
                  <a:pt x="194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1c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8007480" y="804960"/>
            <a:ext cx="185760" cy="836640"/>
          </a:xfrm>
          <a:custGeom>
            <a:avLst/>
            <a:gdLst>
              <a:gd name="textAreaLeft" fmla="*/ 0 w 185760"/>
              <a:gd name="textAreaRight" fmla="*/ 66960 w 185760"/>
              <a:gd name="textAreaTop" fmla="*/ 21600 h 836640"/>
              <a:gd name="textAreaBottom" fmla="*/ 8150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06"/>
                </a:lnTo>
                <a:cubicBezTo>
                  <a:pt x="10800" y="9506"/>
                  <a:pt x="16200" y="10406"/>
                  <a:pt x="21600" y="10406"/>
                </a:cubicBezTo>
                <a:cubicBezTo>
                  <a:pt x="16200" y="10406"/>
                  <a:pt x="10800" y="11306"/>
                  <a:pt x="10800" y="122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7414200" y="187200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мерційний пері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917240" y="1067760"/>
            <a:ext cx="11523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о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524000" y="813600"/>
            <a:ext cx="10839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366440" y="1905840"/>
            <a:ext cx="25239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алансуючий механі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985680" y="1380960"/>
            <a:ext cx="2360880" cy="1422720"/>
          </a:xfrm>
          <a:custGeom>
            <a:avLst/>
            <a:gdLst>
              <a:gd name="textAreaLeft" fmla="*/ 0 w 2360880"/>
              <a:gd name="textAreaRight" fmla="*/ 2361240 w 2360880"/>
              <a:gd name="textAreaTop" fmla="*/ 0 h 1422720"/>
              <a:gd name="textAreaBottom" fmla="*/ 1423080 h 142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2" y="0"/>
                </a:lnTo>
                <a:lnTo>
                  <a:pt x="21600" y="10800"/>
                </a:lnTo>
                <a:lnTo>
                  <a:pt x="19212" y="21600"/>
                </a:lnTo>
                <a:lnTo>
                  <a:pt x="0" y="21600"/>
                </a:lnTo>
                <a:lnTo>
                  <a:pt x="2388" y="10800"/>
                </a:lnTo>
                <a:close/>
              </a:path>
            </a:pathLst>
          </a:custGeom>
          <a:gradFill rotWithShape="0">
            <a:gsLst>
              <a:gs pos="0">
                <a:srgbClr val="b4469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989800" y="1882800"/>
            <a:ext cx="13287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криття ворі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3120" y="1964520"/>
            <a:ext cx="24159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востороння торгів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435480" y="1581120"/>
            <a:ext cx="0" cy="4149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33640" y="3368520"/>
            <a:ext cx="33688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ля балансування системи у реальному часі і розв'язання мережних обмежень Системний оператор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приймає заявки та пропозиції до Балансуючого механізму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16200000">
            <a:off x="6589440" y="3988440"/>
            <a:ext cx="30924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 algn="ctr"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часники відпускають / приймають електроенергію на базі договірних зобов'яз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719840" y="1449360"/>
            <a:ext cx="0" cy="4221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607600" y="1555920"/>
            <a:ext cx="0" cy="4290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rot="16200000">
            <a:off x="1941480" y="188640"/>
            <a:ext cx="210960" cy="2243160"/>
          </a:xfrm>
          <a:custGeom>
            <a:avLst/>
            <a:gdLst>
              <a:gd name="textAreaLeft" fmla="*/ 0 w 210960"/>
              <a:gd name="textAreaRight" fmla="*/ 75960 w 210960"/>
              <a:gd name="textAreaTop" fmla="*/ 58320 h 2243160"/>
              <a:gd name="textAreaBottom" fmla="*/ 218484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06"/>
                </a:lnTo>
                <a:cubicBezTo>
                  <a:pt x="10800" y="9506"/>
                  <a:pt x="16200" y="10406"/>
                  <a:pt x="21600" y="10406"/>
                </a:cubicBezTo>
                <a:cubicBezTo>
                  <a:pt x="16200" y="10406"/>
                  <a:pt x="10800" y="11306"/>
                  <a:pt x="10800" y="122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232280" y="928080"/>
            <a:ext cx="18536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ки наперед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1640" y="2831040"/>
            <a:ext cx="303552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 момент “закриття воріт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востороння торгівля припиняється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говірні обсяги повідомляються Розпоряднику розрахунків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а повідомлення про фізичні графіки надсилаються СО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..and Bids and Offers are submitted to the Balancing Mech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C24F-8782-4E1E-B0A3-F7D7C93442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5400" y="40968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Розрахунки за небаланси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52680" y="1955880"/>
            <a:ext cx="344520" cy="1436760"/>
          </a:xfrm>
          <a:prstGeom prst="rect">
            <a:avLst/>
          </a:prstGeom>
          <a:solidFill>
            <a:srgbClr val="dbb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846440" y="1955880"/>
            <a:ext cx="1520640" cy="1395360"/>
          </a:xfrm>
          <a:custGeom>
            <a:avLst/>
            <a:gdLst>
              <a:gd name="textAreaLeft" fmla="*/ 0 w 1520640"/>
              <a:gd name="textAreaRight" fmla="*/ 1521000 w 1520640"/>
              <a:gd name="textAreaTop" fmla="*/ 0 h 1395360"/>
              <a:gd name="textAreaBottom" fmla="*/ 1395360 h 13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9" y="0"/>
                </a:lnTo>
                <a:lnTo>
                  <a:pt x="21600" y="10800"/>
                </a:lnTo>
                <a:lnTo>
                  <a:pt x="194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1c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16200000">
            <a:off x="3426480" y="1614960"/>
            <a:ext cx="211320" cy="330120"/>
          </a:xfrm>
          <a:custGeom>
            <a:avLst/>
            <a:gdLst>
              <a:gd name="textAreaLeft" fmla="*/ 0 w 211320"/>
              <a:gd name="textAreaRight" fmla="*/ 76320 w 211320"/>
              <a:gd name="textAreaTop" fmla="*/ 8280 h 330120"/>
              <a:gd name="textAreaBottom" fmla="*/ 3218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06"/>
                </a:lnTo>
                <a:cubicBezTo>
                  <a:pt x="10800" y="9506"/>
                  <a:pt x="16200" y="10406"/>
                  <a:pt x="21600" y="10406"/>
                </a:cubicBezTo>
                <a:cubicBezTo>
                  <a:pt x="16200" y="10406"/>
                  <a:pt x="10800" y="11306"/>
                  <a:pt x="10800" y="122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16200000">
            <a:off x="2469240" y="987840"/>
            <a:ext cx="211320" cy="1584360"/>
          </a:xfrm>
          <a:custGeom>
            <a:avLst/>
            <a:gdLst>
              <a:gd name="textAreaLeft" fmla="*/ 0 w 211320"/>
              <a:gd name="textAreaRight" fmla="*/ 76320 w 2113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06"/>
                </a:lnTo>
                <a:cubicBezTo>
                  <a:pt x="10800" y="9506"/>
                  <a:pt x="16200" y="10406"/>
                  <a:pt x="21600" y="10406"/>
                </a:cubicBezTo>
                <a:cubicBezTo>
                  <a:pt x="16200" y="10406"/>
                  <a:pt x="10800" y="11306"/>
                  <a:pt x="10800" y="122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rot="16200000">
            <a:off x="2911320" y="2442960"/>
            <a:ext cx="1270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ading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938960" y="1372320"/>
            <a:ext cx="11523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о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056400" y="1372320"/>
            <a:ext cx="10274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697200" y="1955880"/>
            <a:ext cx="3961080" cy="1433520"/>
          </a:xfrm>
          <a:custGeom>
            <a:avLst/>
            <a:gdLst>
              <a:gd name="textAreaLeft" fmla="*/ 0 w 3961080"/>
              <a:gd name="textAreaRight" fmla="*/ 3961440 w 396108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abd97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97600" y="2472480"/>
            <a:ext cx="27327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рахунки за небала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47880" y="2386080"/>
            <a:ext cx="1255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lancing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4440" y="2044800"/>
            <a:ext cx="1432080" cy="131760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2" y="0"/>
                </a:lnTo>
                <a:lnTo>
                  <a:pt x="21600" y="10800"/>
                </a:lnTo>
                <a:lnTo>
                  <a:pt x="19212" y="21600"/>
                </a:lnTo>
                <a:lnTo>
                  <a:pt x="0" y="21600"/>
                </a:lnTo>
                <a:lnTo>
                  <a:pt x="2388" y="10800"/>
                </a:lnTo>
                <a:close/>
              </a:path>
            </a:pathLst>
          </a:custGeom>
          <a:gradFill rotWithShape="0">
            <a:gsLst>
              <a:gs pos="0">
                <a:srgbClr val="b4469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rot="16200000">
            <a:off x="956520" y="2596320"/>
            <a:ext cx="1622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криття ворі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39760" y="2455200"/>
            <a:ext cx="1338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восторо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оргів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697200" y="1955880"/>
            <a:ext cx="0" cy="4290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955440" y="1045440"/>
            <a:ext cx="198360" cy="1455840"/>
          </a:xfrm>
          <a:custGeom>
            <a:avLst/>
            <a:gdLst>
              <a:gd name="textAreaLeft" fmla="*/ 0 w 198360"/>
              <a:gd name="textAreaRight" fmla="*/ 71640 w 19836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06"/>
                </a:lnTo>
                <a:cubicBezTo>
                  <a:pt x="10800" y="9506"/>
                  <a:pt x="16200" y="10406"/>
                  <a:pt x="21600" y="10406"/>
                </a:cubicBezTo>
                <a:cubicBezTo>
                  <a:pt x="16200" y="10406"/>
                  <a:pt x="10800" y="11306"/>
                  <a:pt x="10800" y="122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7680" y="1372320"/>
            <a:ext cx="18532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ки наперед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89440" y="3510000"/>
            <a:ext cx="50306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 marL="228600" indent="-228600"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латежі за двосторонніми договорами виконуються між відповідними сторонами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99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 централізованим розрахунковим механізмом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ебаланси енергопостачань учасників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договірні обсяги мінус виміряний відпуск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раховуються за ціною небалансу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 виконуються платежі за операції балансуючого механізму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98960" y="1372320"/>
            <a:ext cx="17877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Апостеріорні д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697200" y="177948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8DAB-C319-44AF-8D77-22E078CABF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Arial"/>
              </a:rPr>
              <a:t>Зміс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ступ до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лючові характеристики нового ринк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цес переход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8D348-3B58-42C1-965C-E2C6AF39EE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333360"/>
            <a:ext cx="823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торони  балансуючого  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04760" y="1217880"/>
            <a:ext cx="8899560" cy="4947840"/>
            <a:chOff x="104760" y="1217880"/>
            <a:chExt cx="8899560" cy="4947840"/>
          </a:xfrm>
        </p:grpSpPr>
        <p:sp>
          <p:nvSpPr>
            <p:cNvPr id="713" name=""/>
            <p:cNvSpPr/>
            <p:nvPr/>
          </p:nvSpPr>
          <p:spPr>
            <a:xfrm flipH="1" flipV="1">
              <a:off x="5495760" y="4962600"/>
              <a:ext cx="2084400" cy="65088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5554800" y="2641680"/>
              <a:ext cx="2133360" cy="8157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27640" y="1557360"/>
              <a:ext cx="0" cy="46083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30600" y="3213000"/>
              <a:ext cx="3289320" cy="200664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Балансуючий  рин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16360" y="1217880"/>
              <a:ext cx="4281480" cy="13136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Futura Md BT"/>
                </a:rPr>
                <a:t>Сторони, що  знаходяться  поз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Futura Md BT"/>
                </a:rPr>
                <a:t>балансом</a:t>
              </a:r>
              <a:r>
                <a:rPr b="1" lang="en-GB" sz="2000" spc="-1" strike="noStrike">
                  <a:solidFill>
                    <a:srgbClr val="000000"/>
                  </a:solidFill>
                  <a:latin typeface="Futura Md B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333399"/>
                  </a:solidFill>
                  <a:latin typeface="Arial"/>
                </a:rPr>
                <a:t>Несанкціоновані  відхил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4000" y="1356120"/>
              <a:ext cx="3938400" cy="100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Futura Md BT"/>
                </a:rPr>
                <a:t>Сторона, що  забезпечує баланс</a:t>
              </a:r>
              <a:r>
                <a:rPr b="1" lang="en-US" sz="2000" spc="-1" strike="noStrike">
                  <a:solidFill>
                    <a:srgbClr val="000000"/>
                  </a:solidFill>
                  <a:latin typeface="Futura Md B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333399"/>
                  </a:solidFill>
                  <a:latin typeface="Arial"/>
                </a:rPr>
                <a:t>Санкціоновані  відхил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8000" y="2565360"/>
              <a:ext cx="1306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3300"/>
                  </a:solidFill>
                  <a:latin typeface="Arial"/>
                </a:rPr>
                <a:t>Генеруючі  компані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3300"/>
                  </a:solidFill>
                  <a:latin typeface="Arial"/>
                </a:rPr>
                <a:t>Спожива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1390680" y="2585520"/>
              <a:ext cx="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390680" y="301932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4760" y="5084640"/>
              <a:ext cx="13082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3300"/>
                  </a:solidFill>
                  <a:latin typeface="Arial"/>
                </a:rPr>
                <a:t>Генеруючі  компані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3300"/>
                  </a:solidFill>
                  <a:latin typeface="Arial"/>
                </a:rPr>
                <a:t>Спожива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80960" y="513252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380960" y="549108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32720" y="2492280"/>
              <a:ext cx="13716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3300"/>
                  </a:solidFill>
                  <a:latin typeface="Arial"/>
                </a:rPr>
                <a:t>Учасник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3300"/>
                  </a:solidFill>
                  <a:latin typeface="Arial"/>
                </a:rPr>
                <a:t>що  мають дефіц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32720" y="51577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3300"/>
                  </a:solidFill>
                  <a:latin typeface="Arial"/>
                </a:rPr>
                <a:t>Учасники, що  мають надлиш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5935320" y="3103560"/>
              <a:ext cx="1660680" cy="756720"/>
              <a:chOff x="5935320" y="3103560"/>
              <a:chExt cx="1660680" cy="756720"/>
            </a:xfrm>
          </p:grpSpPr>
          <p:sp>
            <p:nvSpPr>
              <p:cNvPr id="728" name=""/>
              <p:cNvSpPr/>
              <p:nvPr/>
            </p:nvSpPr>
            <p:spPr>
              <a:xfrm flipH="1">
                <a:off x="5935320" y="3103560"/>
                <a:ext cx="1660680" cy="65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948000" y="3463920"/>
                <a:ext cx="1515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 Narrow"/>
                  </a:rPr>
                  <a:t>$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5940360" y="4508640"/>
              <a:ext cx="1685520" cy="579240"/>
              <a:chOff x="5940360" y="4508640"/>
              <a:chExt cx="1685520" cy="579240"/>
            </a:xfrm>
          </p:grpSpPr>
          <p:sp>
            <p:nvSpPr>
              <p:cNvPr id="731" name=""/>
              <p:cNvSpPr/>
              <p:nvPr/>
            </p:nvSpPr>
            <p:spPr>
              <a:xfrm flipH="1" flipV="1">
                <a:off x="5940360" y="4562280"/>
                <a:ext cx="1685520" cy="52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41520" y="4508640"/>
                <a:ext cx="1515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 Narrow"/>
                  </a:rPr>
                  <a:t>$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508040" y="4508640"/>
              <a:ext cx="1371600" cy="753480"/>
              <a:chOff x="1508040" y="4508640"/>
              <a:chExt cx="1371600" cy="753480"/>
            </a:xfrm>
          </p:grpSpPr>
          <p:sp>
            <p:nvSpPr>
              <p:cNvPr id="734" name=""/>
              <p:cNvSpPr/>
              <p:nvPr/>
            </p:nvSpPr>
            <p:spPr>
              <a:xfrm flipH="1">
                <a:off x="1508040" y="4645800"/>
                <a:ext cx="1371600" cy="61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055600" y="4508640"/>
                <a:ext cx="1515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 Narrow"/>
                  </a:rPr>
                  <a:t>$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1432080" y="3186000"/>
              <a:ext cx="1400040" cy="747360"/>
              <a:chOff x="1432080" y="3186000"/>
              <a:chExt cx="1400040" cy="747360"/>
            </a:xfrm>
          </p:grpSpPr>
          <p:sp>
            <p:nvSpPr>
              <p:cNvPr id="737" name=""/>
              <p:cNvSpPr/>
              <p:nvPr/>
            </p:nvSpPr>
            <p:spPr>
              <a:xfrm>
                <a:off x="1432080" y="3186000"/>
                <a:ext cx="1400040" cy="63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942920" y="3537000"/>
                <a:ext cx="1515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 Narrow"/>
                  </a:rPr>
                  <a:t>$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5969160" y="2563920"/>
              <a:ext cx="141120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080"/>
                  </a:solidFill>
                  <a:latin typeface="Arial"/>
                </a:rPr>
                <a:t>СО продає</a:t>
              </a:r>
              <a:r>
                <a:rPr b="1" lang="en-US" sz="2000" spc="-1" strike="noStrike">
                  <a:solidFill>
                    <a:srgbClr val="008080"/>
                  </a:solidFill>
                  <a:latin typeface="Arial"/>
                </a:rPr>
                <a:t> (‘</a:t>
              </a:r>
              <a:r>
                <a:rPr b="1" lang="uk-UA" sz="2000" spc="-1" strike="noStrike">
                  <a:solidFill>
                    <a:srgbClr val="008080"/>
                  </a:solidFill>
                  <a:latin typeface="Arial"/>
                </a:rPr>
                <a:t>добавку</a:t>
              </a:r>
              <a:r>
                <a:rPr b="1" lang="en-US" sz="2000" spc="-1" strike="noStrike">
                  <a:solidFill>
                    <a:srgbClr val="008080"/>
                  </a:solidFill>
                  <a:latin typeface="Arial"/>
                </a:rPr>
                <a:t>’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94320" y="5049720"/>
              <a:ext cx="167652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080"/>
                  </a:solidFill>
                  <a:latin typeface="Arial"/>
                </a:rPr>
                <a:t>СО  купує</a:t>
              </a:r>
              <a:r>
                <a:rPr b="1" lang="en-US" sz="2000" spc="-1" strike="noStrike">
                  <a:solidFill>
                    <a:srgbClr val="008080"/>
                  </a:solidFill>
                  <a:latin typeface="Arial"/>
                </a:rPr>
                <a:t> (‘</a:t>
              </a:r>
              <a:r>
                <a:rPr b="1" lang="uk-UA" sz="2000" spc="-1" strike="noStrike">
                  <a:solidFill>
                    <a:srgbClr val="008080"/>
                  </a:solidFill>
                  <a:latin typeface="Arial"/>
                </a:rPr>
                <a:t>надлишок</a:t>
              </a:r>
              <a:r>
                <a:rPr b="1" lang="en-US" sz="2000" spc="-1" strike="noStrike">
                  <a:solidFill>
                    <a:srgbClr val="008080"/>
                  </a:solidFill>
                  <a:latin typeface="Arial"/>
                </a:rPr>
                <a:t>’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98680" y="2695680"/>
              <a:ext cx="1703160" cy="753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784520" y="2698920"/>
              <a:ext cx="136044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080"/>
                  </a:solidFill>
                  <a:latin typeface="Arial"/>
                </a:rPr>
                <a:t>СО купує</a:t>
              </a:r>
              <a:r>
                <a:rPr b="1" lang="en-US" sz="2000" spc="-1" strike="noStrike">
                  <a:solidFill>
                    <a:srgbClr val="008080"/>
                  </a:solidFill>
                  <a:latin typeface="Arial"/>
                </a:rPr>
                <a:t> (‘</a:t>
              </a:r>
              <a:r>
                <a:rPr b="1" lang="uk-UA" sz="2000" spc="-1" strike="noStrike">
                  <a:solidFill>
                    <a:srgbClr val="008080"/>
                  </a:solidFill>
                  <a:latin typeface="Arial"/>
                </a:rPr>
                <a:t>добавку</a:t>
              </a:r>
              <a:r>
                <a:rPr b="1" lang="en-US" sz="2000" spc="-1" strike="noStrike">
                  <a:solidFill>
                    <a:srgbClr val="008080"/>
                  </a:solidFill>
                  <a:latin typeface="Arial"/>
                </a:rPr>
                <a:t>’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862360" y="5022720"/>
              <a:ext cx="411120" cy="17460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1474560" y="5199120"/>
              <a:ext cx="1968840" cy="610200"/>
              <a:chOff x="1474560" y="5199120"/>
              <a:chExt cx="1968840" cy="610200"/>
            </a:xfrm>
          </p:grpSpPr>
          <p:sp>
            <p:nvSpPr>
              <p:cNvPr id="745" name=""/>
              <p:cNvSpPr/>
              <p:nvPr/>
            </p:nvSpPr>
            <p:spPr>
              <a:xfrm flipH="1">
                <a:off x="1474560" y="5627520"/>
                <a:ext cx="409320" cy="17496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805040" y="5199120"/>
                <a:ext cx="1638360" cy="61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8080"/>
                    </a:solidFill>
                    <a:latin typeface="Arial"/>
                  </a:rPr>
                  <a:t>СО продає</a:t>
                </a:r>
                <a:r>
                  <a:rPr b="1" lang="en-US" sz="2000" spc="-1" strike="noStrike">
                    <a:solidFill>
                      <a:srgbClr val="008080"/>
                    </a:solidFill>
                    <a:latin typeface="Arial"/>
                  </a:rPr>
                  <a:t> (‘</a:t>
                </a:r>
                <a:r>
                  <a:rPr b="1" lang="uk-UA" sz="2000" spc="-1" strike="noStrike">
                    <a:solidFill>
                      <a:srgbClr val="008080"/>
                    </a:solidFill>
                    <a:latin typeface="Arial"/>
                  </a:rPr>
                  <a:t>надлишок</a:t>
                </a:r>
                <a:r>
                  <a:rPr b="1" lang="en-US" sz="2000" spc="-1" strike="noStrike">
                    <a:solidFill>
                      <a:srgbClr val="008080"/>
                    </a:solidFill>
                    <a:latin typeface="Arial"/>
                  </a:rPr>
                  <a:t>’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B88B-E010-440A-8BD0-0C0957472B8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Arial"/>
              </a:rPr>
              <a:t>Зміс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туп до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лючові характеристики нового ринк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Процес переход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C61D-B560-4A8F-9BA3-D7133B47C5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68000" y="334440"/>
            <a:ext cx="8218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Поетапний перехід протягом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років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1173240" y="1108080"/>
            <a:ext cx="6954840" cy="50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68BB-9F24-4588-93C6-B263D98504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63080" y="295200"/>
            <a:ext cx="8497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Чотири етапи реформування ринку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07960" y="139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тап 1 – Початкове навчання</a:t>
            </a:r>
            <a:br>
              <a:rPr sz="20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вчити учасників ринку укладати двосторонні догов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тап 2 – Запровадження балансуючого механі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асники ринку підпадають під ризик небалансу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креслюється необхідність навчитися точному плануванню та прогнозуванню спожи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тап 3 – Запровадження самостійного складання графіків</a:t>
            </a:r>
            <a:br>
              <a:rPr sz="20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хід від централізованого до самостійного складання індивідуальних графіків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міна пулу двосторонніми торгами та біржею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тап 4 – Завершення роботи обов’язкового ринку</a:t>
            </a:r>
            <a:br>
              <a:rPr sz="20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сунення залишкових перехідних механізм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D833-1035-4F04-8AC0-1E1970C95C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3" name=""/>
          <p:cNvGraphicFramePr/>
          <p:nvPr/>
        </p:nvGraphicFramePr>
        <p:xfrm>
          <a:off x="426960" y="1649520"/>
          <a:ext cx="8229600" cy="3990960"/>
        </p:xfrm>
        <a:graphic>
          <a:graphicData uri="http://schemas.openxmlformats.org/drawingml/2006/table">
            <a:tbl>
              <a:tblPr/>
              <a:tblGrid>
                <a:gridCol w="2246040"/>
                <a:gridCol w="1868760"/>
                <a:gridCol w="2057400"/>
                <a:gridCol w="2057400"/>
              </a:tblGrid>
              <a:tr h="41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тап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тап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тап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ергетична бір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домл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адання графіків </a:t>
                      </a:r>
                      <a:br>
                        <a:rPr sz="1600"/>
                      </a:b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у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ійне складання графі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уючий механі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порядник розрахун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рахунок п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4" name=""/>
          <p:cNvSpPr/>
          <p:nvPr/>
        </p:nvSpPr>
        <p:spPr>
          <a:xfrm>
            <a:off x="528480" y="123840"/>
            <a:ext cx="82188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Ринок двосторонніх договорів</a:t>
            </a:r>
            <a:br>
              <a:rPr sz="3200"/>
            </a:b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Перехідний пері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7FE85-24FF-4875-A1AC-455309AE11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Участь в новому ринку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 этапах 1-2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015920" y="1739880"/>
            <a:ext cx="3530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робник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41800" y="1739880"/>
            <a:ext cx="353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живачі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84800" y="2362320"/>
            <a:ext cx="23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ічне споживанн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210360" y="299736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кс. навантаженн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261120" y="3683160"/>
            <a:ext cx="23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кто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273720" y="433080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гіон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ідключенн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311880" y="4965840"/>
            <a:ext cx="109224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лік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286680" y="5549760"/>
            <a:ext cx="224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бір критерії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88840" y="262908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Е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981080" y="261612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08440" y="26161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Е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051440" y="264168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Ц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7960" y="320040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666880" y="323856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і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32259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і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117440" y="3200400"/>
            <a:ext cx="622440" cy="368280"/>
          </a:xfrm>
          <a:prstGeom prst="rect">
            <a:avLst/>
          </a:prstGeom>
          <a:solidFill>
            <a:srgbClr val="33cc3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а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905120" y="3225960"/>
            <a:ext cx="62208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а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444920" y="3251160"/>
            <a:ext cx="622440" cy="368280"/>
          </a:xfrm>
          <a:prstGeom prst="rect">
            <a:avLst/>
          </a:prstGeom>
          <a:solidFill>
            <a:srgbClr val="33cc3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а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06640" y="380988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панії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019240" y="421632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нції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070000" y="466092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лок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082960" y="5067360"/>
            <a:ext cx="102852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от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320840" y="5626080"/>
            <a:ext cx="149868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ля компаній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035160" y="560088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ля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станцій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85840" y="3933720"/>
            <a:ext cx="142236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ханізм регулювання додаткових доход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44920" y="3924360"/>
            <a:ext cx="13208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Спеціальні правила Б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5892480" y="2108160"/>
            <a:ext cx="12600" cy="355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905440" y="256536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18040" y="316224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931000" y="3848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931000" y="45212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918040" y="514368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905440" y="565164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666880" y="210816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155600" y="2349360"/>
            <a:ext cx="33022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1155600" y="2362320"/>
            <a:ext cx="12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209680" y="2374920"/>
            <a:ext cx="12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263760" y="2387520"/>
            <a:ext cx="12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4431960" y="2400480"/>
            <a:ext cx="1260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68560" y="28828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286000" y="292104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13000" y="2946240"/>
            <a:ext cx="0" cy="1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381560" y="2946240"/>
            <a:ext cx="0" cy="1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00280" y="3022560"/>
            <a:ext cx="67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908440" y="3111480"/>
            <a:ext cx="67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076640" y="31114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00280" y="30099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460520" y="30225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33640" y="31240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594240" y="31114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076640" y="30988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724280" y="3086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600200" y="3632040"/>
            <a:ext cx="126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981080" y="3594240"/>
            <a:ext cx="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87600" y="374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790280" y="3759120"/>
            <a:ext cx="1260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803240" y="398772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803240" y="43689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803240" y="48387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03240" y="52833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502000" y="541008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879560" y="5486400"/>
            <a:ext cx="14097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866960" y="551196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251160" y="5511960"/>
            <a:ext cx="1260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193760" y="3632040"/>
            <a:ext cx="0" cy="27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16600" y="36194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251160" y="3238560"/>
            <a:ext cx="622440" cy="368280"/>
          </a:xfrm>
          <a:prstGeom prst="rect">
            <a:avLst/>
          </a:prstGeom>
          <a:solidFill>
            <a:srgbClr val="33cc3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а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301920" y="4648320"/>
            <a:ext cx="16509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Що не потрібно для баланс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94240" y="369576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EDE1-7270-4B3C-9E75-426D5C085D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1479600" y="15382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546440" y="1544760"/>
            <a:ext cx="2617920" cy="39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546440" y="1584360"/>
            <a:ext cx="2617920" cy="47520"/>
          </a:xfrm>
          <a:prstGeom prst="rect">
            <a:avLst/>
          </a:prstGeom>
          <a:solidFill>
            <a:srgbClr val="68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546440" y="1631880"/>
            <a:ext cx="2617920" cy="49320"/>
          </a:xfrm>
          <a:prstGeom prst="rect">
            <a:avLst/>
          </a:prstGeom>
          <a:solidFill>
            <a:srgbClr val="6a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546440" y="1681200"/>
            <a:ext cx="2617920" cy="30240"/>
          </a:xfrm>
          <a:prstGeom prst="rect">
            <a:avLst/>
          </a:prstGeom>
          <a:solidFill>
            <a:srgbClr val="6c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546440" y="1711440"/>
            <a:ext cx="2617920" cy="31680"/>
          </a:xfrm>
          <a:prstGeom prst="rect">
            <a:avLst/>
          </a:prstGeom>
          <a:solidFill>
            <a:srgbClr val="6e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546440" y="1743120"/>
            <a:ext cx="2617920" cy="31680"/>
          </a:xfrm>
          <a:prstGeom prst="rect">
            <a:avLst/>
          </a:prstGeom>
          <a:solidFill>
            <a:srgbClr val="70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46440" y="1774800"/>
            <a:ext cx="2617920" cy="31680"/>
          </a:xfrm>
          <a:prstGeom prst="rect">
            <a:avLst/>
          </a:prstGeom>
          <a:solidFill>
            <a:srgbClr val="72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546440" y="1806480"/>
            <a:ext cx="2617920" cy="31680"/>
          </a:xfrm>
          <a:prstGeom prst="rect">
            <a:avLst/>
          </a:prstGeom>
          <a:solidFill>
            <a:srgbClr val="74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46440" y="1838160"/>
            <a:ext cx="2617920" cy="17640"/>
          </a:xfrm>
          <a:prstGeom prst="rect">
            <a:avLst/>
          </a:prstGeom>
          <a:solidFill>
            <a:srgbClr val="76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546440" y="1855800"/>
            <a:ext cx="2617920" cy="28440"/>
          </a:xfrm>
          <a:prstGeom prst="rect">
            <a:avLst/>
          </a:prstGeom>
          <a:solidFill>
            <a:srgbClr val="78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546440" y="1884240"/>
            <a:ext cx="2617920" cy="20880"/>
          </a:xfrm>
          <a:prstGeom prst="rect">
            <a:avLst/>
          </a:prstGeom>
          <a:solidFill>
            <a:srgbClr val="7a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546440" y="1905120"/>
            <a:ext cx="2617920" cy="23760"/>
          </a:xfrm>
          <a:prstGeom prst="rect">
            <a:avLst/>
          </a:prstGeom>
          <a:solidFill>
            <a:srgbClr val="7c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546440" y="1928880"/>
            <a:ext cx="2617920" cy="19080"/>
          </a:xfrm>
          <a:prstGeom prst="rect">
            <a:avLst/>
          </a:prstGeom>
          <a:solidFill>
            <a:srgbClr val="7e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46440" y="1947960"/>
            <a:ext cx="2617920" cy="27000"/>
          </a:xfrm>
          <a:prstGeom prst="rect">
            <a:avLst/>
          </a:prstGeom>
          <a:solidFill>
            <a:srgbClr val="80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546440" y="1974960"/>
            <a:ext cx="2617920" cy="20520"/>
          </a:xfrm>
          <a:prstGeom prst="rect">
            <a:avLst/>
          </a:prstGeom>
          <a:solidFill>
            <a:srgbClr val="82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46440" y="1995480"/>
            <a:ext cx="2617920" cy="20520"/>
          </a:xfrm>
          <a:prstGeom prst="rect">
            <a:avLst/>
          </a:prstGeom>
          <a:solidFill>
            <a:srgbClr val="84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546440" y="2016000"/>
            <a:ext cx="2617920" cy="15840"/>
          </a:xfrm>
          <a:prstGeom prst="rect">
            <a:avLst/>
          </a:prstGeom>
          <a:solidFill>
            <a:srgbClr val="86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546440" y="2031840"/>
            <a:ext cx="2617920" cy="16200"/>
          </a:xfrm>
          <a:prstGeom prst="rect">
            <a:avLst/>
          </a:prstGeom>
          <a:solidFill>
            <a:srgbClr val="88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546440" y="2048040"/>
            <a:ext cx="2617920" cy="21960"/>
          </a:xfrm>
          <a:prstGeom prst="rect">
            <a:avLst/>
          </a:prstGeom>
          <a:solidFill>
            <a:srgbClr val="8a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546440" y="2070000"/>
            <a:ext cx="2617920" cy="17640"/>
          </a:xfrm>
          <a:prstGeom prst="rect">
            <a:avLst/>
          </a:prstGeom>
          <a:solidFill>
            <a:srgbClr val="8c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546440" y="2087640"/>
            <a:ext cx="2617920" cy="17280"/>
          </a:xfrm>
          <a:prstGeom prst="rect">
            <a:avLst/>
          </a:prstGeom>
          <a:solidFill>
            <a:srgbClr val="8e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546440" y="2104920"/>
            <a:ext cx="2617920" cy="20880"/>
          </a:xfrm>
          <a:prstGeom prst="rect">
            <a:avLst/>
          </a:prstGeom>
          <a:solidFill>
            <a:srgbClr val="90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546440" y="2125800"/>
            <a:ext cx="2617920" cy="17280"/>
          </a:xfrm>
          <a:prstGeom prst="rect">
            <a:avLst/>
          </a:prstGeom>
          <a:solidFill>
            <a:srgbClr val="92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46440" y="2143080"/>
            <a:ext cx="2617920" cy="14400"/>
          </a:xfrm>
          <a:prstGeom prst="rect">
            <a:avLst/>
          </a:prstGeom>
          <a:solidFill>
            <a:srgbClr val="94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546440" y="2157480"/>
            <a:ext cx="2617920" cy="15840"/>
          </a:xfrm>
          <a:prstGeom prst="rect">
            <a:avLst/>
          </a:prstGeom>
          <a:solidFill>
            <a:srgbClr val="96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546440" y="2173320"/>
            <a:ext cx="2617920" cy="15840"/>
          </a:xfrm>
          <a:prstGeom prst="rect">
            <a:avLst/>
          </a:prstGeom>
          <a:solidFill>
            <a:srgbClr val="98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46440" y="2189160"/>
            <a:ext cx="2617920" cy="23760"/>
          </a:xfrm>
          <a:prstGeom prst="rect">
            <a:avLst/>
          </a:prstGeom>
          <a:solidFill>
            <a:srgbClr val="9a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546440" y="2212920"/>
            <a:ext cx="2617920" cy="14400"/>
          </a:xfrm>
          <a:prstGeom prst="rect">
            <a:avLst/>
          </a:prstGeom>
          <a:solidFill>
            <a:srgbClr val="9c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546440" y="2227320"/>
            <a:ext cx="2617920" cy="17280"/>
          </a:xfrm>
          <a:prstGeom prst="rect">
            <a:avLst/>
          </a:prstGeom>
          <a:solidFill>
            <a:srgbClr val="9e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46440" y="2244600"/>
            <a:ext cx="2617920" cy="15840"/>
          </a:xfrm>
          <a:prstGeom prst="rect">
            <a:avLst/>
          </a:prstGeom>
          <a:solidFill>
            <a:srgbClr val="a0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546440" y="2260440"/>
            <a:ext cx="2617920" cy="16200"/>
          </a:xfrm>
          <a:prstGeom prst="rect">
            <a:avLst/>
          </a:prstGeom>
          <a:solidFill>
            <a:srgbClr val="a2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546440" y="2276640"/>
            <a:ext cx="2617920" cy="15840"/>
          </a:xfrm>
          <a:prstGeom prst="rect">
            <a:avLst/>
          </a:prstGeom>
          <a:solidFill>
            <a:srgbClr val="a4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546440" y="2292480"/>
            <a:ext cx="2617920" cy="14040"/>
          </a:xfrm>
          <a:prstGeom prst="rect">
            <a:avLst/>
          </a:prstGeom>
          <a:solidFill>
            <a:srgbClr val="a6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546440" y="2306520"/>
            <a:ext cx="2617920" cy="17640"/>
          </a:xfrm>
          <a:prstGeom prst="rect">
            <a:avLst/>
          </a:prstGeom>
          <a:solidFill>
            <a:srgbClr val="a8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546440" y="2324160"/>
            <a:ext cx="2617920" cy="15840"/>
          </a:xfrm>
          <a:prstGeom prst="rect">
            <a:avLst/>
          </a:prstGeom>
          <a:solidFill>
            <a:srgbClr val="aaf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546440" y="2340000"/>
            <a:ext cx="2617920" cy="19080"/>
          </a:xfrm>
          <a:prstGeom prst="rect">
            <a:avLst/>
          </a:prstGeom>
          <a:solidFill>
            <a:srgbClr val="acf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46440" y="2359080"/>
            <a:ext cx="2617920" cy="19080"/>
          </a:xfrm>
          <a:prstGeom prst="rect">
            <a:avLst/>
          </a:prstGeom>
          <a:solidFill>
            <a:srgbClr val="ae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46440" y="2378160"/>
            <a:ext cx="2617920" cy="17280"/>
          </a:xfrm>
          <a:prstGeom prst="rect">
            <a:avLst/>
          </a:prstGeom>
          <a:solidFill>
            <a:srgbClr val="b0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546440" y="2395440"/>
            <a:ext cx="2617920" cy="14400"/>
          </a:xfrm>
          <a:prstGeom prst="rect">
            <a:avLst/>
          </a:prstGeom>
          <a:solidFill>
            <a:srgbClr val="b2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46440" y="2409840"/>
            <a:ext cx="2617920" cy="15840"/>
          </a:xfrm>
          <a:prstGeom prst="rect">
            <a:avLst/>
          </a:prstGeom>
          <a:solidFill>
            <a:srgbClr val="b4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546440" y="2425680"/>
            <a:ext cx="2617920" cy="15840"/>
          </a:xfrm>
          <a:prstGeom prst="rect">
            <a:avLst/>
          </a:prstGeom>
          <a:solidFill>
            <a:srgbClr val="b6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546440" y="2441520"/>
            <a:ext cx="2617920" cy="15840"/>
          </a:xfrm>
          <a:prstGeom prst="rect">
            <a:avLst/>
          </a:prstGeom>
          <a:solidFill>
            <a:srgbClr val="b8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46440" y="2457360"/>
            <a:ext cx="2617920" cy="17640"/>
          </a:xfrm>
          <a:prstGeom prst="rect">
            <a:avLst/>
          </a:prstGeom>
          <a:solidFill>
            <a:srgbClr val="baf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546440" y="2475000"/>
            <a:ext cx="2617920" cy="14040"/>
          </a:xfrm>
          <a:prstGeom prst="rect">
            <a:avLst/>
          </a:prstGeom>
          <a:solidFill>
            <a:srgbClr val="bcf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546440" y="2489040"/>
            <a:ext cx="2617920" cy="16200"/>
          </a:xfrm>
          <a:prstGeom prst="rect">
            <a:avLst/>
          </a:prstGeom>
          <a:solidFill>
            <a:srgbClr val="bef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546440" y="2505240"/>
            <a:ext cx="2617920" cy="23760"/>
          </a:xfrm>
          <a:prstGeom prst="rect">
            <a:avLst/>
          </a:prstGeom>
          <a:solidFill>
            <a:srgbClr val="c0f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546440" y="2529000"/>
            <a:ext cx="2617920" cy="15840"/>
          </a:xfrm>
          <a:prstGeom prst="rect">
            <a:avLst/>
          </a:prstGeom>
          <a:solidFill>
            <a:srgbClr val="c2f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546440" y="2544840"/>
            <a:ext cx="2617920" cy="14040"/>
          </a:xfrm>
          <a:prstGeom prst="rect">
            <a:avLst/>
          </a:prstGeom>
          <a:solidFill>
            <a:srgbClr val="c4f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546440" y="2558880"/>
            <a:ext cx="2617920" cy="17640"/>
          </a:xfrm>
          <a:prstGeom prst="rect">
            <a:avLst/>
          </a:prstGeom>
          <a:solidFill>
            <a:srgbClr val="c6f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546440" y="2576520"/>
            <a:ext cx="2617920" cy="20520"/>
          </a:xfrm>
          <a:prstGeom prst="rect">
            <a:avLst/>
          </a:prstGeom>
          <a:solidFill>
            <a:srgbClr val="c8ff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46440" y="2597040"/>
            <a:ext cx="2617920" cy="17640"/>
          </a:xfrm>
          <a:prstGeom prst="rect">
            <a:avLst/>
          </a:prstGeom>
          <a:solidFill>
            <a:srgbClr val="caff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46440" y="2614680"/>
            <a:ext cx="2617920" cy="17280"/>
          </a:xfrm>
          <a:prstGeom prst="rect">
            <a:avLst/>
          </a:prstGeom>
          <a:solidFill>
            <a:srgbClr val="cc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546440" y="2631960"/>
            <a:ext cx="2617920" cy="22320"/>
          </a:xfrm>
          <a:prstGeom prst="rect">
            <a:avLst/>
          </a:prstGeom>
          <a:solidFill>
            <a:srgbClr val="ce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546440" y="2654280"/>
            <a:ext cx="2617920" cy="15840"/>
          </a:xfrm>
          <a:prstGeom prst="rect">
            <a:avLst/>
          </a:prstGeom>
          <a:solidFill>
            <a:srgbClr val="d0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46440" y="2670120"/>
            <a:ext cx="2617920" cy="20520"/>
          </a:xfrm>
          <a:prstGeom prst="rect">
            <a:avLst/>
          </a:prstGeom>
          <a:solidFill>
            <a:srgbClr val="d2f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546440" y="2690640"/>
            <a:ext cx="2617920" cy="19080"/>
          </a:xfrm>
          <a:prstGeom prst="rect">
            <a:avLst/>
          </a:prstGeom>
          <a:solidFill>
            <a:srgbClr val="d4f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6440" y="2709720"/>
            <a:ext cx="2617920" cy="24120"/>
          </a:xfrm>
          <a:prstGeom prst="rect">
            <a:avLst/>
          </a:prstGeom>
          <a:solidFill>
            <a:srgbClr val="d6f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46440" y="2733840"/>
            <a:ext cx="2617920" cy="20520"/>
          </a:xfrm>
          <a:prstGeom prst="rect">
            <a:avLst/>
          </a:prstGeom>
          <a:solidFill>
            <a:srgbClr val="d8f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546440" y="2754360"/>
            <a:ext cx="2617920" cy="19080"/>
          </a:xfrm>
          <a:prstGeom prst="rect">
            <a:avLst/>
          </a:prstGeom>
          <a:solidFill>
            <a:srgbClr val="daf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546440" y="2773440"/>
            <a:ext cx="2617920" cy="23760"/>
          </a:xfrm>
          <a:prstGeom prst="rect">
            <a:avLst/>
          </a:prstGeom>
          <a:solidFill>
            <a:srgbClr val="dcf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46440" y="2797200"/>
            <a:ext cx="2617920" cy="20520"/>
          </a:xfrm>
          <a:prstGeom prst="rect">
            <a:avLst/>
          </a:prstGeom>
          <a:solidFill>
            <a:srgbClr val="def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546440" y="2817720"/>
            <a:ext cx="2617920" cy="19080"/>
          </a:xfrm>
          <a:prstGeom prst="rect">
            <a:avLst/>
          </a:prstGeom>
          <a:solidFill>
            <a:srgbClr val="e0f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546440" y="2836800"/>
            <a:ext cx="2617920" cy="22320"/>
          </a:xfrm>
          <a:prstGeom prst="rect">
            <a:avLst/>
          </a:prstGeom>
          <a:solidFill>
            <a:srgbClr val="e1f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546440" y="2859120"/>
            <a:ext cx="2617920" cy="22320"/>
          </a:xfrm>
          <a:prstGeom prst="rect">
            <a:avLst/>
          </a:prstGeom>
          <a:solidFill>
            <a:srgbClr val="e3f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546440" y="2881440"/>
            <a:ext cx="2617920" cy="29880"/>
          </a:xfrm>
          <a:prstGeom prst="rect">
            <a:avLst/>
          </a:prstGeom>
          <a:solidFill>
            <a:srgbClr val="e5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546440" y="2911320"/>
            <a:ext cx="2617920" cy="32040"/>
          </a:xfrm>
          <a:prstGeom prst="rect">
            <a:avLst/>
          </a:prstGeom>
          <a:solidFill>
            <a:srgbClr val="e7f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546440" y="2943360"/>
            <a:ext cx="2617920" cy="20520"/>
          </a:xfrm>
          <a:prstGeom prst="rect">
            <a:avLst/>
          </a:prstGeom>
          <a:solidFill>
            <a:srgbClr val="e9f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46440" y="2963880"/>
            <a:ext cx="2617920" cy="14400"/>
          </a:xfrm>
          <a:prstGeom prst="rect">
            <a:avLst/>
          </a:prstGeom>
          <a:solidFill>
            <a:srgbClr val="ebf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546440" y="2978280"/>
            <a:ext cx="2617920" cy="28440"/>
          </a:xfrm>
          <a:prstGeom prst="rect">
            <a:avLst/>
          </a:prstGeom>
          <a:solidFill>
            <a:srgbClr val="ec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546440" y="3006720"/>
            <a:ext cx="2617920" cy="34920"/>
          </a:xfrm>
          <a:prstGeom prst="rect">
            <a:avLst/>
          </a:prstGeom>
          <a:solidFill>
            <a:srgbClr val="ee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46440" y="3041640"/>
            <a:ext cx="2617920" cy="28440"/>
          </a:xfrm>
          <a:prstGeom prst="rect">
            <a:avLst/>
          </a:prstGeom>
          <a:solidFill>
            <a:srgbClr val="eff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546440" y="3070080"/>
            <a:ext cx="2617920" cy="32040"/>
          </a:xfrm>
          <a:prstGeom prst="rect">
            <a:avLst/>
          </a:prstGeom>
          <a:solidFill>
            <a:srgbClr val="f1f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546440" y="3102120"/>
            <a:ext cx="2617920" cy="15840"/>
          </a:xfrm>
          <a:prstGeom prst="rect">
            <a:avLst/>
          </a:prstGeom>
          <a:solidFill>
            <a:srgbClr val="f3f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3117960"/>
            <a:ext cx="2617920" cy="31680"/>
          </a:xfrm>
          <a:prstGeom prst="rect">
            <a:avLst/>
          </a:prstGeom>
          <a:solidFill>
            <a:srgbClr val="f3f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546440" y="3149640"/>
            <a:ext cx="2617920" cy="46080"/>
          </a:xfrm>
          <a:prstGeom prst="rect">
            <a:avLst/>
          </a:prstGeom>
          <a:solidFill>
            <a:srgbClr val="f5ff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46440" y="3195720"/>
            <a:ext cx="2617920" cy="63360"/>
          </a:xfrm>
          <a:prstGeom prst="rect">
            <a:avLst/>
          </a:prstGeom>
          <a:solidFill>
            <a:srgbClr val="f7f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46440" y="3259080"/>
            <a:ext cx="2617920" cy="30240"/>
          </a:xfrm>
          <a:prstGeom prst="rect">
            <a:avLst/>
          </a:prstGeom>
          <a:solidFill>
            <a:srgbClr val="f9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546440" y="3289320"/>
            <a:ext cx="2617920" cy="7920"/>
          </a:xfrm>
          <a:prstGeom prst="rect">
            <a:avLst/>
          </a:prstGeom>
          <a:solidFill>
            <a:srgbClr val="f9ff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546440" y="3297240"/>
            <a:ext cx="2617920" cy="57240"/>
          </a:xfrm>
          <a:prstGeom prst="rect">
            <a:avLst/>
          </a:prstGeom>
          <a:solidFill>
            <a:srgbClr val="faf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546440" y="3354480"/>
            <a:ext cx="2617920" cy="88920"/>
          </a:xfrm>
          <a:prstGeom prst="rect">
            <a:avLst/>
          </a:prstGeom>
          <a:solidFill>
            <a:srgbClr val="fcf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3443400"/>
            <a:ext cx="2617920" cy="3240"/>
          </a:xfrm>
          <a:prstGeom prst="rect">
            <a:avLst/>
          </a:prstGeom>
          <a:solidFill>
            <a:srgbClr val="fdf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546440" y="3446640"/>
            <a:ext cx="2617920" cy="1440"/>
          </a:xfrm>
          <a:prstGeom prst="rect">
            <a:avLst/>
          </a:prstGeom>
          <a:solidFill>
            <a:srgbClr val="fdf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546440" y="3448080"/>
            <a:ext cx="2617920" cy="3240"/>
          </a:xfrm>
          <a:prstGeom prst="rect">
            <a:avLst/>
          </a:prstGeom>
          <a:solidFill>
            <a:srgbClr val="fdf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546440" y="3451320"/>
            <a:ext cx="2617920" cy="3240"/>
          </a:xfrm>
          <a:prstGeom prst="rect">
            <a:avLst/>
          </a:prstGeom>
          <a:solidFill>
            <a:srgbClr val="fdf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546440" y="3454560"/>
            <a:ext cx="2617920" cy="727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546440" y="3527280"/>
            <a:ext cx="2617920" cy="1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546440" y="3670200"/>
            <a:ext cx="2617920" cy="9720"/>
          </a:xfrm>
          <a:prstGeom prst="rect">
            <a:avLst/>
          </a:prstGeom>
          <a:solidFill>
            <a:srgbClr val="fd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546440" y="3679920"/>
            <a:ext cx="2617920" cy="3240"/>
          </a:xfrm>
          <a:prstGeom prst="rect">
            <a:avLst/>
          </a:prstGeom>
          <a:solidFill>
            <a:srgbClr val="fdff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546440" y="3683160"/>
            <a:ext cx="2617920" cy="2880"/>
          </a:xfrm>
          <a:prstGeom prst="rect">
            <a:avLst/>
          </a:prstGeom>
          <a:solidFill>
            <a:srgbClr val="fdf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546440" y="3686040"/>
            <a:ext cx="2617920" cy="1800"/>
          </a:xfrm>
          <a:prstGeom prst="rect">
            <a:avLst/>
          </a:prstGeom>
          <a:solidFill>
            <a:srgbClr val="fdf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546440" y="3687840"/>
            <a:ext cx="2617920" cy="3240"/>
          </a:xfrm>
          <a:prstGeom prst="rect">
            <a:avLst/>
          </a:prstGeom>
          <a:solidFill>
            <a:srgbClr val="fdff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546440" y="3691080"/>
            <a:ext cx="2617920" cy="88920"/>
          </a:xfrm>
          <a:prstGeom prst="rect">
            <a:avLst/>
          </a:prstGeom>
          <a:solidFill>
            <a:srgbClr val="fdf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546440" y="3780000"/>
            <a:ext cx="2617920" cy="61920"/>
          </a:xfrm>
          <a:prstGeom prst="rect">
            <a:avLst/>
          </a:prstGeom>
          <a:solidFill>
            <a:srgbClr val="fbf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546440" y="3841920"/>
            <a:ext cx="2617920" cy="7920"/>
          </a:xfrm>
          <a:prstGeom prst="rect">
            <a:avLst/>
          </a:prstGeom>
          <a:solidFill>
            <a:srgbClr val="faff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546440" y="3849840"/>
            <a:ext cx="2617920" cy="56880"/>
          </a:xfrm>
          <a:prstGeom prst="rect">
            <a:avLst/>
          </a:prstGeom>
          <a:solidFill>
            <a:srgbClr val="f9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546440" y="3906720"/>
            <a:ext cx="2617920" cy="32040"/>
          </a:xfrm>
          <a:prstGeom prst="rect">
            <a:avLst/>
          </a:prstGeom>
          <a:solidFill>
            <a:srgbClr val="f7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546440" y="3938760"/>
            <a:ext cx="2617920" cy="47520"/>
          </a:xfrm>
          <a:prstGeom prst="rect">
            <a:avLst/>
          </a:prstGeom>
          <a:solidFill>
            <a:srgbClr val="f6f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46440" y="3986280"/>
            <a:ext cx="2617920" cy="31680"/>
          </a:xfrm>
          <a:prstGeom prst="rect">
            <a:avLst/>
          </a:prstGeom>
          <a:solidFill>
            <a:srgbClr val="f4ff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546440" y="4017960"/>
            <a:ext cx="2617920" cy="31680"/>
          </a:xfrm>
          <a:prstGeom prst="rect">
            <a:avLst/>
          </a:prstGeom>
          <a:solidFill>
            <a:srgbClr val="f3f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546440" y="4049640"/>
            <a:ext cx="2617920" cy="30240"/>
          </a:xfrm>
          <a:prstGeom prst="rect">
            <a:avLst/>
          </a:prstGeom>
          <a:solidFill>
            <a:srgbClr val="f1f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546440" y="4079880"/>
            <a:ext cx="2617920" cy="20520"/>
          </a:xfrm>
          <a:prstGeom prst="rect">
            <a:avLst/>
          </a:prstGeom>
          <a:solidFill>
            <a:srgbClr val="eff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46440" y="4100400"/>
            <a:ext cx="2617920" cy="42840"/>
          </a:xfrm>
          <a:prstGeom prst="rect">
            <a:avLst/>
          </a:prstGeom>
          <a:solidFill>
            <a:srgbClr val="ee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46440" y="4143240"/>
            <a:ext cx="2617920" cy="20880"/>
          </a:xfrm>
          <a:prstGeom prst="rect">
            <a:avLst/>
          </a:prstGeom>
          <a:solidFill>
            <a:srgbClr val="ec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546440" y="4164120"/>
            <a:ext cx="2617920" cy="14040"/>
          </a:xfrm>
          <a:prstGeom prst="rect">
            <a:avLst/>
          </a:prstGeom>
          <a:solidFill>
            <a:srgbClr val="ebf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546440" y="4178160"/>
            <a:ext cx="2617920" cy="28800"/>
          </a:xfrm>
          <a:prstGeom prst="rect">
            <a:avLst/>
          </a:prstGeom>
          <a:solidFill>
            <a:srgbClr val="e9f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546440" y="4206960"/>
            <a:ext cx="2617920" cy="31680"/>
          </a:xfrm>
          <a:prstGeom prst="rect">
            <a:avLst/>
          </a:prstGeom>
          <a:solidFill>
            <a:srgbClr val="e7f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546440" y="4238640"/>
            <a:ext cx="2617920" cy="20520"/>
          </a:xfrm>
          <a:prstGeom prst="rect">
            <a:avLst/>
          </a:prstGeom>
          <a:solidFill>
            <a:srgbClr val="e5f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546440" y="4259160"/>
            <a:ext cx="2617920" cy="14400"/>
          </a:xfrm>
          <a:prstGeom prst="rect">
            <a:avLst/>
          </a:prstGeom>
          <a:solidFill>
            <a:srgbClr val="e4f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546440" y="4273560"/>
            <a:ext cx="2617920" cy="28440"/>
          </a:xfrm>
          <a:prstGeom prst="rect">
            <a:avLst/>
          </a:prstGeom>
          <a:solidFill>
            <a:srgbClr val="e2f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546440" y="4302000"/>
            <a:ext cx="2617920" cy="27000"/>
          </a:xfrm>
          <a:prstGeom prst="rect">
            <a:avLst/>
          </a:prstGeom>
          <a:solidFill>
            <a:srgbClr val="e0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546440" y="4329000"/>
            <a:ext cx="2617920" cy="20880"/>
          </a:xfrm>
          <a:prstGeom prst="rect">
            <a:avLst/>
          </a:prstGeom>
          <a:solidFill>
            <a:srgbClr val="def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546440" y="4349880"/>
            <a:ext cx="2617920" cy="17280"/>
          </a:xfrm>
          <a:prstGeom prst="rect">
            <a:avLst/>
          </a:prstGeom>
          <a:solidFill>
            <a:srgbClr val="dcf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546440" y="4367160"/>
            <a:ext cx="2617920" cy="25560"/>
          </a:xfrm>
          <a:prstGeom prst="rect">
            <a:avLst/>
          </a:prstGeom>
          <a:solidFill>
            <a:srgbClr val="daf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546440" y="4392720"/>
            <a:ext cx="2617920" cy="20520"/>
          </a:xfrm>
          <a:prstGeom prst="rect">
            <a:avLst/>
          </a:prstGeom>
          <a:solidFill>
            <a:srgbClr val="d8f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546440" y="4413240"/>
            <a:ext cx="2617920" cy="17640"/>
          </a:xfrm>
          <a:prstGeom prst="rect">
            <a:avLst/>
          </a:prstGeom>
          <a:solidFill>
            <a:srgbClr val="d6f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546440" y="4430880"/>
            <a:ext cx="2617920" cy="17280"/>
          </a:xfrm>
          <a:prstGeom prst="rect">
            <a:avLst/>
          </a:prstGeom>
          <a:solidFill>
            <a:srgbClr val="d4f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546440" y="4448160"/>
            <a:ext cx="2617920" cy="17640"/>
          </a:xfrm>
          <a:prstGeom prst="rect">
            <a:avLst/>
          </a:prstGeom>
          <a:solidFill>
            <a:srgbClr val="d3f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546440" y="4465800"/>
            <a:ext cx="2617920" cy="14040"/>
          </a:xfrm>
          <a:prstGeom prst="rect">
            <a:avLst/>
          </a:prstGeom>
          <a:solidFill>
            <a:srgbClr val="d1f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546440" y="4479840"/>
            <a:ext cx="2617920" cy="23760"/>
          </a:xfrm>
          <a:prstGeom prst="rect">
            <a:avLst/>
          </a:prstGeom>
          <a:solidFill>
            <a:srgbClr val="cf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546440" y="4503600"/>
            <a:ext cx="2617920" cy="14400"/>
          </a:xfrm>
          <a:prstGeom prst="rect">
            <a:avLst/>
          </a:prstGeom>
          <a:solidFill>
            <a:srgbClr val="cd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46440" y="4518000"/>
            <a:ext cx="2617920" cy="20520"/>
          </a:xfrm>
          <a:prstGeom prst="rect">
            <a:avLst/>
          </a:prstGeom>
          <a:solidFill>
            <a:srgbClr val="cb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546440" y="4538520"/>
            <a:ext cx="2617920" cy="20880"/>
          </a:xfrm>
          <a:prstGeom prst="rect">
            <a:avLst/>
          </a:prstGeom>
          <a:solidFill>
            <a:srgbClr val="c9ff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546440" y="4559400"/>
            <a:ext cx="2617920" cy="14040"/>
          </a:xfrm>
          <a:prstGeom prst="rect">
            <a:avLst/>
          </a:prstGeom>
          <a:solidFill>
            <a:srgbClr val="c7ff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546440" y="4573440"/>
            <a:ext cx="2617920" cy="17640"/>
          </a:xfrm>
          <a:prstGeom prst="rect">
            <a:avLst/>
          </a:prstGeom>
          <a:solidFill>
            <a:srgbClr val="c5f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546440" y="4591080"/>
            <a:ext cx="2617920" cy="14400"/>
          </a:xfrm>
          <a:prstGeom prst="rect">
            <a:avLst/>
          </a:prstGeom>
          <a:solidFill>
            <a:srgbClr val="c3f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546440" y="4605480"/>
            <a:ext cx="2617920" cy="23760"/>
          </a:xfrm>
          <a:prstGeom prst="rect">
            <a:avLst/>
          </a:prstGeom>
          <a:solidFill>
            <a:srgbClr val="c1f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546440" y="4629240"/>
            <a:ext cx="2617920" cy="15840"/>
          </a:xfrm>
          <a:prstGeom prst="rect">
            <a:avLst/>
          </a:prstGeom>
          <a:solidFill>
            <a:srgbClr val="bff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46440" y="4645080"/>
            <a:ext cx="2617920" cy="15840"/>
          </a:xfrm>
          <a:prstGeom prst="rect">
            <a:avLst/>
          </a:prstGeom>
          <a:solidFill>
            <a:srgbClr val="bdf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46440" y="4660920"/>
            <a:ext cx="2617920" cy="14400"/>
          </a:xfrm>
          <a:prstGeom prst="rect">
            <a:avLst/>
          </a:prstGeom>
          <a:solidFill>
            <a:srgbClr val="bbf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546440" y="4675320"/>
            <a:ext cx="2617920" cy="17280"/>
          </a:xfrm>
          <a:prstGeom prst="rect">
            <a:avLst/>
          </a:prstGeom>
          <a:solidFill>
            <a:srgbClr val="b9f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46440" y="4692600"/>
            <a:ext cx="2617920" cy="17640"/>
          </a:xfrm>
          <a:prstGeom prst="rect">
            <a:avLst/>
          </a:prstGeom>
          <a:solidFill>
            <a:srgbClr val="b7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546440" y="4710240"/>
            <a:ext cx="2617920" cy="14040"/>
          </a:xfrm>
          <a:prstGeom prst="rect">
            <a:avLst/>
          </a:prstGeom>
          <a:solidFill>
            <a:srgbClr val="b5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46440" y="4724280"/>
            <a:ext cx="2617920" cy="15840"/>
          </a:xfrm>
          <a:prstGeom prst="rect">
            <a:avLst/>
          </a:prstGeom>
          <a:solidFill>
            <a:srgbClr val="b3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546440" y="4740120"/>
            <a:ext cx="2617920" cy="16200"/>
          </a:xfrm>
          <a:prstGeom prst="rect">
            <a:avLst/>
          </a:prstGeom>
          <a:solidFill>
            <a:srgbClr val="b1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546440" y="4756320"/>
            <a:ext cx="2617920" cy="18720"/>
          </a:xfrm>
          <a:prstGeom prst="rect">
            <a:avLst/>
          </a:prstGeom>
          <a:solidFill>
            <a:srgbClr val="a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546440" y="4775040"/>
            <a:ext cx="2617920" cy="19080"/>
          </a:xfrm>
          <a:prstGeom prst="rect">
            <a:avLst/>
          </a:prstGeom>
          <a:solidFill>
            <a:srgbClr val="adf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546440" y="4794120"/>
            <a:ext cx="2617920" cy="17640"/>
          </a:xfrm>
          <a:prstGeom prst="rect">
            <a:avLst/>
          </a:prstGeom>
          <a:solidFill>
            <a:srgbClr val="abf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546440" y="4811760"/>
            <a:ext cx="2617920" cy="14400"/>
          </a:xfrm>
          <a:prstGeom prst="rect">
            <a:avLst/>
          </a:prstGeom>
          <a:solidFill>
            <a:srgbClr val="a9f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46440" y="4826160"/>
            <a:ext cx="2617920" cy="17280"/>
          </a:xfrm>
          <a:prstGeom prst="rect">
            <a:avLst/>
          </a:prstGeom>
          <a:solidFill>
            <a:srgbClr val="a7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546440" y="4843440"/>
            <a:ext cx="2617920" cy="14400"/>
          </a:xfrm>
          <a:prstGeom prst="rect">
            <a:avLst/>
          </a:prstGeom>
          <a:solidFill>
            <a:srgbClr val="a5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546440" y="4857840"/>
            <a:ext cx="2617920" cy="15840"/>
          </a:xfrm>
          <a:prstGeom prst="rect">
            <a:avLst/>
          </a:prstGeom>
          <a:solidFill>
            <a:srgbClr val="a3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546440" y="4873680"/>
            <a:ext cx="2617920" cy="15840"/>
          </a:xfrm>
          <a:prstGeom prst="rect">
            <a:avLst/>
          </a:prstGeom>
          <a:solidFill>
            <a:srgbClr val="a1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46440" y="4889520"/>
            <a:ext cx="2617920" cy="17280"/>
          </a:xfrm>
          <a:prstGeom prst="rect">
            <a:avLst/>
          </a:prstGeom>
          <a:solidFill>
            <a:srgbClr val="9f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546440" y="4906800"/>
            <a:ext cx="2617920" cy="16200"/>
          </a:xfrm>
          <a:prstGeom prst="rect">
            <a:avLst/>
          </a:prstGeom>
          <a:solidFill>
            <a:srgbClr val="9d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546440" y="4923000"/>
            <a:ext cx="2617920" cy="21960"/>
          </a:xfrm>
          <a:prstGeom prst="rect">
            <a:avLst/>
          </a:prstGeom>
          <a:solidFill>
            <a:srgbClr val="9b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546440" y="4944960"/>
            <a:ext cx="2617920" cy="17640"/>
          </a:xfrm>
          <a:prstGeom prst="rect">
            <a:avLst/>
          </a:prstGeom>
          <a:solidFill>
            <a:srgbClr val="99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546440" y="4962600"/>
            <a:ext cx="2617920" cy="14040"/>
          </a:xfrm>
          <a:prstGeom prst="rect">
            <a:avLst/>
          </a:prstGeom>
          <a:solidFill>
            <a:srgbClr val="97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546440" y="4976640"/>
            <a:ext cx="2617920" cy="16200"/>
          </a:xfrm>
          <a:prstGeom prst="rect">
            <a:avLst/>
          </a:prstGeom>
          <a:solidFill>
            <a:srgbClr val="95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546440" y="4992840"/>
            <a:ext cx="2617920" cy="15840"/>
          </a:xfrm>
          <a:prstGeom prst="rect">
            <a:avLst/>
          </a:prstGeom>
          <a:solidFill>
            <a:srgbClr val="93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546440" y="5008680"/>
            <a:ext cx="2617920" cy="19080"/>
          </a:xfrm>
          <a:prstGeom prst="rect">
            <a:avLst/>
          </a:prstGeom>
          <a:solidFill>
            <a:srgbClr val="91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546440" y="5027760"/>
            <a:ext cx="2617920" cy="20520"/>
          </a:xfrm>
          <a:prstGeom prst="rect">
            <a:avLst/>
          </a:prstGeom>
          <a:solidFill>
            <a:srgbClr val="8f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546440" y="5048280"/>
            <a:ext cx="2617920" cy="15840"/>
          </a:xfrm>
          <a:prstGeom prst="rect">
            <a:avLst/>
          </a:prstGeom>
          <a:solidFill>
            <a:srgbClr val="8d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546440" y="5064120"/>
            <a:ext cx="2617920" cy="23760"/>
          </a:xfrm>
          <a:prstGeom prst="rect">
            <a:avLst/>
          </a:prstGeom>
          <a:solidFill>
            <a:srgbClr val="8b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546440" y="5087880"/>
            <a:ext cx="2617920" cy="14400"/>
          </a:xfrm>
          <a:prstGeom prst="rect">
            <a:avLst/>
          </a:prstGeom>
          <a:solidFill>
            <a:srgbClr val="89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546440" y="5102280"/>
            <a:ext cx="2617920" cy="17280"/>
          </a:xfrm>
          <a:prstGeom prst="rect">
            <a:avLst/>
          </a:prstGeom>
          <a:solidFill>
            <a:srgbClr val="87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546440" y="5119560"/>
            <a:ext cx="2617920" cy="20880"/>
          </a:xfrm>
          <a:prstGeom prst="rect">
            <a:avLst/>
          </a:prstGeom>
          <a:solidFill>
            <a:srgbClr val="85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546440" y="5140440"/>
            <a:ext cx="2617920" cy="19080"/>
          </a:xfrm>
          <a:prstGeom prst="rect">
            <a:avLst/>
          </a:prstGeom>
          <a:solidFill>
            <a:srgbClr val="83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546440" y="5159520"/>
            <a:ext cx="2617920" cy="27000"/>
          </a:xfrm>
          <a:prstGeom prst="rect">
            <a:avLst/>
          </a:prstGeom>
          <a:solidFill>
            <a:srgbClr val="81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546440" y="5186520"/>
            <a:ext cx="2617920" cy="20520"/>
          </a:xfrm>
          <a:prstGeom prst="rect">
            <a:avLst/>
          </a:prstGeom>
          <a:solidFill>
            <a:srgbClr val="7f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546440" y="5207040"/>
            <a:ext cx="2617920" cy="23760"/>
          </a:xfrm>
          <a:prstGeom prst="rect">
            <a:avLst/>
          </a:prstGeom>
          <a:solidFill>
            <a:srgbClr val="7d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546440" y="5230800"/>
            <a:ext cx="2617920" cy="19080"/>
          </a:xfrm>
          <a:prstGeom prst="rect">
            <a:avLst/>
          </a:prstGeom>
          <a:solidFill>
            <a:srgbClr val="7b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546440" y="5249880"/>
            <a:ext cx="2617920" cy="27000"/>
          </a:xfrm>
          <a:prstGeom prst="rect">
            <a:avLst/>
          </a:prstGeom>
          <a:solidFill>
            <a:srgbClr val="79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546440" y="5276880"/>
            <a:ext cx="2617920" cy="20520"/>
          </a:xfrm>
          <a:prstGeom prst="rect">
            <a:avLst/>
          </a:prstGeom>
          <a:solidFill>
            <a:srgbClr val="77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546440" y="5297400"/>
            <a:ext cx="2617920" cy="31680"/>
          </a:xfrm>
          <a:prstGeom prst="rect">
            <a:avLst/>
          </a:prstGeom>
          <a:solidFill>
            <a:srgbClr val="75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46440" y="5329080"/>
            <a:ext cx="2617920" cy="32040"/>
          </a:xfrm>
          <a:prstGeom prst="rect">
            <a:avLst/>
          </a:prstGeom>
          <a:solidFill>
            <a:srgbClr val="73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546440" y="5361120"/>
            <a:ext cx="2617920" cy="29880"/>
          </a:xfrm>
          <a:prstGeom prst="rect">
            <a:avLst/>
          </a:prstGeom>
          <a:solidFill>
            <a:srgbClr val="71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546440" y="5391000"/>
            <a:ext cx="2617920" cy="32040"/>
          </a:xfrm>
          <a:prstGeom prst="rect">
            <a:avLst/>
          </a:prstGeom>
          <a:solidFill>
            <a:srgbClr val="6f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546440" y="5423040"/>
            <a:ext cx="2617920" cy="31680"/>
          </a:xfrm>
          <a:prstGeom prst="rect">
            <a:avLst/>
          </a:prstGeom>
          <a:solidFill>
            <a:srgbClr val="6d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546440" y="5454720"/>
            <a:ext cx="2617920" cy="47520"/>
          </a:xfrm>
          <a:prstGeom prst="rect">
            <a:avLst/>
          </a:prstGeom>
          <a:solidFill>
            <a:srgbClr val="6b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546440" y="5502240"/>
            <a:ext cx="2617920" cy="47520"/>
          </a:xfrm>
          <a:prstGeom prst="rect">
            <a:avLst/>
          </a:prstGeom>
          <a:solidFill>
            <a:srgbClr val="69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546440" y="5549760"/>
            <a:ext cx="2617920" cy="399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546440" y="1546200"/>
            <a:ext cx="2616480" cy="4041720"/>
          </a:xfrm>
          <a:custGeom>
            <a:avLst/>
            <a:gdLst/>
            <a:ahLst/>
            <a:rect l="l" t="t" r="r" b="b"/>
            <a:pathLst>
              <a:path w="1648" h="2546">
                <a:moveTo>
                  <a:pt x="523" y="0"/>
                </a:moveTo>
                <a:lnTo>
                  <a:pt x="495" y="0"/>
                </a:lnTo>
                <a:lnTo>
                  <a:pt x="469" y="2"/>
                </a:lnTo>
                <a:lnTo>
                  <a:pt x="443" y="7"/>
                </a:lnTo>
                <a:lnTo>
                  <a:pt x="417" y="11"/>
                </a:lnTo>
                <a:lnTo>
                  <a:pt x="392" y="16"/>
                </a:lnTo>
                <a:lnTo>
                  <a:pt x="367" y="23"/>
                </a:lnTo>
                <a:lnTo>
                  <a:pt x="342" y="32"/>
                </a:lnTo>
                <a:lnTo>
                  <a:pt x="318" y="41"/>
                </a:lnTo>
                <a:lnTo>
                  <a:pt x="296" y="51"/>
                </a:lnTo>
                <a:lnTo>
                  <a:pt x="273" y="62"/>
                </a:lnTo>
                <a:lnTo>
                  <a:pt x="252" y="75"/>
                </a:lnTo>
                <a:lnTo>
                  <a:pt x="230" y="89"/>
                </a:lnTo>
                <a:lnTo>
                  <a:pt x="209" y="104"/>
                </a:lnTo>
                <a:lnTo>
                  <a:pt x="189" y="119"/>
                </a:lnTo>
                <a:lnTo>
                  <a:pt x="170" y="135"/>
                </a:lnTo>
                <a:lnTo>
                  <a:pt x="153" y="153"/>
                </a:lnTo>
                <a:lnTo>
                  <a:pt x="136" y="171"/>
                </a:lnTo>
                <a:lnTo>
                  <a:pt x="119" y="190"/>
                </a:lnTo>
                <a:lnTo>
                  <a:pt x="103" y="210"/>
                </a:lnTo>
                <a:lnTo>
                  <a:pt x="89" y="230"/>
                </a:lnTo>
                <a:lnTo>
                  <a:pt x="74" y="251"/>
                </a:lnTo>
                <a:lnTo>
                  <a:pt x="62" y="273"/>
                </a:lnTo>
                <a:lnTo>
                  <a:pt x="51" y="296"/>
                </a:lnTo>
                <a:lnTo>
                  <a:pt x="41" y="319"/>
                </a:lnTo>
                <a:lnTo>
                  <a:pt x="31" y="343"/>
                </a:lnTo>
                <a:lnTo>
                  <a:pt x="23" y="367"/>
                </a:lnTo>
                <a:lnTo>
                  <a:pt x="15" y="392"/>
                </a:lnTo>
                <a:lnTo>
                  <a:pt x="10" y="417"/>
                </a:lnTo>
                <a:lnTo>
                  <a:pt x="6" y="443"/>
                </a:lnTo>
                <a:lnTo>
                  <a:pt x="2" y="470"/>
                </a:lnTo>
                <a:lnTo>
                  <a:pt x="0" y="496"/>
                </a:lnTo>
                <a:lnTo>
                  <a:pt x="0" y="522"/>
                </a:lnTo>
                <a:lnTo>
                  <a:pt x="0" y="2024"/>
                </a:lnTo>
                <a:lnTo>
                  <a:pt x="0" y="2051"/>
                </a:lnTo>
                <a:lnTo>
                  <a:pt x="2" y="2077"/>
                </a:lnTo>
                <a:lnTo>
                  <a:pt x="6" y="2103"/>
                </a:lnTo>
                <a:lnTo>
                  <a:pt x="10" y="2130"/>
                </a:lnTo>
                <a:lnTo>
                  <a:pt x="15" y="2155"/>
                </a:lnTo>
                <a:lnTo>
                  <a:pt x="23" y="2179"/>
                </a:lnTo>
                <a:lnTo>
                  <a:pt x="31" y="2204"/>
                </a:lnTo>
                <a:lnTo>
                  <a:pt x="41" y="2228"/>
                </a:lnTo>
                <a:lnTo>
                  <a:pt x="51" y="2251"/>
                </a:lnTo>
                <a:lnTo>
                  <a:pt x="62" y="2273"/>
                </a:lnTo>
                <a:lnTo>
                  <a:pt x="74" y="2295"/>
                </a:lnTo>
                <a:lnTo>
                  <a:pt x="89" y="2316"/>
                </a:lnTo>
                <a:lnTo>
                  <a:pt x="103" y="2336"/>
                </a:lnTo>
                <a:lnTo>
                  <a:pt x="119" y="2356"/>
                </a:lnTo>
                <a:lnTo>
                  <a:pt x="136" y="2375"/>
                </a:lnTo>
                <a:lnTo>
                  <a:pt x="153" y="2393"/>
                </a:lnTo>
                <a:lnTo>
                  <a:pt x="170" y="2411"/>
                </a:lnTo>
                <a:lnTo>
                  <a:pt x="189" y="2427"/>
                </a:lnTo>
                <a:lnTo>
                  <a:pt x="209" y="2443"/>
                </a:lnTo>
                <a:lnTo>
                  <a:pt x="230" y="2458"/>
                </a:lnTo>
                <a:lnTo>
                  <a:pt x="252" y="2471"/>
                </a:lnTo>
                <a:lnTo>
                  <a:pt x="273" y="2484"/>
                </a:lnTo>
                <a:lnTo>
                  <a:pt x="296" y="2496"/>
                </a:lnTo>
                <a:lnTo>
                  <a:pt x="318" y="2505"/>
                </a:lnTo>
                <a:lnTo>
                  <a:pt x="342" y="2515"/>
                </a:lnTo>
                <a:lnTo>
                  <a:pt x="367" y="2523"/>
                </a:lnTo>
                <a:lnTo>
                  <a:pt x="392" y="2530"/>
                </a:lnTo>
                <a:lnTo>
                  <a:pt x="417" y="2536"/>
                </a:lnTo>
                <a:lnTo>
                  <a:pt x="443" y="2541"/>
                </a:lnTo>
                <a:lnTo>
                  <a:pt x="469" y="2544"/>
                </a:lnTo>
                <a:lnTo>
                  <a:pt x="495" y="2546"/>
                </a:lnTo>
                <a:lnTo>
                  <a:pt x="523" y="2546"/>
                </a:lnTo>
                <a:lnTo>
                  <a:pt x="1126" y="2546"/>
                </a:lnTo>
                <a:lnTo>
                  <a:pt x="1153" y="2546"/>
                </a:lnTo>
                <a:lnTo>
                  <a:pt x="1179" y="2544"/>
                </a:lnTo>
                <a:lnTo>
                  <a:pt x="1205" y="2541"/>
                </a:lnTo>
                <a:lnTo>
                  <a:pt x="1232" y="2536"/>
                </a:lnTo>
                <a:lnTo>
                  <a:pt x="1257" y="2530"/>
                </a:lnTo>
                <a:lnTo>
                  <a:pt x="1281" y="2523"/>
                </a:lnTo>
                <a:lnTo>
                  <a:pt x="1305" y="2515"/>
                </a:lnTo>
                <a:lnTo>
                  <a:pt x="1330" y="2505"/>
                </a:lnTo>
                <a:lnTo>
                  <a:pt x="1352" y="2496"/>
                </a:lnTo>
                <a:lnTo>
                  <a:pt x="1375" y="2484"/>
                </a:lnTo>
                <a:lnTo>
                  <a:pt x="1397" y="2471"/>
                </a:lnTo>
                <a:lnTo>
                  <a:pt x="1418" y="2458"/>
                </a:lnTo>
                <a:lnTo>
                  <a:pt x="1438" y="2443"/>
                </a:lnTo>
                <a:lnTo>
                  <a:pt x="1458" y="2427"/>
                </a:lnTo>
                <a:lnTo>
                  <a:pt x="1477" y="2411"/>
                </a:lnTo>
                <a:lnTo>
                  <a:pt x="1495" y="2393"/>
                </a:lnTo>
                <a:lnTo>
                  <a:pt x="1513" y="2375"/>
                </a:lnTo>
                <a:lnTo>
                  <a:pt x="1529" y="2356"/>
                </a:lnTo>
                <a:lnTo>
                  <a:pt x="1545" y="2336"/>
                </a:lnTo>
                <a:lnTo>
                  <a:pt x="1560" y="2316"/>
                </a:lnTo>
                <a:lnTo>
                  <a:pt x="1573" y="2295"/>
                </a:lnTo>
                <a:lnTo>
                  <a:pt x="1586" y="2273"/>
                </a:lnTo>
                <a:lnTo>
                  <a:pt x="1598" y="2251"/>
                </a:lnTo>
                <a:lnTo>
                  <a:pt x="1607" y="2228"/>
                </a:lnTo>
                <a:lnTo>
                  <a:pt x="1617" y="2204"/>
                </a:lnTo>
                <a:lnTo>
                  <a:pt x="1625" y="2179"/>
                </a:lnTo>
                <a:lnTo>
                  <a:pt x="1632" y="2155"/>
                </a:lnTo>
                <a:lnTo>
                  <a:pt x="1638" y="2130"/>
                </a:lnTo>
                <a:lnTo>
                  <a:pt x="1643" y="2103"/>
                </a:lnTo>
                <a:lnTo>
                  <a:pt x="1646" y="2077"/>
                </a:lnTo>
                <a:lnTo>
                  <a:pt x="1648" y="2051"/>
                </a:lnTo>
                <a:lnTo>
                  <a:pt x="1648" y="2024"/>
                </a:lnTo>
                <a:lnTo>
                  <a:pt x="1648" y="522"/>
                </a:lnTo>
                <a:lnTo>
                  <a:pt x="1648" y="496"/>
                </a:lnTo>
                <a:lnTo>
                  <a:pt x="1646" y="470"/>
                </a:lnTo>
                <a:lnTo>
                  <a:pt x="1643" y="443"/>
                </a:lnTo>
                <a:lnTo>
                  <a:pt x="1638" y="417"/>
                </a:lnTo>
                <a:lnTo>
                  <a:pt x="1632" y="392"/>
                </a:lnTo>
                <a:lnTo>
                  <a:pt x="1625" y="367"/>
                </a:lnTo>
                <a:lnTo>
                  <a:pt x="1617" y="343"/>
                </a:lnTo>
                <a:lnTo>
                  <a:pt x="1607" y="319"/>
                </a:lnTo>
                <a:lnTo>
                  <a:pt x="1598" y="296"/>
                </a:lnTo>
                <a:lnTo>
                  <a:pt x="1586" y="273"/>
                </a:lnTo>
                <a:lnTo>
                  <a:pt x="1573" y="251"/>
                </a:lnTo>
                <a:lnTo>
                  <a:pt x="1560" y="230"/>
                </a:lnTo>
                <a:lnTo>
                  <a:pt x="1545" y="210"/>
                </a:lnTo>
                <a:lnTo>
                  <a:pt x="1529" y="190"/>
                </a:lnTo>
                <a:lnTo>
                  <a:pt x="1513" y="171"/>
                </a:lnTo>
                <a:lnTo>
                  <a:pt x="1495" y="153"/>
                </a:lnTo>
                <a:lnTo>
                  <a:pt x="1477" y="135"/>
                </a:lnTo>
                <a:lnTo>
                  <a:pt x="1458" y="119"/>
                </a:lnTo>
                <a:lnTo>
                  <a:pt x="1438" y="104"/>
                </a:lnTo>
                <a:lnTo>
                  <a:pt x="1418" y="89"/>
                </a:lnTo>
                <a:lnTo>
                  <a:pt x="1397" y="75"/>
                </a:lnTo>
                <a:lnTo>
                  <a:pt x="1375" y="62"/>
                </a:lnTo>
                <a:lnTo>
                  <a:pt x="1352" y="51"/>
                </a:lnTo>
                <a:lnTo>
                  <a:pt x="1330" y="41"/>
                </a:lnTo>
                <a:lnTo>
                  <a:pt x="1305" y="32"/>
                </a:lnTo>
                <a:lnTo>
                  <a:pt x="1281" y="23"/>
                </a:lnTo>
                <a:lnTo>
                  <a:pt x="1257" y="16"/>
                </a:lnTo>
                <a:lnTo>
                  <a:pt x="1232" y="11"/>
                </a:lnTo>
                <a:lnTo>
                  <a:pt x="1205" y="7"/>
                </a:lnTo>
                <a:lnTo>
                  <a:pt x="1179" y="2"/>
                </a:lnTo>
                <a:lnTo>
                  <a:pt x="1153" y="0"/>
                </a:lnTo>
                <a:lnTo>
                  <a:pt x="1126" y="0"/>
                </a:lnTo>
                <a:lnTo>
                  <a:pt x="5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546440" y="1546200"/>
            <a:ext cx="2616480" cy="4041720"/>
          </a:xfrm>
          <a:custGeom>
            <a:avLst/>
            <a:gdLst/>
            <a:ahLst/>
            <a:rect l="l" t="t" r="r" b="b"/>
            <a:pathLst>
              <a:path w="1648" h="2546">
                <a:moveTo>
                  <a:pt x="523" y="0"/>
                </a:moveTo>
                <a:lnTo>
                  <a:pt x="495" y="0"/>
                </a:lnTo>
                <a:lnTo>
                  <a:pt x="469" y="2"/>
                </a:lnTo>
                <a:lnTo>
                  <a:pt x="443" y="7"/>
                </a:lnTo>
                <a:lnTo>
                  <a:pt x="417" y="11"/>
                </a:lnTo>
                <a:lnTo>
                  <a:pt x="392" y="16"/>
                </a:lnTo>
                <a:lnTo>
                  <a:pt x="367" y="23"/>
                </a:lnTo>
                <a:lnTo>
                  <a:pt x="342" y="32"/>
                </a:lnTo>
                <a:lnTo>
                  <a:pt x="318" y="41"/>
                </a:lnTo>
                <a:lnTo>
                  <a:pt x="296" y="51"/>
                </a:lnTo>
                <a:lnTo>
                  <a:pt x="273" y="62"/>
                </a:lnTo>
                <a:lnTo>
                  <a:pt x="252" y="75"/>
                </a:lnTo>
                <a:lnTo>
                  <a:pt x="230" y="89"/>
                </a:lnTo>
                <a:lnTo>
                  <a:pt x="209" y="104"/>
                </a:lnTo>
                <a:lnTo>
                  <a:pt x="189" y="119"/>
                </a:lnTo>
                <a:lnTo>
                  <a:pt x="170" y="135"/>
                </a:lnTo>
                <a:lnTo>
                  <a:pt x="153" y="153"/>
                </a:lnTo>
                <a:lnTo>
                  <a:pt x="136" y="171"/>
                </a:lnTo>
                <a:lnTo>
                  <a:pt x="119" y="190"/>
                </a:lnTo>
                <a:lnTo>
                  <a:pt x="103" y="210"/>
                </a:lnTo>
                <a:lnTo>
                  <a:pt x="89" y="230"/>
                </a:lnTo>
                <a:lnTo>
                  <a:pt x="74" y="251"/>
                </a:lnTo>
                <a:lnTo>
                  <a:pt x="62" y="273"/>
                </a:lnTo>
                <a:lnTo>
                  <a:pt x="51" y="296"/>
                </a:lnTo>
                <a:lnTo>
                  <a:pt x="41" y="319"/>
                </a:lnTo>
                <a:lnTo>
                  <a:pt x="31" y="343"/>
                </a:lnTo>
                <a:lnTo>
                  <a:pt x="23" y="367"/>
                </a:lnTo>
                <a:lnTo>
                  <a:pt x="15" y="392"/>
                </a:lnTo>
                <a:lnTo>
                  <a:pt x="10" y="417"/>
                </a:lnTo>
                <a:lnTo>
                  <a:pt x="6" y="443"/>
                </a:lnTo>
                <a:lnTo>
                  <a:pt x="2" y="470"/>
                </a:lnTo>
                <a:lnTo>
                  <a:pt x="0" y="496"/>
                </a:lnTo>
                <a:lnTo>
                  <a:pt x="0" y="522"/>
                </a:lnTo>
                <a:lnTo>
                  <a:pt x="0" y="2024"/>
                </a:lnTo>
                <a:lnTo>
                  <a:pt x="0" y="2051"/>
                </a:lnTo>
                <a:lnTo>
                  <a:pt x="2" y="2077"/>
                </a:lnTo>
                <a:lnTo>
                  <a:pt x="6" y="2103"/>
                </a:lnTo>
                <a:lnTo>
                  <a:pt x="10" y="2130"/>
                </a:lnTo>
                <a:lnTo>
                  <a:pt x="15" y="2155"/>
                </a:lnTo>
                <a:lnTo>
                  <a:pt x="23" y="2179"/>
                </a:lnTo>
                <a:lnTo>
                  <a:pt x="31" y="2204"/>
                </a:lnTo>
                <a:lnTo>
                  <a:pt x="41" y="2228"/>
                </a:lnTo>
                <a:lnTo>
                  <a:pt x="51" y="2251"/>
                </a:lnTo>
                <a:lnTo>
                  <a:pt x="62" y="2273"/>
                </a:lnTo>
                <a:lnTo>
                  <a:pt x="74" y="2295"/>
                </a:lnTo>
                <a:lnTo>
                  <a:pt x="89" y="2316"/>
                </a:lnTo>
                <a:lnTo>
                  <a:pt x="103" y="2336"/>
                </a:lnTo>
                <a:lnTo>
                  <a:pt x="119" y="2356"/>
                </a:lnTo>
                <a:lnTo>
                  <a:pt x="136" y="2375"/>
                </a:lnTo>
                <a:lnTo>
                  <a:pt x="153" y="2393"/>
                </a:lnTo>
                <a:lnTo>
                  <a:pt x="170" y="2411"/>
                </a:lnTo>
                <a:lnTo>
                  <a:pt x="189" y="2427"/>
                </a:lnTo>
                <a:lnTo>
                  <a:pt x="209" y="2443"/>
                </a:lnTo>
                <a:lnTo>
                  <a:pt x="230" y="2458"/>
                </a:lnTo>
                <a:lnTo>
                  <a:pt x="252" y="2471"/>
                </a:lnTo>
                <a:lnTo>
                  <a:pt x="273" y="2484"/>
                </a:lnTo>
                <a:lnTo>
                  <a:pt x="296" y="2496"/>
                </a:lnTo>
                <a:lnTo>
                  <a:pt x="318" y="2505"/>
                </a:lnTo>
                <a:lnTo>
                  <a:pt x="342" y="2515"/>
                </a:lnTo>
                <a:lnTo>
                  <a:pt x="367" y="2523"/>
                </a:lnTo>
                <a:lnTo>
                  <a:pt x="392" y="2530"/>
                </a:lnTo>
                <a:lnTo>
                  <a:pt x="417" y="2536"/>
                </a:lnTo>
                <a:lnTo>
                  <a:pt x="443" y="2541"/>
                </a:lnTo>
                <a:lnTo>
                  <a:pt x="469" y="2544"/>
                </a:lnTo>
                <a:lnTo>
                  <a:pt x="495" y="2546"/>
                </a:lnTo>
                <a:lnTo>
                  <a:pt x="523" y="2546"/>
                </a:lnTo>
                <a:lnTo>
                  <a:pt x="1126" y="2546"/>
                </a:lnTo>
                <a:lnTo>
                  <a:pt x="1153" y="2546"/>
                </a:lnTo>
                <a:lnTo>
                  <a:pt x="1179" y="2544"/>
                </a:lnTo>
                <a:lnTo>
                  <a:pt x="1205" y="2541"/>
                </a:lnTo>
                <a:lnTo>
                  <a:pt x="1232" y="2536"/>
                </a:lnTo>
                <a:lnTo>
                  <a:pt x="1257" y="2530"/>
                </a:lnTo>
                <a:lnTo>
                  <a:pt x="1281" y="2523"/>
                </a:lnTo>
                <a:lnTo>
                  <a:pt x="1305" y="2515"/>
                </a:lnTo>
                <a:lnTo>
                  <a:pt x="1330" y="2505"/>
                </a:lnTo>
                <a:lnTo>
                  <a:pt x="1352" y="2496"/>
                </a:lnTo>
                <a:lnTo>
                  <a:pt x="1375" y="2484"/>
                </a:lnTo>
                <a:lnTo>
                  <a:pt x="1397" y="2471"/>
                </a:lnTo>
                <a:lnTo>
                  <a:pt x="1418" y="2458"/>
                </a:lnTo>
                <a:lnTo>
                  <a:pt x="1438" y="2443"/>
                </a:lnTo>
                <a:lnTo>
                  <a:pt x="1458" y="2427"/>
                </a:lnTo>
                <a:lnTo>
                  <a:pt x="1477" y="2411"/>
                </a:lnTo>
                <a:lnTo>
                  <a:pt x="1495" y="2393"/>
                </a:lnTo>
                <a:lnTo>
                  <a:pt x="1513" y="2375"/>
                </a:lnTo>
                <a:lnTo>
                  <a:pt x="1529" y="2356"/>
                </a:lnTo>
                <a:lnTo>
                  <a:pt x="1545" y="2336"/>
                </a:lnTo>
                <a:lnTo>
                  <a:pt x="1560" y="2316"/>
                </a:lnTo>
                <a:lnTo>
                  <a:pt x="1573" y="2295"/>
                </a:lnTo>
                <a:lnTo>
                  <a:pt x="1586" y="2273"/>
                </a:lnTo>
                <a:lnTo>
                  <a:pt x="1598" y="2251"/>
                </a:lnTo>
                <a:lnTo>
                  <a:pt x="1607" y="2228"/>
                </a:lnTo>
                <a:lnTo>
                  <a:pt x="1617" y="2204"/>
                </a:lnTo>
                <a:lnTo>
                  <a:pt x="1625" y="2179"/>
                </a:lnTo>
                <a:lnTo>
                  <a:pt x="1632" y="2155"/>
                </a:lnTo>
                <a:lnTo>
                  <a:pt x="1638" y="2130"/>
                </a:lnTo>
                <a:lnTo>
                  <a:pt x="1643" y="2103"/>
                </a:lnTo>
                <a:lnTo>
                  <a:pt x="1646" y="2077"/>
                </a:lnTo>
                <a:lnTo>
                  <a:pt x="1648" y="2051"/>
                </a:lnTo>
                <a:lnTo>
                  <a:pt x="1648" y="2024"/>
                </a:lnTo>
                <a:lnTo>
                  <a:pt x="1648" y="522"/>
                </a:lnTo>
                <a:lnTo>
                  <a:pt x="1648" y="496"/>
                </a:lnTo>
                <a:lnTo>
                  <a:pt x="1646" y="470"/>
                </a:lnTo>
                <a:lnTo>
                  <a:pt x="1643" y="443"/>
                </a:lnTo>
                <a:lnTo>
                  <a:pt x="1638" y="417"/>
                </a:lnTo>
                <a:lnTo>
                  <a:pt x="1632" y="392"/>
                </a:lnTo>
                <a:lnTo>
                  <a:pt x="1625" y="367"/>
                </a:lnTo>
                <a:lnTo>
                  <a:pt x="1617" y="343"/>
                </a:lnTo>
                <a:lnTo>
                  <a:pt x="1607" y="319"/>
                </a:lnTo>
                <a:lnTo>
                  <a:pt x="1598" y="296"/>
                </a:lnTo>
                <a:lnTo>
                  <a:pt x="1586" y="273"/>
                </a:lnTo>
                <a:lnTo>
                  <a:pt x="1573" y="251"/>
                </a:lnTo>
                <a:lnTo>
                  <a:pt x="1560" y="230"/>
                </a:lnTo>
                <a:lnTo>
                  <a:pt x="1545" y="210"/>
                </a:lnTo>
                <a:lnTo>
                  <a:pt x="1529" y="190"/>
                </a:lnTo>
                <a:lnTo>
                  <a:pt x="1513" y="171"/>
                </a:lnTo>
                <a:lnTo>
                  <a:pt x="1495" y="153"/>
                </a:lnTo>
                <a:lnTo>
                  <a:pt x="1477" y="135"/>
                </a:lnTo>
                <a:lnTo>
                  <a:pt x="1458" y="119"/>
                </a:lnTo>
                <a:lnTo>
                  <a:pt x="1438" y="104"/>
                </a:lnTo>
                <a:lnTo>
                  <a:pt x="1418" y="89"/>
                </a:lnTo>
                <a:lnTo>
                  <a:pt x="1397" y="75"/>
                </a:lnTo>
                <a:lnTo>
                  <a:pt x="1375" y="62"/>
                </a:lnTo>
                <a:lnTo>
                  <a:pt x="1352" y="51"/>
                </a:lnTo>
                <a:lnTo>
                  <a:pt x="1330" y="41"/>
                </a:lnTo>
                <a:lnTo>
                  <a:pt x="1305" y="32"/>
                </a:lnTo>
                <a:lnTo>
                  <a:pt x="1281" y="23"/>
                </a:lnTo>
                <a:lnTo>
                  <a:pt x="1257" y="16"/>
                </a:lnTo>
                <a:lnTo>
                  <a:pt x="1232" y="11"/>
                </a:lnTo>
                <a:lnTo>
                  <a:pt x="1205" y="7"/>
                </a:lnTo>
                <a:lnTo>
                  <a:pt x="1179" y="2"/>
                </a:lnTo>
                <a:lnTo>
                  <a:pt x="1153" y="0"/>
                </a:lnTo>
                <a:lnTo>
                  <a:pt x="1126" y="0"/>
                </a:lnTo>
                <a:lnTo>
                  <a:pt x="5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546440" y="1544760"/>
            <a:ext cx="2617920" cy="39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546440" y="1584360"/>
            <a:ext cx="2617920" cy="47520"/>
          </a:xfrm>
          <a:prstGeom prst="rect">
            <a:avLst/>
          </a:prstGeom>
          <a:solidFill>
            <a:srgbClr val="68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546440" y="1631880"/>
            <a:ext cx="2617920" cy="49320"/>
          </a:xfrm>
          <a:prstGeom prst="rect">
            <a:avLst/>
          </a:prstGeom>
          <a:solidFill>
            <a:srgbClr val="6a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46440" y="1681200"/>
            <a:ext cx="2617920" cy="30240"/>
          </a:xfrm>
          <a:prstGeom prst="rect">
            <a:avLst/>
          </a:prstGeom>
          <a:solidFill>
            <a:srgbClr val="6c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546440" y="1711440"/>
            <a:ext cx="2617920" cy="31680"/>
          </a:xfrm>
          <a:prstGeom prst="rect">
            <a:avLst/>
          </a:prstGeom>
          <a:solidFill>
            <a:srgbClr val="6e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546440" y="1743120"/>
            <a:ext cx="2617920" cy="31680"/>
          </a:xfrm>
          <a:prstGeom prst="rect">
            <a:avLst/>
          </a:prstGeom>
          <a:solidFill>
            <a:srgbClr val="70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546440" y="1774800"/>
            <a:ext cx="2617920" cy="31680"/>
          </a:xfrm>
          <a:prstGeom prst="rect">
            <a:avLst/>
          </a:prstGeom>
          <a:solidFill>
            <a:srgbClr val="72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546440" y="1806480"/>
            <a:ext cx="2617920" cy="31680"/>
          </a:xfrm>
          <a:prstGeom prst="rect">
            <a:avLst/>
          </a:prstGeom>
          <a:solidFill>
            <a:srgbClr val="74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546440" y="1838160"/>
            <a:ext cx="2617920" cy="17640"/>
          </a:xfrm>
          <a:prstGeom prst="rect">
            <a:avLst/>
          </a:prstGeom>
          <a:solidFill>
            <a:srgbClr val="76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546440" y="1855800"/>
            <a:ext cx="2617920" cy="28440"/>
          </a:xfrm>
          <a:prstGeom prst="rect">
            <a:avLst/>
          </a:prstGeom>
          <a:solidFill>
            <a:srgbClr val="78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546440" y="1884240"/>
            <a:ext cx="2617920" cy="20880"/>
          </a:xfrm>
          <a:prstGeom prst="rect">
            <a:avLst/>
          </a:prstGeom>
          <a:solidFill>
            <a:srgbClr val="7a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546440" y="1905120"/>
            <a:ext cx="2617920" cy="23760"/>
          </a:xfrm>
          <a:prstGeom prst="rect">
            <a:avLst/>
          </a:prstGeom>
          <a:solidFill>
            <a:srgbClr val="7c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546440" y="1928880"/>
            <a:ext cx="2617920" cy="19080"/>
          </a:xfrm>
          <a:prstGeom prst="rect">
            <a:avLst/>
          </a:prstGeom>
          <a:solidFill>
            <a:srgbClr val="7e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546440" y="1947960"/>
            <a:ext cx="2617920" cy="27000"/>
          </a:xfrm>
          <a:prstGeom prst="rect">
            <a:avLst/>
          </a:prstGeom>
          <a:solidFill>
            <a:srgbClr val="80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546440" y="1974960"/>
            <a:ext cx="2617920" cy="20520"/>
          </a:xfrm>
          <a:prstGeom prst="rect">
            <a:avLst/>
          </a:prstGeom>
          <a:solidFill>
            <a:srgbClr val="82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546440" y="1995480"/>
            <a:ext cx="2617920" cy="20520"/>
          </a:xfrm>
          <a:prstGeom prst="rect">
            <a:avLst/>
          </a:prstGeom>
          <a:solidFill>
            <a:srgbClr val="84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546440" y="2016000"/>
            <a:ext cx="2617920" cy="15840"/>
          </a:xfrm>
          <a:prstGeom prst="rect">
            <a:avLst/>
          </a:prstGeom>
          <a:solidFill>
            <a:srgbClr val="86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546440" y="2031840"/>
            <a:ext cx="2617920" cy="16200"/>
          </a:xfrm>
          <a:prstGeom prst="rect">
            <a:avLst/>
          </a:prstGeom>
          <a:solidFill>
            <a:srgbClr val="88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546440" y="2048040"/>
            <a:ext cx="2617920" cy="21960"/>
          </a:xfrm>
          <a:prstGeom prst="rect">
            <a:avLst/>
          </a:prstGeom>
          <a:solidFill>
            <a:srgbClr val="8a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546440" y="2070000"/>
            <a:ext cx="2617920" cy="17640"/>
          </a:xfrm>
          <a:prstGeom prst="rect">
            <a:avLst/>
          </a:prstGeom>
          <a:solidFill>
            <a:srgbClr val="8c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546440" y="2087640"/>
            <a:ext cx="2617920" cy="17280"/>
          </a:xfrm>
          <a:prstGeom prst="rect">
            <a:avLst/>
          </a:prstGeom>
          <a:solidFill>
            <a:srgbClr val="8e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546440" y="2104920"/>
            <a:ext cx="2617920" cy="20880"/>
          </a:xfrm>
          <a:prstGeom prst="rect">
            <a:avLst/>
          </a:prstGeom>
          <a:solidFill>
            <a:srgbClr val="90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546440" y="2125800"/>
            <a:ext cx="2617920" cy="17280"/>
          </a:xfrm>
          <a:prstGeom prst="rect">
            <a:avLst/>
          </a:prstGeom>
          <a:solidFill>
            <a:srgbClr val="92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546440" y="2143080"/>
            <a:ext cx="2617920" cy="14400"/>
          </a:xfrm>
          <a:prstGeom prst="rect">
            <a:avLst/>
          </a:prstGeom>
          <a:solidFill>
            <a:srgbClr val="94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546440" y="2157480"/>
            <a:ext cx="2617920" cy="15840"/>
          </a:xfrm>
          <a:prstGeom prst="rect">
            <a:avLst/>
          </a:prstGeom>
          <a:solidFill>
            <a:srgbClr val="96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546440" y="2173320"/>
            <a:ext cx="2617920" cy="15840"/>
          </a:xfrm>
          <a:prstGeom prst="rect">
            <a:avLst/>
          </a:prstGeom>
          <a:solidFill>
            <a:srgbClr val="98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546440" y="2189160"/>
            <a:ext cx="2617920" cy="23760"/>
          </a:xfrm>
          <a:prstGeom prst="rect">
            <a:avLst/>
          </a:prstGeom>
          <a:solidFill>
            <a:srgbClr val="9a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46440" y="2212920"/>
            <a:ext cx="2617920" cy="14400"/>
          </a:xfrm>
          <a:prstGeom prst="rect">
            <a:avLst/>
          </a:prstGeom>
          <a:solidFill>
            <a:srgbClr val="9c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546440" y="2227320"/>
            <a:ext cx="2617920" cy="17280"/>
          </a:xfrm>
          <a:prstGeom prst="rect">
            <a:avLst/>
          </a:prstGeom>
          <a:solidFill>
            <a:srgbClr val="9e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546440" y="2244600"/>
            <a:ext cx="2617920" cy="15840"/>
          </a:xfrm>
          <a:prstGeom prst="rect">
            <a:avLst/>
          </a:prstGeom>
          <a:solidFill>
            <a:srgbClr val="a0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546440" y="2260440"/>
            <a:ext cx="2617920" cy="16200"/>
          </a:xfrm>
          <a:prstGeom prst="rect">
            <a:avLst/>
          </a:prstGeom>
          <a:solidFill>
            <a:srgbClr val="a2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546440" y="2276640"/>
            <a:ext cx="2617920" cy="15840"/>
          </a:xfrm>
          <a:prstGeom prst="rect">
            <a:avLst/>
          </a:prstGeom>
          <a:solidFill>
            <a:srgbClr val="a4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546440" y="2292480"/>
            <a:ext cx="2617920" cy="14040"/>
          </a:xfrm>
          <a:prstGeom prst="rect">
            <a:avLst/>
          </a:prstGeom>
          <a:solidFill>
            <a:srgbClr val="a6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546440" y="2306520"/>
            <a:ext cx="2617920" cy="17640"/>
          </a:xfrm>
          <a:prstGeom prst="rect">
            <a:avLst/>
          </a:prstGeom>
          <a:solidFill>
            <a:srgbClr val="a8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546440" y="2324160"/>
            <a:ext cx="2617920" cy="15840"/>
          </a:xfrm>
          <a:prstGeom prst="rect">
            <a:avLst/>
          </a:prstGeom>
          <a:solidFill>
            <a:srgbClr val="aaf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546440" y="2340000"/>
            <a:ext cx="2617920" cy="19080"/>
          </a:xfrm>
          <a:prstGeom prst="rect">
            <a:avLst/>
          </a:prstGeom>
          <a:solidFill>
            <a:srgbClr val="acf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546440" y="2359080"/>
            <a:ext cx="2617920" cy="19080"/>
          </a:xfrm>
          <a:prstGeom prst="rect">
            <a:avLst/>
          </a:prstGeom>
          <a:solidFill>
            <a:srgbClr val="ae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546440" y="2378160"/>
            <a:ext cx="2617920" cy="17280"/>
          </a:xfrm>
          <a:prstGeom prst="rect">
            <a:avLst/>
          </a:prstGeom>
          <a:solidFill>
            <a:srgbClr val="b0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546440" y="2395440"/>
            <a:ext cx="2617920" cy="14400"/>
          </a:xfrm>
          <a:prstGeom prst="rect">
            <a:avLst/>
          </a:prstGeom>
          <a:solidFill>
            <a:srgbClr val="b2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546440" y="2409840"/>
            <a:ext cx="2617920" cy="15840"/>
          </a:xfrm>
          <a:prstGeom prst="rect">
            <a:avLst/>
          </a:prstGeom>
          <a:solidFill>
            <a:srgbClr val="b4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46440" y="2425680"/>
            <a:ext cx="2617920" cy="15840"/>
          </a:xfrm>
          <a:prstGeom prst="rect">
            <a:avLst/>
          </a:prstGeom>
          <a:solidFill>
            <a:srgbClr val="b6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546440" y="2441520"/>
            <a:ext cx="2617920" cy="15840"/>
          </a:xfrm>
          <a:prstGeom prst="rect">
            <a:avLst/>
          </a:prstGeom>
          <a:solidFill>
            <a:srgbClr val="b8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546440" y="2457360"/>
            <a:ext cx="2617920" cy="17640"/>
          </a:xfrm>
          <a:prstGeom prst="rect">
            <a:avLst/>
          </a:prstGeom>
          <a:solidFill>
            <a:srgbClr val="baf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546440" y="2475000"/>
            <a:ext cx="2617920" cy="14040"/>
          </a:xfrm>
          <a:prstGeom prst="rect">
            <a:avLst/>
          </a:prstGeom>
          <a:solidFill>
            <a:srgbClr val="bcf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546440" y="2489040"/>
            <a:ext cx="2617920" cy="16200"/>
          </a:xfrm>
          <a:prstGeom prst="rect">
            <a:avLst/>
          </a:prstGeom>
          <a:solidFill>
            <a:srgbClr val="bef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546440" y="2505240"/>
            <a:ext cx="2617920" cy="23760"/>
          </a:xfrm>
          <a:prstGeom prst="rect">
            <a:avLst/>
          </a:prstGeom>
          <a:solidFill>
            <a:srgbClr val="c0f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546440" y="2529000"/>
            <a:ext cx="2617920" cy="15840"/>
          </a:xfrm>
          <a:prstGeom prst="rect">
            <a:avLst/>
          </a:prstGeom>
          <a:solidFill>
            <a:srgbClr val="c2f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546440" y="2544840"/>
            <a:ext cx="2617920" cy="14040"/>
          </a:xfrm>
          <a:prstGeom prst="rect">
            <a:avLst/>
          </a:prstGeom>
          <a:solidFill>
            <a:srgbClr val="c4f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546440" y="2558880"/>
            <a:ext cx="2617920" cy="17640"/>
          </a:xfrm>
          <a:prstGeom prst="rect">
            <a:avLst/>
          </a:prstGeom>
          <a:solidFill>
            <a:srgbClr val="c6f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546440" y="2576520"/>
            <a:ext cx="2617920" cy="20520"/>
          </a:xfrm>
          <a:prstGeom prst="rect">
            <a:avLst/>
          </a:prstGeom>
          <a:solidFill>
            <a:srgbClr val="c8ff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546440" y="2597040"/>
            <a:ext cx="2617920" cy="17640"/>
          </a:xfrm>
          <a:prstGeom prst="rect">
            <a:avLst/>
          </a:prstGeom>
          <a:solidFill>
            <a:srgbClr val="caff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546440" y="2614680"/>
            <a:ext cx="2617920" cy="17280"/>
          </a:xfrm>
          <a:prstGeom prst="rect">
            <a:avLst/>
          </a:prstGeom>
          <a:solidFill>
            <a:srgbClr val="cc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546440" y="2631960"/>
            <a:ext cx="2617920" cy="22320"/>
          </a:xfrm>
          <a:prstGeom prst="rect">
            <a:avLst/>
          </a:prstGeom>
          <a:solidFill>
            <a:srgbClr val="ce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546440" y="2654280"/>
            <a:ext cx="2617920" cy="15840"/>
          </a:xfrm>
          <a:prstGeom prst="rect">
            <a:avLst/>
          </a:prstGeom>
          <a:solidFill>
            <a:srgbClr val="d0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546440" y="2670120"/>
            <a:ext cx="2617920" cy="20520"/>
          </a:xfrm>
          <a:prstGeom prst="rect">
            <a:avLst/>
          </a:prstGeom>
          <a:solidFill>
            <a:srgbClr val="d2f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546440" y="2690640"/>
            <a:ext cx="2617920" cy="19080"/>
          </a:xfrm>
          <a:prstGeom prst="rect">
            <a:avLst/>
          </a:prstGeom>
          <a:solidFill>
            <a:srgbClr val="d4f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546440" y="2709720"/>
            <a:ext cx="2617920" cy="24120"/>
          </a:xfrm>
          <a:prstGeom prst="rect">
            <a:avLst/>
          </a:prstGeom>
          <a:solidFill>
            <a:srgbClr val="d6f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546440" y="2733840"/>
            <a:ext cx="2617920" cy="20520"/>
          </a:xfrm>
          <a:prstGeom prst="rect">
            <a:avLst/>
          </a:prstGeom>
          <a:solidFill>
            <a:srgbClr val="d8f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546440" y="2754360"/>
            <a:ext cx="2617920" cy="19080"/>
          </a:xfrm>
          <a:prstGeom prst="rect">
            <a:avLst/>
          </a:prstGeom>
          <a:solidFill>
            <a:srgbClr val="daf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546440" y="2773440"/>
            <a:ext cx="2617920" cy="23760"/>
          </a:xfrm>
          <a:prstGeom prst="rect">
            <a:avLst/>
          </a:prstGeom>
          <a:solidFill>
            <a:srgbClr val="dcf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546440" y="2797200"/>
            <a:ext cx="2617920" cy="20520"/>
          </a:xfrm>
          <a:prstGeom prst="rect">
            <a:avLst/>
          </a:prstGeom>
          <a:solidFill>
            <a:srgbClr val="def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546440" y="2817720"/>
            <a:ext cx="2617920" cy="19080"/>
          </a:xfrm>
          <a:prstGeom prst="rect">
            <a:avLst/>
          </a:prstGeom>
          <a:solidFill>
            <a:srgbClr val="e0f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546440" y="2836800"/>
            <a:ext cx="2617920" cy="22320"/>
          </a:xfrm>
          <a:prstGeom prst="rect">
            <a:avLst/>
          </a:prstGeom>
          <a:solidFill>
            <a:srgbClr val="e1f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546440" y="2859120"/>
            <a:ext cx="2617920" cy="22320"/>
          </a:xfrm>
          <a:prstGeom prst="rect">
            <a:avLst/>
          </a:prstGeom>
          <a:solidFill>
            <a:srgbClr val="e3f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546440" y="2881440"/>
            <a:ext cx="2617920" cy="29880"/>
          </a:xfrm>
          <a:prstGeom prst="rect">
            <a:avLst/>
          </a:prstGeom>
          <a:solidFill>
            <a:srgbClr val="e5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546440" y="2911320"/>
            <a:ext cx="2617920" cy="32040"/>
          </a:xfrm>
          <a:prstGeom prst="rect">
            <a:avLst/>
          </a:prstGeom>
          <a:solidFill>
            <a:srgbClr val="e7f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46440" y="2943360"/>
            <a:ext cx="2617920" cy="20520"/>
          </a:xfrm>
          <a:prstGeom prst="rect">
            <a:avLst/>
          </a:prstGeom>
          <a:solidFill>
            <a:srgbClr val="e9f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546440" y="2963880"/>
            <a:ext cx="2617920" cy="14400"/>
          </a:xfrm>
          <a:prstGeom prst="rect">
            <a:avLst/>
          </a:prstGeom>
          <a:solidFill>
            <a:srgbClr val="ebf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46440" y="2978280"/>
            <a:ext cx="2617920" cy="28440"/>
          </a:xfrm>
          <a:prstGeom prst="rect">
            <a:avLst/>
          </a:prstGeom>
          <a:solidFill>
            <a:srgbClr val="ec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546440" y="3006720"/>
            <a:ext cx="2617920" cy="34920"/>
          </a:xfrm>
          <a:prstGeom prst="rect">
            <a:avLst/>
          </a:prstGeom>
          <a:solidFill>
            <a:srgbClr val="ee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546440" y="3041640"/>
            <a:ext cx="2617920" cy="28440"/>
          </a:xfrm>
          <a:prstGeom prst="rect">
            <a:avLst/>
          </a:prstGeom>
          <a:solidFill>
            <a:srgbClr val="eff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3070080"/>
            <a:ext cx="2617920" cy="32040"/>
          </a:xfrm>
          <a:prstGeom prst="rect">
            <a:avLst/>
          </a:prstGeom>
          <a:solidFill>
            <a:srgbClr val="f1f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546440" y="3102120"/>
            <a:ext cx="2617920" cy="15840"/>
          </a:xfrm>
          <a:prstGeom prst="rect">
            <a:avLst/>
          </a:prstGeom>
          <a:solidFill>
            <a:srgbClr val="f3f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46440" y="3117960"/>
            <a:ext cx="2617920" cy="31680"/>
          </a:xfrm>
          <a:prstGeom prst="rect">
            <a:avLst/>
          </a:prstGeom>
          <a:solidFill>
            <a:srgbClr val="f3f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546440" y="3149640"/>
            <a:ext cx="2617920" cy="46080"/>
          </a:xfrm>
          <a:prstGeom prst="rect">
            <a:avLst/>
          </a:prstGeom>
          <a:solidFill>
            <a:srgbClr val="f5ff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546440" y="3195720"/>
            <a:ext cx="2617920" cy="63360"/>
          </a:xfrm>
          <a:prstGeom prst="rect">
            <a:avLst/>
          </a:prstGeom>
          <a:solidFill>
            <a:srgbClr val="f7f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546440" y="3259080"/>
            <a:ext cx="2617920" cy="30240"/>
          </a:xfrm>
          <a:prstGeom prst="rect">
            <a:avLst/>
          </a:prstGeom>
          <a:solidFill>
            <a:srgbClr val="f9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46440" y="3289320"/>
            <a:ext cx="2617920" cy="7920"/>
          </a:xfrm>
          <a:prstGeom prst="rect">
            <a:avLst/>
          </a:prstGeom>
          <a:solidFill>
            <a:srgbClr val="f9ff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546440" y="3297240"/>
            <a:ext cx="2617920" cy="57240"/>
          </a:xfrm>
          <a:prstGeom prst="rect">
            <a:avLst/>
          </a:prstGeom>
          <a:solidFill>
            <a:srgbClr val="faf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546440" y="3354480"/>
            <a:ext cx="2617920" cy="88920"/>
          </a:xfrm>
          <a:prstGeom prst="rect">
            <a:avLst/>
          </a:prstGeom>
          <a:solidFill>
            <a:srgbClr val="fcf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546440" y="3443400"/>
            <a:ext cx="2617920" cy="3240"/>
          </a:xfrm>
          <a:prstGeom prst="rect">
            <a:avLst/>
          </a:prstGeom>
          <a:solidFill>
            <a:srgbClr val="fdf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46440" y="3446640"/>
            <a:ext cx="2617920" cy="1440"/>
          </a:xfrm>
          <a:prstGeom prst="rect">
            <a:avLst/>
          </a:prstGeom>
          <a:solidFill>
            <a:srgbClr val="fdf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546440" y="3448080"/>
            <a:ext cx="2617920" cy="3240"/>
          </a:xfrm>
          <a:prstGeom prst="rect">
            <a:avLst/>
          </a:prstGeom>
          <a:solidFill>
            <a:srgbClr val="fdf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46440" y="3451320"/>
            <a:ext cx="2617920" cy="3240"/>
          </a:xfrm>
          <a:prstGeom prst="rect">
            <a:avLst/>
          </a:prstGeom>
          <a:solidFill>
            <a:srgbClr val="fdf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546440" y="3454560"/>
            <a:ext cx="2617920" cy="727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546440" y="3527280"/>
            <a:ext cx="2617920" cy="1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46440" y="3670200"/>
            <a:ext cx="2617920" cy="9720"/>
          </a:xfrm>
          <a:prstGeom prst="rect">
            <a:avLst/>
          </a:prstGeom>
          <a:solidFill>
            <a:srgbClr val="fd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546440" y="3679920"/>
            <a:ext cx="2617920" cy="3240"/>
          </a:xfrm>
          <a:prstGeom prst="rect">
            <a:avLst/>
          </a:prstGeom>
          <a:solidFill>
            <a:srgbClr val="fdff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3683160"/>
            <a:ext cx="2617920" cy="2880"/>
          </a:xfrm>
          <a:prstGeom prst="rect">
            <a:avLst/>
          </a:prstGeom>
          <a:solidFill>
            <a:srgbClr val="fdf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46440" y="3686040"/>
            <a:ext cx="2617920" cy="1800"/>
          </a:xfrm>
          <a:prstGeom prst="rect">
            <a:avLst/>
          </a:prstGeom>
          <a:solidFill>
            <a:srgbClr val="fdf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546440" y="3687840"/>
            <a:ext cx="2617920" cy="3240"/>
          </a:xfrm>
          <a:prstGeom prst="rect">
            <a:avLst/>
          </a:prstGeom>
          <a:solidFill>
            <a:srgbClr val="fdff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546440" y="3691080"/>
            <a:ext cx="2617920" cy="88920"/>
          </a:xfrm>
          <a:prstGeom prst="rect">
            <a:avLst/>
          </a:prstGeom>
          <a:solidFill>
            <a:srgbClr val="fdf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546440" y="3780000"/>
            <a:ext cx="2617920" cy="61920"/>
          </a:xfrm>
          <a:prstGeom prst="rect">
            <a:avLst/>
          </a:prstGeom>
          <a:solidFill>
            <a:srgbClr val="fbf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546440" y="3841920"/>
            <a:ext cx="2617920" cy="7920"/>
          </a:xfrm>
          <a:prstGeom prst="rect">
            <a:avLst/>
          </a:prstGeom>
          <a:solidFill>
            <a:srgbClr val="faff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546440" y="3849840"/>
            <a:ext cx="2617920" cy="56880"/>
          </a:xfrm>
          <a:prstGeom prst="rect">
            <a:avLst/>
          </a:prstGeom>
          <a:solidFill>
            <a:srgbClr val="f9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546440" y="3906720"/>
            <a:ext cx="2617920" cy="32040"/>
          </a:xfrm>
          <a:prstGeom prst="rect">
            <a:avLst/>
          </a:prstGeom>
          <a:solidFill>
            <a:srgbClr val="f7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546440" y="3938760"/>
            <a:ext cx="2617920" cy="47520"/>
          </a:xfrm>
          <a:prstGeom prst="rect">
            <a:avLst/>
          </a:prstGeom>
          <a:solidFill>
            <a:srgbClr val="f6f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546440" y="3986280"/>
            <a:ext cx="2617920" cy="31680"/>
          </a:xfrm>
          <a:prstGeom prst="rect">
            <a:avLst/>
          </a:prstGeom>
          <a:solidFill>
            <a:srgbClr val="f4ff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546440" y="4017960"/>
            <a:ext cx="2617920" cy="31680"/>
          </a:xfrm>
          <a:prstGeom prst="rect">
            <a:avLst/>
          </a:prstGeom>
          <a:solidFill>
            <a:srgbClr val="f3f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546440" y="4049640"/>
            <a:ext cx="2617920" cy="30240"/>
          </a:xfrm>
          <a:prstGeom prst="rect">
            <a:avLst/>
          </a:prstGeom>
          <a:solidFill>
            <a:srgbClr val="f1f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546440" y="4079880"/>
            <a:ext cx="2617920" cy="20520"/>
          </a:xfrm>
          <a:prstGeom prst="rect">
            <a:avLst/>
          </a:prstGeom>
          <a:solidFill>
            <a:srgbClr val="eff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546440" y="4100400"/>
            <a:ext cx="2617920" cy="42840"/>
          </a:xfrm>
          <a:prstGeom prst="rect">
            <a:avLst/>
          </a:prstGeom>
          <a:solidFill>
            <a:srgbClr val="ee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546440" y="4143240"/>
            <a:ext cx="2617920" cy="20880"/>
          </a:xfrm>
          <a:prstGeom prst="rect">
            <a:avLst/>
          </a:prstGeom>
          <a:solidFill>
            <a:srgbClr val="ec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546440" y="4164120"/>
            <a:ext cx="2617920" cy="14040"/>
          </a:xfrm>
          <a:prstGeom prst="rect">
            <a:avLst/>
          </a:prstGeom>
          <a:solidFill>
            <a:srgbClr val="ebf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546440" y="4178160"/>
            <a:ext cx="2617920" cy="28800"/>
          </a:xfrm>
          <a:prstGeom prst="rect">
            <a:avLst/>
          </a:prstGeom>
          <a:solidFill>
            <a:srgbClr val="e9f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546440" y="4206960"/>
            <a:ext cx="2617920" cy="31680"/>
          </a:xfrm>
          <a:prstGeom prst="rect">
            <a:avLst/>
          </a:prstGeom>
          <a:solidFill>
            <a:srgbClr val="e7f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546440" y="4238640"/>
            <a:ext cx="2617920" cy="20520"/>
          </a:xfrm>
          <a:prstGeom prst="rect">
            <a:avLst/>
          </a:prstGeom>
          <a:solidFill>
            <a:srgbClr val="e5f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546440" y="4259160"/>
            <a:ext cx="2617920" cy="14400"/>
          </a:xfrm>
          <a:prstGeom prst="rect">
            <a:avLst/>
          </a:prstGeom>
          <a:solidFill>
            <a:srgbClr val="e4f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546440" y="4273560"/>
            <a:ext cx="2617920" cy="28440"/>
          </a:xfrm>
          <a:prstGeom prst="rect">
            <a:avLst/>
          </a:prstGeom>
          <a:solidFill>
            <a:srgbClr val="e2f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546440" y="4302000"/>
            <a:ext cx="2617920" cy="27000"/>
          </a:xfrm>
          <a:prstGeom prst="rect">
            <a:avLst/>
          </a:prstGeom>
          <a:solidFill>
            <a:srgbClr val="e0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546440" y="4329000"/>
            <a:ext cx="2617920" cy="20880"/>
          </a:xfrm>
          <a:prstGeom prst="rect">
            <a:avLst/>
          </a:prstGeom>
          <a:solidFill>
            <a:srgbClr val="def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546440" y="4349880"/>
            <a:ext cx="2617920" cy="17280"/>
          </a:xfrm>
          <a:prstGeom prst="rect">
            <a:avLst/>
          </a:prstGeom>
          <a:solidFill>
            <a:srgbClr val="dcf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546440" y="4367160"/>
            <a:ext cx="2617920" cy="25560"/>
          </a:xfrm>
          <a:prstGeom prst="rect">
            <a:avLst/>
          </a:prstGeom>
          <a:solidFill>
            <a:srgbClr val="daf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546440" y="4392720"/>
            <a:ext cx="2617920" cy="20520"/>
          </a:xfrm>
          <a:prstGeom prst="rect">
            <a:avLst/>
          </a:prstGeom>
          <a:solidFill>
            <a:srgbClr val="d8f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546440" y="4413240"/>
            <a:ext cx="2617920" cy="17640"/>
          </a:xfrm>
          <a:prstGeom prst="rect">
            <a:avLst/>
          </a:prstGeom>
          <a:solidFill>
            <a:srgbClr val="d6f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546440" y="4430880"/>
            <a:ext cx="2617920" cy="17280"/>
          </a:xfrm>
          <a:prstGeom prst="rect">
            <a:avLst/>
          </a:prstGeom>
          <a:solidFill>
            <a:srgbClr val="d4f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546440" y="4448160"/>
            <a:ext cx="2617920" cy="17640"/>
          </a:xfrm>
          <a:prstGeom prst="rect">
            <a:avLst/>
          </a:prstGeom>
          <a:solidFill>
            <a:srgbClr val="d3f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546440" y="4465800"/>
            <a:ext cx="2617920" cy="14040"/>
          </a:xfrm>
          <a:prstGeom prst="rect">
            <a:avLst/>
          </a:prstGeom>
          <a:solidFill>
            <a:srgbClr val="d1f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546440" y="4479840"/>
            <a:ext cx="2617920" cy="23760"/>
          </a:xfrm>
          <a:prstGeom prst="rect">
            <a:avLst/>
          </a:prstGeom>
          <a:solidFill>
            <a:srgbClr val="cf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546440" y="4503600"/>
            <a:ext cx="2617920" cy="14400"/>
          </a:xfrm>
          <a:prstGeom prst="rect">
            <a:avLst/>
          </a:prstGeom>
          <a:solidFill>
            <a:srgbClr val="cd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546440" y="4518000"/>
            <a:ext cx="2617920" cy="20520"/>
          </a:xfrm>
          <a:prstGeom prst="rect">
            <a:avLst/>
          </a:prstGeom>
          <a:solidFill>
            <a:srgbClr val="cb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546440" y="4538520"/>
            <a:ext cx="2617920" cy="20880"/>
          </a:xfrm>
          <a:prstGeom prst="rect">
            <a:avLst/>
          </a:prstGeom>
          <a:solidFill>
            <a:srgbClr val="c9ff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546440" y="4559400"/>
            <a:ext cx="2617920" cy="14040"/>
          </a:xfrm>
          <a:prstGeom prst="rect">
            <a:avLst/>
          </a:prstGeom>
          <a:solidFill>
            <a:srgbClr val="c7ff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546440" y="4573440"/>
            <a:ext cx="2617920" cy="17640"/>
          </a:xfrm>
          <a:prstGeom prst="rect">
            <a:avLst/>
          </a:prstGeom>
          <a:solidFill>
            <a:srgbClr val="c5f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546440" y="4591080"/>
            <a:ext cx="2617920" cy="14400"/>
          </a:xfrm>
          <a:prstGeom prst="rect">
            <a:avLst/>
          </a:prstGeom>
          <a:solidFill>
            <a:srgbClr val="c3f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546440" y="4605480"/>
            <a:ext cx="2617920" cy="23760"/>
          </a:xfrm>
          <a:prstGeom prst="rect">
            <a:avLst/>
          </a:prstGeom>
          <a:solidFill>
            <a:srgbClr val="c1f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546440" y="4629240"/>
            <a:ext cx="2617920" cy="15840"/>
          </a:xfrm>
          <a:prstGeom prst="rect">
            <a:avLst/>
          </a:prstGeom>
          <a:solidFill>
            <a:srgbClr val="bff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4645080"/>
            <a:ext cx="2617920" cy="15840"/>
          </a:xfrm>
          <a:prstGeom prst="rect">
            <a:avLst/>
          </a:prstGeom>
          <a:solidFill>
            <a:srgbClr val="bdf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546440" y="4660920"/>
            <a:ext cx="2617920" cy="14400"/>
          </a:xfrm>
          <a:prstGeom prst="rect">
            <a:avLst/>
          </a:prstGeom>
          <a:solidFill>
            <a:srgbClr val="bbf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546440" y="4675320"/>
            <a:ext cx="2617920" cy="17280"/>
          </a:xfrm>
          <a:prstGeom prst="rect">
            <a:avLst/>
          </a:prstGeom>
          <a:solidFill>
            <a:srgbClr val="b9f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546440" y="4692600"/>
            <a:ext cx="2617920" cy="17640"/>
          </a:xfrm>
          <a:prstGeom prst="rect">
            <a:avLst/>
          </a:prstGeom>
          <a:solidFill>
            <a:srgbClr val="b7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46440" y="4710240"/>
            <a:ext cx="2617920" cy="14040"/>
          </a:xfrm>
          <a:prstGeom prst="rect">
            <a:avLst/>
          </a:prstGeom>
          <a:solidFill>
            <a:srgbClr val="b5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546440" y="4724280"/>
            <a:ext cx="2617920" cy="15840"/>
          </a:xfrm>
          <a:prstGeom prst="rect">
            <a:avLst/>
          </a:prstGeom>
          <a:solidFill>
            <a:srgbClr val="b3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546440" y="4740120"/>
            <a:ext cx="2617920" cy="16200"/>
          </a:xfrm>
          <a:prstGeom prst="rect">
            <a:avLst/>
          </a:prstGeom>
          <a:solidFill>
            <a:srgbClr val="b1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546440" y="4756320"/>
            <a:ext cx="2617920" cy="18720"/>
          </a:xfrm>
          <a:prstGeom prst="rect">
            <a:avLst/>
          </a:prstGeom>
          <a:solidFill>
            <a:srgbClr val="a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546440" y="4775040"/>
            <a:ext cx="2617920" cy="19080"/>
          </a:xfrm>
          <a:prstGeom prst="rect">
            <a:avLst/>
          </a:prstGeom>
          <a:solidFill>
            <a:srgbClr val="adf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546440" y="4794120"/>
            <a:ext cx="2617920" cy="17640"/>
          </a:xfrm>
          <a:prstGeom prst="rect">
            <a:avLst/>
          </a:prstGeom>
          <a:solidFill>
            <a:srgbClr val="abf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546440" y="4811760"/>
            <a:ext cx="2617920" cy="14400"/>
          </a:xfrm>
          <a:prstGeom prst="rect">
            <a:avLst/>
          </a:prstGeom>
          <a:solidFill>
            <a:srgbClr val="a9f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546440" y="4826160"/>
            <a:ext cx="2617920" cy="17280"/>
          </a:xfrm>
          <a:prstGeom prst="rect">
            <a:avLst/>
          </a:prstGeom>
          <a:solidFill>
            <a:srgbClr val="a7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546440" y="4843440"/>
            <a:ext cx="2617920" cy="14400"/>
          </a:xfrm>
          <a:prstGeom prst="rect">
            <a:avLst/>
          </a:prstGeom>
          <a:solidFill>
            <a:srgbClr val="a5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46440" y="4857840"/>
            <a:ext cx="2617920" cy="15840"/>
          </a:xfrm>
          <a:prstGeom prst="rect">
            <a:avLst/>
          </a:prstGeom>
          <a:solidFill>
            <a:srgbClr val="a3f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546440" y="4873680"/>
            <a:ext cx="2617920" cy="15840"/>
          </a:xfrm>
          <a:prstGeom prst="rect">
            <a:avLst/>
          </a:prstGeom>
          <a:solidFill>
            <a:srgbClr val="a1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546440" y="4889520"/>
            <a:ext cx="2617920" cy="17280"/>
          </a:xfrm>
          <a:prstGeom prst="rect">
            <a:avLst/>
          </a:prstGeom>
          <a:solidFill>
            <a:srgbClr val="9f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546440" y="4906800"/>
            <a:ext cx="2617920" cy="16200"/>
          </a:xfrm>
          <a:prstGeom prst="rect">
            <a:avLst/>
          </a:prstGeom>
          <a:solidFill>
            <a:srgbClr val="9d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4923000"/>
            <a:ext cx="2617920" cy="21960"/>
          </a:xfrm>
          <a:prstGeom prst="rect">
            <a:avLst/>
          </a:prstGeom>
          <a:solidFill>
            <a:srgbClr val="9b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546440" y="4944960"/>
            <a:ext cx="2617920" cy="17640"/>
          </a:xfrm>
          <a:prstGeom prst="rect">
            <a:avLst/>
          </a:prstGeom>
          <a:solidFill>
            <a:srgbClr val="99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46440" y="4962600"/>
            <a:ext cx="2617920" cy="14040"/>
          </a:xfrm>
          <a:prstGeom prst="rect">
            <a:avLst/>
          </a:prstGeom>
          <a:solidFill>
            <a:srgbClr val="97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546440" y="4976640"/>
            <a:ext cx="2617920" cy="16200"/>
          </a:xfrm>
          <a:prstGeom prst="rect">
            <a:avLst/>
          </a:prstGeom>
          <a:solidFill>
            <a:srgbClr val="95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546440" y="4992840"/>
            <a:ext cx="2617920" cy="15840"/>
          </a:xfrm>
          <a:prstGeom prst="rect">
            <a:avLst/>
          </a:prstGeom>
          <a:solidFill>
            <a:srgbClr val="93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546440" y="5008680"/>
            <a:ext cx="2617920" cy="19080"/>
          </a:xfrm>
          <a:prstGeom prst="rect">
            <a:avLst/>
          </a:prstGeom>
          <a:solidFill>
            <a:srgbClr val="91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546440" y="5027760"/>
            <a:ext cx="2617920" cy="20520"/>
          </a:xfrm>
          <a:prstGeom prst="rect">
            <a:avLst/>
          </a:prstGeom>
          <a:solidFill>
            <a:srgbClr val="8f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546440" y="5048280"/>
            <a:ext cx="2617920" cy="15840"/>
          </a:xfrm>
          <a:prstGeom prst="rect">
            <a:avLst/>
          </a:prstGeom>
          <a:solidFill>
            <a:srgbClr val="8d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546440" y="5064120"/>
            <a:ext cx="2617920" cy="23760"/>
          </a:xfrm>
          <a:prstGeom prst="rect">
            <a:avLst/>
          </a:prstGeom>
          <a:solidFill>
            <a:srgbClr val="8b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5087880"/>
            <a:ext cx="2617920" cy="14400"/>
          </a:xfrm>
          <a:prstGeom prst="rect">
            <a:avLst/>
          </a:prstGeom>
          <a:solidFill>
            <a:srgbClr val="89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546440" y="5102280"/>
            <a:ext cx="2617920" cy="17280"/>
          </a:xfrm>
          <a:prstGeom prst="rect">
            <a:avLst/>
          </a:prstGeom>
          <a:solidFill>
            <a:srgbClr val="87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546440" y="5119560"/>
            <a:ext cx="2617920" cy="20880"/>
          </a:xfrm>
          <a:prstGeom prst="rect">
            <a:avLst/>
          </a:prstGeom>
          <a:solidFill>
            <a:srgbClr val="85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46440" y="5140440"/>
            <a:ext cx="2617920" cy="19080"/>
          </a:xfrm>
          <a:prstGeom prst="rect">
            <a:avLst/>
          </a:prstGeom>
          <a:solidFill>
            <a:srgbClr val="83f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546440" y="5159520"/>
            <a:ext cx="2617920" cy="27000"/>
          </a:xfrm>
          <a:prstGeom prst="rect">
            <a:avLst/>
          </a:prstGeom>
          <a:solidFill>
            <a:srgbClr val="81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546440" y="5186520"/>
            <a:ext cx="2617920" cy="20520"/>
          </a:xfrm>
          <a:prstGeom prst="rect">
            <a:avLst/>
          </a:prstGeom>
          <a:solidFill>
            <a:srgbClr val="7f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546440" y="5207040"/>
            <a:ext cx="2617920" cy="23760"/>
          </a:xfrm>
          <a:prstGeom prst="rect">
            <a:avLst/>
          </a:prstGeom>
          <a:solidFill>
            <a:srgbClr val="7d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546440" y="5230800"/>
            <a:ext cx="2617920" cy="19080"/>
          </a:xfrm>
          <a:prstGeom prst="rect">
            <a:avLst/>
          </a:prstGeom>
          <a:solidFill>
            <a:srgbClr val="7bf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546440" y="5249880"/>
            <a:ext cx="2617920" cy="27000"/>
          </a:xfrm>
          <a:prstGeom prst="rect">
            <a:avLst/>
          </a:prstGeom>
          <a:solidFill>
            <a:srgbClr val="79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546440" y="5276880"/>
            <a:ext cx="2617920" cy="20520"/>
          </a:xfrm>
          <a:prstGeom prst="rect">
            <a:avLst/>
          </a:prstGeom>
          <a:solidFill>
            <a:srgbClr val="77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546440" y="5297400"/>
            <a:ext cx="2617920" cy="31680"/>
          </a:xfrm>
          <a:prstGeom prst="rect">
            <a:avLst/>
          </a:prstGeom>
          <a:solidFill>
            <a:srgbClr val="75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546440" y="5329080"/>
            <a:ext cx="2617920" cy="32040"/>
          </a:xfrm>
          <a:prstGeom prst="rect">
            <a:avLst/>
          </a:prstGeom>
          <a:solidFill>
            <a:srgbClr val="73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546440" y="5361120"/>
            <a:ext cx="2617920" cy="29880"/>
          </a:xfrm>
          <a:prstGeom prst="rect">
            <a:avLst/>
          </a:prstGeom>
          <a:solidFill>
            <a:srgbClr val="71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546440" y="5391000"/>
            <a:ext cx="2617920" cy="32040"/>
          </a:xfrm>
          <a:prstGeom prst="rect">
            <a:avLst/>
          </a:prstGeom>
          <a:solidFill>
            <a:srgbClr val="6f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546440" y="5423040"/>
            <a:ext cx="2617920" cy="31680"/>
          </a:xfrm>
          <a:prstGeom prst="rect">
            <a:avLst/>
          </a:prstGeom>
          <a:solidFill>
            <a:srgbClr val="6d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546440" y="5454720"/>
            <a:ext cx="2617920" cy="47520"/>
          </a:xfrm>
          <a:prstGeom prst="rect">
            <a:avLst/>
          </a:prstGeom>
          <a:solidFill>
            <a:srgbClr val="6b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546440" y="5502240"/>
            <a:ext cx="2617920" cy="47520"/>
          </a:xfrm>
          <a:prstGeom prst="rect">
            <a:avLst/>
          </a:prstGeom>
          <a:solidFill>
            <a:srgbClr val="69f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546440" y="5549760"/>
            <a:ext cx="2617920" cy="399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546440" y="1546200"/>
            <a:ext cx="2616480" cy="4041720"/>
          </a:xfrm>
          <a:custGeom>
            <a:avLst/>
            <a:gdLst/>
            <a:ahLst/>
            <a:rect l="l" t="t" r="r" b="b"/>
            <a:pathLst>
              <a:path w="1648" h="2546">
                <a:moveTo>
                  <a:pt x="523" y="0"/>
                </a:moveTo>
                <a:lnTo>
                  <a:pt x="495" y="0"/>
                </a:lnTo>
                <a:lnTo>
                  <a:pt x="469" y="2"/>
                </a:lnTo>
                <a:lnTo>
                  <a:pt x="443" y="5"/>
                </a:lnTo>
                <a:lnTo>
                  <a:pt x="417" y="10"/>
                </a:lnTo>
                <a:lnTo>
                  <a:pt x="392" y="16"/>
                </a:lnTo>
                <a:lnTo>
                  <a:pt x="367" y="23"/>
                </a:lnTo>
                <a:lnTo>
                  <a:pt x="342" y="32"/>
                </a:lnTo>
                <a:lnTo>
                  <a:pt x="318" y="40"/>
                </a:lnTo>
                <a:lnTo>
                  <a:pt x="296" y="51"/>
                </a:lnTo>
                <a:lnTo>
                  <a:pt x="273" y="62"/>
                </a:lnTo>
                <a:lnTo>
                  <a:pt x="252" y="75"/>
                </a:lnTo>
                <a:lnTo>
                  <a:pt x="230" y="89"/>
                </a:lnTo>
                <a:lnTo>
                  <a:pt x="209" y="104"/>
                </a:lnTo>
                <a:lnTo>
                  <a:pt x="189" y="119"/>
                </a:lnTo>
                <a:lnTo>
                  <a:pt x="170" y="135"/>
                </a:lnTo>
                <a:lnTo>
                  <a:pt x="153" y="153"/>
                </a:lnTo>
                <a:lnTo>
                  <a:pt x="136" y="171"/>
                </a:lnTo>
                <a:lnTo>
                  <a:pt x="119" y="189"/>
                </a:lnTo>
                <a:lnTo>
                  <a:pt x="103" y="210"/>
                </a:lnTo>
                <a:lnTo>
                  <a:pt x="89" y="230"/>
                </a:lnTo>
                <a:lnTo>
                  <a:pt x="74" y="251"/>
                </a:lnTo>
                <a:lnTo>
                  <a:pt x="62" y="273"/>
                </a:lnTo>
                <a:lnTo>
                  <a:pt x="51" y="296"/>
                </a:lnTo>
                <a:lnTo>
                  <a:pt x="41" y="319"/>
                </a:lnTo>
                <a:lnTo>
                  <a:pt x="31" y="342"/>
                </a:lnTo>
                <a:lnTo>
                  <a:pt x="23" y="367"/>
                </a:lnTo>
                <a:lnTo>
                  <a:pt x="15" y="392"/>
                </a:lnTo>
                <a:lnTo>
                  <a:pt x="10" y="417"/>
                </a:lnTo>
                <a:lnTo>
                  <a:pt x="6" y="442"/>
                </a:lnTo>
                <a:lnTo>
                  <a:pt x="2" y="469"/>
                </a:lnTo>
                <a:lnTo>
                  <a:pt x="0" y="495"/>
                </a:lnTo>
                <a:lnTo>
                  <a:pt x="0" y="522"/>
                </a:lnTo>
                <a:lnTo>
                  <a:pt x="0" y="2024"/>
                </a:lnTo>
                <a:lnTo>
                  <a:pt x="0" y="2052"/>
                </a:lnTo>
                <a:lnTo>
                  <a:pt x="2" y="2078"/>
                </a:lnTo>
                <a:lnTo>
                  <a:pt x="6" y="2104"/>
                </a:lnTo>
                <a:lnTo>
                  <a:pt x="10" y="2130"/>
                </a:lnTo>
                <a:lnTo>
                  <a:pt x="15" y="2155"/>
                </a:lnTo>
                <a:lnTo>
                  <a:pt x="23" y="2179"/>
                </a:lnTo>
                <a:lnTo>
                  <a:pt x="31" y="2205"/>
                </a:lnTo>
                <a:lnTo>
                  <a:pt x="41" y="2228"/>
                </a:lnTo>
                <a:lnTo>
                  <a:pt x="51" y="2251"/>
                </a:lnTo>
                <a:lnTo>
                  <a:pt x="62" y="2273"/>
                </a:lnTo>
                <a:lnTo>
                  <a:pt x="74" y="2295"/>
                </a:lnTo>
                <a:lnTo>
                  <a:pt x="89" y="2316"/>
                </a:lnTo>
                <a:lnTo>
                  <a:pt x="103" y="2336"/>
                </a:lnTo>
                <a:lnTo>
                  <a:pt x="119" y="2356"/>
                </a:lnTo>
                <a:lnTo>
                  <a:pt x="136" y="2375"/>
                </a:lnTo>
                <a:lnTo>
                  <a:pt x="153" y="2393"/>
                </a:lnTo>
                <a:lnTo>
                  <a:pt x="170" y="2411"/>
                </a:lnTo>
                <a:lnTo>
                  <a:pt x="189" y="2427"/>
                </a:lnTo>
                <a:lnTo>
                  <a:pt x="209" y="2443"/>
                </a:lnTo>
                <a:lnTo>
                  <a:pt x="230" y="2458"/>
                </a:lnTo>
                <a:lnTo>
                  <a:pt x="252" y="2471"/>
                </a:lnTo>
                <a:lnTo>
                  <a:pt x="273" y="2484"/>
                </a:lnTo>
                <a:lnTo>
                  <a:pt x="296" y="2496"/>
                </a:lnTo>
                <a:lnTo>
                  <a:pt x="318" y="2506"/>
                </a:lnTo>
                <a:lnTo>
                  <a:pt x="342" y="2515"/>
                </a:lnTo>
                <a:lnTo>
                  <a:pt x="367" y="2523"/>
                </a:lnTo>
                <a:lnTo>
                  <a:pt x="392" y="2530"/>
                </a:lnTo>
                <a:lnTo>
                  <a:pt x="417" y="2537"/>
                </a:lnTo>
                <a:lnTo>
                  <a:pt x="443" y="2541"/>
                </a:lnTo>
                <a:lnTo>
                  <a:pt x="469" y="2544"/>
                </a:lnTo>
                <a:lnTo>
                  <a:pt x="495" y="2546"/>
                </a:lnTo>
                <a:lnTo>
                  <a:pt x="523" y="2546"/>
                </a:lnTo>
                <a:lnTo>
                  <a:pt x="1126" y="2546"/>
                </a:lnTo>
                <a:lnTo>
                  <a:pt x="1153" y="2546"/>
                </a:lnTo>
                <a:lnTo>
                  <a:pt x="1179" y="2544"/>
                </a:lnTo>
                <a:lnTo>
                  <a:pt x="1205" y="2541"/>
                </a:lnTo>
                <a:lnTo>
                  <a:pt x="1232" y="2537"/>
                </a:lnTo>
                <a:lnTo>
                  <a:pt x="1257" y="2530"/>
                </a:lnTo>
                <a:lnTo>
                  <a:pt x="1281" y="2523"/>
                </a:lnTo>
                <a:lnTo>
                  <a:pt x="1305" y="2515"/>
                </a:lnTo>
                <a:lnTo>
                  <a:pt x="1330" y="2506"/>
                </a:lnTo>
                <a:lnTo>
                  <a:pt x="1352" y="2496"/>
                </a:lnTo>
                <a:lnTo>
                  <a:pt x="1375" y="2484"/>
                </a:lnTo>
                <a:lnTo>
                  <a:pt x="1397" y="2471"/>
                </a:lnTo>
                <a:lnTo>
                  <a:pt x="1418" y="2458"/>
                </a:lnTo>
                <a:lnTo>
                  <a:pt x="1438" y="2443"/>
                </a:lnTo>
                <a:lnTo>
                  <a:pt x="1458" y="2427"/>
                </a:lnTo>
                <a:lnTo>
                  <a:pt x="1477" y="2411"/>
                </a:lnTo>
                <a:lnTo>
                  <a:pt x="1495" y="2393"/>
                </a:lnTo>
                <a:lnTo>
                  <a:pt x="1513" y="2375"/>
                </a:lnTo>
                <a:lnTo>
                  <a:pt x="1529" y="2356"/>
                </a:lnTo>
                <a:lnTo>
                  <a:pt x="1545" y="2336"/>
                </a:lnTo>
                <a:lnTo>
                  <a:pt x="1560" y="2316"/>
                </a:lnTo>
                <a:lnTo>
                  <a:pt x="1573" y="2295"/>
                </a:lnTo>
                <a:lnTo>
                  <a:pt x="1586" y="2273"/>
                </a:lnTo>
                <a:lnTo>
                  <a:pt x="1598" y="2251"/>
                </a:lnTo>
                <a:lnTo>
                  <a:pt x="1607" y="2228"/>
                </a:lnTo>
                <a:lnTo>
                  <a:pt x="1617" y="2205"/>
                </a:lnTo>
                <a:lnTo>
                  <a:pt x="1625" y="2179"/>
                </a:lnTo>
                <a:lnTo>
                  <a:pt x="1632" y="2155"/>
                </a:lnTo>
                <a:lnTo>
                  <a:pt x="1638" y="2130"/>
                </a:lnTo>
                <a:lnTo>
                  <a:pt x="1643" y="2104"/>
                </a:lnTo>
                <a:lnTo>
                  <a:pt x="1646" y="2078"/>
                </a:lnTo>
                <a:lnTo>
                  <a:pt x="1648" y="2052"/>
                </a:lnTo>
                <a:lnTo>
                  <a:pt x="1648" y="2024"/>
                </a:lnTo>
                <a:lnTo>
                  <a:pt x="1648" y="522"/>
                </a:lnTo>
                <a:lnTo>
                  <a:pt x="1648" y="495"/>
                </a:lnTo>
                <a:lnTo>
                  <a:pt x="1646" y="469"/>
                </a:lnTo>
                <a:lnTo>
                  <a:pt x="1643" y="442"/>
                </a:lnTo>
                <a:lnTo>
                  <a:pt x="1638" y="417"/>
                </a:lnTo>
                <a:lnTo>
                  <a:pt x="1632" y="392"/>
                </a:lnTo>
                <a:lnTo>
                  <a:pt x="1625" y="367"/>
                </a:lnTo>
                <a:lnTo>
                  <a:pt x="1617" y="342"/>
                </a:lnTo>
                <a:lnTo>
                  <a:pt x="1607" y="319"/>
                </a:lnTo>
                <a:lnTo>
                  <a:pt x="1598" y="296"/>
                </a:lnTo>
                <a:lnTo>
                  <a:pt x="1586" y="273"/>
                </a:lnTo>
                <a:lnTo>
                  <a:pt x="1573" y="251"/>
                </a:lnTo>
                <a:lnTo>
                  <a:pt x="1560" y="230"/>
                </a:lnTo>
                <a:lnTo>
                  <a:pt x="1545" y="210"/>
                </a:lnTo>
                <a:lnTo>
                  <a:pt x="1529" y="189"/>
                </a:lnTo>
                <a:lnTo>
                  <a:pt x="1513" y="171"/>
                </a:lnTo>
                <a:lnTo>
                  <a:pt x="1495" y="153"/>
                </a:lnTo>
                <a:lnTo>
                  <a:pt x="1477" y="135"/>
                </a:lnTo>
                <a:lnTo>
                  <a:pt x="1458" y="119"/>
                </a:lnTo>
                <a:lnTo>
                  <a:pt x="1438" y="104"/>
                </a:lnTo>
                <a:lnTo>
                  <a:pt x="1418" y="89"/>
                </a:lnTo>
                <a:lnTo>
                  <a:pt x="1397" y="75"/>
                </a:lnTo>
                <a:lnTo>
                  <a:pt x="1375" y="62"/>
                </a:lnTo>
                <a:lnTo>
                  <a:pt x="1352" y="51"/>
                </a:lnTo>
                <a:lnTo>
                  <a:pt x="1330" y="40"/>
                </a:lnTo>
                <a:lnTo>
                  <a:pt x="1305" y="32"/>
                </a:lnTo>
                <a:lnTo>
                  <a:pt x="1281" y="23"/>
                </a:lnTo>
                <a:lnTo>
                  <a:pt x="1257" y="16"/>
                </a:lnTo>
                <a:lnTo>
                  <a:pt x="1232" y="10"/>
                </a:lnTo>
                <a:lnTo>
                  <a:pt x="1205" y="5"/>
                </a:lnTo>
                <a:lnTo>
                  <a:pt x="1179" y="2"/>
                </a:lnTo>
                <a:lnTo>
                  <a:pt x="1153" y="0"/>
                </a:lnTo>
                <a:lnTo>
                  <a:pt x="1126" y="0"/>
                </a:lnTo>
                <a:lnTo>
                  <a:pt x="52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497560" y="2257560"/>
            <a:ext cx="47628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497560" y="2417760"/>
            <a:ext cx="476280" cy="1317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497560" y="2549520"/>
            <a:ext cx="476280" cy="936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497560" y="2643120"/>
            <a:ext cx="476280" cy="907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497560" y="2733840"/>
            <a:ext cx="476280" cy="619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497560" y="2795760"/>
            <a:ext cx="476280" cy="71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497560" y="2867040"/>
            <a:ext cx="476280" cy="507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497560" y="2917800"/>
            <a:ext cx="476280" cy="507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497560" y="2968560"/>
            <a:ext cx="476280" cy="507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497560" y="3019320"/>
            <a:ext cx="476280" cy="4284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497560" y="3062160"/>
            <a:ext cx="476280" cy="399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497560" y="3102120"/>
            <a:ext cx="476280" cy="3960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497560" y="3141720"/>
            <a:ext cx="476280" cy="3168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497560" y="3173400"/>
            <a:ext cx="476280" cy="41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497560" y="3214800"/>
            <a:ext cx="476280" cy="316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497560" y="3246480"/>
            <a:ext cx="476280" cy="3024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497560" y="3276720"/>
            <a:ext cx="476280" cy="4104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497560" y="3317760"/>
            <a:ext cx="476280" cy="30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97560" y="3348000"/>
            <a:ext cx="476280" cy="3024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497560" y="3378240"/>
            <a:ext cx="476280" cy="2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497560" y="3398760"/>
            <a:ext cx="476280" cy="3024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497560" y="3429000"/>
            <a:ext cx="476280" cy="316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497560" y="3460680"/>
            <a:ext cx="476280" cy="3024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497560" y="3490920"/>
            <a:ext cx="476280" cy="2052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497560" y="3511440"/>
            <a:ext cx="476280" cy="3024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497560" y="3541680"/>
            <a:ext cx="476280" cy="302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497560" y="3571920"/>
            <a:ext cx="476280" cy="20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497560" y="3592440"/>
            <a:ext cx="476280" cy="3024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497560" y="3622680"/>
            <a:ext cx="476280" cy="2232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497560" y="3645000"/>
            <a:ext cx="476280" cy="3024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497560" y="3675240"/>
            <a:ext cx="476280" cy="18720"/>
          </a:xfrm>
          <a:prstGeom prst="rect">
            <a:avLst/>
          </a:pr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497560" y="3693960"/>
            <a:ext cx="476280" cy="3204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497560" y="3726000"/>
            <a:ext cx="476280" cy="2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497560" y="3746520"/>
            <a:ext cx="476280" cy="30240"/>
          </a:xfrm>
          <a:prstGeom prst="rect">
            <a:avLst/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497560" y="3776760"/>
            <a:ext cx="476280" cy="20520"/>
          </a:xfrm>
          <a:prstGeom prst="rect">
            <a:avLst/>
          </a:prstGeom>
          <a:solidFill>
            <a:srgbClr val="bb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497560" y="3797280"/>
            <a:ext cx="476280" cy="30240"/>
          </a:xfrm>
          <a:prstGeom prst="rect">
            <a:avLst/>
          </a:pr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497560" y="3827520"/>
            <a:ext cx="476280" cy="20520"/>
          </a:xfrm>
          <a:prstGeom prst="rect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497560" y="3848040"/>
            <a:ext cx="476280" cy="3024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497560" y="3878280"/>
            <a:ext cx="476280" cy="2052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497560" y="3898800"/>
            <a:ext cx="476280" cy="31680"/>
          </a:xfrm>
          <a:prstGeom prst="rect">
            <a:avLst/>
          </a:prstGeom>
          <a:solidFill>
            <a:srgbClr val="b1b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497560" y="3930480"/>
            <a:ext cx="476280" cy="20880"/>
          </a:xfrm>
          <a:prstGeom prst="rect">
            <a:avLst/>
          </a:pr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497560" y="3951360"/>
            <a:ext cx="476280" cy="302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497560" y="3981600"/>
            <a:ext cx="476280" cy="20520"/>
          </a:xfrm>
          <a:prstGeom prst="rect">
            <a:avLst/>
          </a:pr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497560" y="4002120"/>
            <a:ext cx="476280" cy="30240"/>
          </a:xfrm>
          <a:prstGeom prst="rect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497560" y="4032360"/>
            <a:ext cx="476280" cy="2052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497560" y="4052880"/>
            <a:ext cx="476280" cy="302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497560" y="4083120"/>
            <a:ext cx="476280" cy="316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497560" y="4114800"/>
            <a:ext cx="476280" cy="3024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497560" y="4145040"/>
            <a:ext cx="476280" cy="3024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497560" y="4175280"/>
            <a:ext cx="476280" cy="3168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497560" y="4206960"/>
            <a:ext cx="476280" cy="3024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497560" y="4237200"/>
            <a:ext cx="476280" cy="298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497560" y="4267080"/>
            <a:ext cx="476280" cy="3024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497560" y="4297320"/>
            <a:ext cx="476280" cy="31680"/>
          </a:xfrm>
          <a:prstGeom prst="rect">
            <a:avLst/>
          </a:pr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497560" y="4329000"/>
            <a:ext cx="476280" cy="3996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497560" y="4368960"/>
            <a:ext cx="476280" cy="428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497560" y="4411800"/>
            <a:ext cx="476280" cy="3960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497560" y="4451400"/>
            <a:ext cx="476280" cy="3960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497560" y="4491000"/>
            <a:ext cx="476280" cy="5256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497560" y="4543560"/>
            <a:ext cx="476280" cy="5220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497560" y="4595760"/>
            <a:ext cx="476280" cy="493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497560" y="4645080"/>
            <a:ext cx="476280" cy="7308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497560" y="4718160"/>
            <a:ext cx="476280" cy="8244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497560" y="4800600"/>
            <a:ext cx="476280" cy="76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497560" y="2257560"/>
            <a:ext cx="476280" cy="2619360"/>
          </a:xfrm>
          <a:custGeom>
            <a:avLst/>
            <a:gdLst/>
            <a:ahLst/>
            <a:rect l="l" t="t" r="r" b="b"/>
            <a:pathLst>
              <a:path w="300" h="1650">
                <a:moveTo>
                  <a:pt x="0" y="1539"/>
                </a:moveTo>
                <a:lnTo>
                  <a:pt x="99" y="1539"/>
                </a:lnTo>
                <a:lnTo>
                  <a:pt x="99" y="0"/>
                </a:lnTo>
                <a:lnTo>
                  <a:pt x="201" y="0"/>
                </a:lnTo>
                <a:lnTo>
                  <a:pt x="201" y="1539"/>
                </a:lnTo>
                <a:lnTo>
                  <a:pt x="300" y="1539"/>
                </a:lnTo>
                <a:lnTo>
                  <a:pt x="150" y="1650"/>
                </a:lnTo>
                <a:lnTo>
                  <a:pt x="0" y="153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97560" y="2257560"/>
            <a:ext cx="476280" cy="2619360"/>
          </a:xfrm>
          <a:custGeom>
            <a:avLst/>
            <a:gdLst/>
            <a:ahLst/>
            <a:rect l="l" t="t" r="r" b="b"/>
            <a:pathLst>
              <a:path w="300" h="1650">
                <a:moveTo>
                  <a:pt x="0" y="1539"/>
                </a:moveTo>
                <a:lnTo>
                  <a:pt x="99" y="1539"/>
                </a:lnTo>
                <a:lnTo>
                  <a:pt x="99" y="0"/>
                </a:lnTo>
                <a:lnTo>
                  <a:pt x="201" y="0"/>
                </a:lnTo>
                <a:lnTo>
                  <a:pt x="201" y="1539"/>
                </a:lnTo>
                <a:lnTo>
                  <a:pt x="300" y="1539"/>
                </a:lnTo>
                <a:lnTo>
                  <a:pt x="150" y="1650"/>
                </a:lnTo>
                <a:lnTo>
                  <a:pt x="0" y="15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497560" y="2257560"/>
            <a:ext cx="47628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497560" y="2417760"/>
            <a:ext cx="476280" cy="1317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497560" y="2549520"/>
            <a:ext cx="476280" cy="936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497560" y="2643120"/>
            <a:ext cx="476280" cy="907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497560" y="2733840"/>
            <a:ext cx="476280" cy="619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497560" y="2795760"/>
            <a:ext cx="476280" cy="71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497560" y="2867040"/>
            <a:ext cx="476280" cy="507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497560" y="2917800"/>
            <a:ext cx="476280" cy="507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497560" y="2968560"/>
            <a:ext cx="476280" cy="507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497560" y="3019320"/>
            <a:ext cx="476280" cy="4284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497560" y="3062160"/>
            <a:ext cx="476280" cy="399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497560" y="3102120"/>
            <a:ext cx="476280" cy="3960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497560" y="3141720"/>
            <a:ext cx="476280" cy="3168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497560" y="3173400"/>
            <a:ext cx="476280" cy="41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497560" y="3214800"/>
            <a:ext cx="476280" cy="316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97560" y="3246480"/>
            <a:ext cx="476280" cy="3024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97560" y="3276720"/>
            <a:ext cx="476280" cy="4104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497560" y="3317760"/>
            <a:ext cx="476280" cy="30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497560" y="3348000"/>
            <a:ext cx="476280" cy="3024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497560" y="3378240"/>
            <a:ext cx="476280" cy="2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497560" y="3398760"/>
            <a:ext cx="476280" cy="3024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497560" y="3429000"/>
            <a:ext cx="476280" cy="316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497560" y="3460680"/>
            <a:ext cx="476280" cy="3024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497560" y="3490920"/>
            <a:ext cx="476280" cy="2052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497560" y="3511440"/>
            <a:ext cx="476280" cy="3024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497560" y="3541680"/>
            <a:ext cx="476280" cy="302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497560" y="3571920"/>
            <a:ext cx="476280" cy="20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497560" y="3592440"/>
            <a:ext cx="476280" cy="3024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497560" y="3622680"/>
            <a:ext cx="476280" cy="2232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497560" y="3645000"/>
            <a:ext cx="476280" cy="3024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97560" y="3675240"/>
            <a:ext cx="476280" cy="18720"/>
          </a:xfrm>
          <a:prstGeom prst="rect">
            <a:avLst/>
          </a:pr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97560" y="3693960"/>
            <a:ext cx="476280" cy="3204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497560" y="3726000"/>
            <a:ext cx="476280" cy="2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97560" y="3746520"/>
            <a:ext cx="476280" cy="30240"/>
          </a:xfrm>
          <a:prstGeom prst="rect">
            <a:avLst/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497560" y="3776760"/>
            <a:ext cx="476280" cy="20520"/>
          </a:xfrm>
          <a:prstGeom prst="rect">
            <a:avLst/>
          </a:prstGeom>
          <a:solidFill>
            <a:srgbClr val="bb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497560" y="3797280"/>
            <a:ext cx="476280" cy="30240"/>
          </a:xfrm>
          <a:prstGeom prst="rect">
            <a:avLst/>
          </a:pr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97560" y="3827520"/>
            <a:ext cx="476280" cy="20520"/>
          </a:xfrm>
          <a:prstGeom prst="rect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497560" y="3848040"/>
            <a:ext cx="476280" cy="3024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5497560" y="3878280"/>
            <a:ext cx="476280" cy="2052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497560" y="3898800"/>
            <a:ext cx="476280" cy="31680"/>
          </a:xfrm>
          <a:prstGeom prst="rect">
            <a:avLst/>
          </a:prstGeom>
          <a:solidFill>
            <a:srgbClr val="b1b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497560" y="3930480"/>
            <a:ext cx="476280" cy="20880"/>
          </a:xfrm>
          <a:prstGeom prst="rect">
            <a:avLst/>
          </a:pr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497560" y="3951360"/>
            <a:ext cx="476280" cy="302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497560" y="3981600"/>
            <a:ext cx="476280" cy="20520"/>
          </a:xfrm>
          <a:prstGeom prst="rect">
            <a:avLst/>
          </a:pr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497560" y="4002120"/>
            <a:ext cx="476280" cy="30240"/>
          </a:xfrm>
          <a:prstGeom prst="rect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497560" y="4032360"/>
            <a:ext cx="476280" cy="2052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497560" y="4052880"/>
            <a:ext cx="476280" cy="302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497560" y="4083120"/>
            <a:ext cx="476280" cy="316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497560" y="4114800"/>
            <a:ext cx="476280" cy="3024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497560" y="4145040"/>
            <a:ext cx="476280" cy="3024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497560" y="4175280"/>
            <a:ext cx="476280" cy="3168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497560" y="4206960"/>
            <a:ext cx="476280" cy="3024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497560" y="4237200"/>
            <a:ext cx="476280" cy="298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497560" y="4267080"/>
            <a:ext cx="476280" cy="3024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497560" y="4297320"/>
            <a:ext cx="476280" cy="31680"/>
          </a:xfrm>
          <a:prstGeom prst="rect">
            <a:avLst/>
          </a:pr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497560" y="4329000"/>
            <a:ext cx="476280" cy="3996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497560" y="4368960"/>
            <a:ext cx="476280" cy="428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497560" y="4411800"/>
            <a:ext cx="476280" cy="3960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497560" y="4451400"/>
            <a:ext cx="476280" cy="3960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497560" y="4491000"/>
            <a:ext cx="476280" cy="5256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497560" y="4543560"/>
            <a:ext cx="476280" cy="5220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497560" y="4595760"/>
            <a:ext cx="476280" cy="493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497560" y="4645080"/>
            <a:ext cx="476280" cy="7308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497560" y="4718160"/>
            <a:ext cx="476280" cy="8244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497560" y="4800600"/>
            <a:ext cx="476280" cy="76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497560" y="2257560"/>
            <a:ext cx="476280" cy="2619360"/>
          </a:xfrm>
          <a:custGeom>
            <a:avLst/>
            <a:gdLst/>
            <a:ahLst/>
            <a:rect l="l" t="t" r="r" b="b"/>
            <a:pathLst>
              <a:path w="300" h="1650">
                <a:moveTo>
                  <a:pt x="0" y="1539"/>
                </a:moveTo>
                <a:lnTo>
                  <a:pt x="99" y="1539"/>
                </a:lnTo>
                <a:lnTo>
                  <a:pt x="99" y="0"/>
                </a:lnTo>
                <a:lnTo>
                  <a:pt x="201" y="0"/>
                </a:lnTo>
                <a:lnTo>
                  <a:pt x="201" y="1539"/>
                </a:lnTo>
                <a:lnTo>
                  <a:pt x="300" y="1539"/>
                </a:lnTo>
                <a:lnTo>
                  <a:pt x="150" y="1650"/>
                </a:lnTo>
                <a:lnTo>
                  <a:pt x="0" y="1539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450800" y="1544760"/>
            <a:ext cx="2619720" cy="3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450800" y="1584360"/>
            <a:ext cx="2619720" cy="47520"/>
          </a:xfrm>
          <a:prstGeom prst="rect">
            <a:avLst/>
          </a:prstGeom>
          <a:solidFill>
            <a:srgbClr val="689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450800" y="1631880"/>
            <a:ext cx="2619720" cy="49320"/>
          </a:xfrm>
          <a:prstGeom prst="rect">
            <a:avLst/>
          </a:prstGeom>
          <a:solidFill>
            <a:srgbClr val="6a9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450800" y="1681200"/>
            <a:ext cx="2619720" cy="30240"/>
          </a:xfrm>
          <a:prstGeom prst="rect">
            <a:avLst/>
          </a:prstGeom>
          <a:solidFill>
            <a:srgbClr val="6c9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450800" y="1711440"/>
            <a:ext cx="2619720" cy="31680"/>
          </a:xfrm>
          <a:prstGeom prst="rect">
            <a:avLst/>
          </a:prstGeom>
          <a:solidFill>
            <a:srgbClr val="6e9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450800" y="1743120"/>
            <a:ext cx="2619720" cy="31680"/>
          </a:xfrm>
          <a:prstGeom prst="rect">
            <a:avLst/>
          </a:prstGeom>
          <a:solidFill>
            <a:srgbClr val="709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450800" y="1774800"/>
            <a:ext cx="2619720" cy="31680"/>
          </a:xfrm>
          <a:prstGeom prst="rect">
            <a:avLst/>
          </a:prstGeom>
          <a:solidFill>
            <a:srgbClr val="729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450800" y="1806480"/>
            <a:ext cx="2619720" cy="31680"/>
          </a:xfrm>
          <a:prstGeom prst="rect">
            <a:avLst/>
          </a:prstGeom>
          <a:solidFill>
            <a:srgbClr val="749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450800" y="1838160"/>
            <a:ext cx="2619720" cy="17640"/>
          </a:xfrm>
          <a:prstGeom prst="rect">
            <a:avLst/>
          </a:prstGeom>
          <a:solidFill>
            <a:srgbClr val="769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450800" y="1855800"/>
            <a:ext cx="2619720" cy="28440"/>
          </a:xfrm>
          <a:prstGeom prst="rect">
            <a:avLst/>
          </a:prstGeom>
          <a:solidFill>
            <a:srgbClr val="789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450800" y="1884240"/>
            <a:ext cx="2619720" cy="20880"/>
          </a:xfrm>
          <a:prstGeom prst="rect">
            <a:avLst/>
          </a:prstGeom>
          <a:solidFill>
            <a:srgbClr val="7a9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450800" y="1905120"/>
            <a:ext cx="2619720" cy="23760"/>
          </a:xfrm>
          <a:prstGeom prst="rect">
            <a:avLst/>
          </a:prstGeom>
          <a:solidFill>
            <a:srgbClr val="7c9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450800" y="1928880"/>
            <a:ext cx="2619720" cy="19080"/>
          </a:xfrm>
          <a:prstGeom prst="rect">
            <a:avLst/>
          </a:prstGeom>
          <a:solidFill>
            <a:srgbClr val="7e93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450800" y="1947960"/>
            <a:ext cx="2619720" cy="15840"/>
          </a:xfrm>
          <a:prstGeom prst="rect">
            <a:avLst/>
          </a:prstGeom>
          <a:solidFill>
            <a:srgbClr val="809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450800" y="1963800"/>
            <a:ext cx="2619720" cy="19080"/>
          </a:xfrm>
          <a:prstGeom prst="rect">
            <a:avLst/>
          </a:prstGeom>
          <a:solidFill>
            <a:srgbClr val="819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450800" y="1982880"/>
            <a:ext cx="2619720" cy="23760"/>
          </a:xfrm>
          <a:prstGeom prst="rect">
            <a:avLst/>
          </a:prstGeom>
          <a:solidFill>
            <a:srgbClr val="839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450800" y="2006640"/>
            <a:ext cx="2619720" cy="17280"/>
          </a:xfrm>
          <a:prstGeom prst="rect">
            <a:avLst/>
          </a:prstGeom>
          <a:solidFill>
            <a:srgbClr val="859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450800" y="2023920"/>
            <a:ext cx="2619720" cy="14400"/>
          </a:xfrm>
          <a:prstGeom prst="rect">
            <a:avLst/>
          </a:prstGeom>
          <a:solidFill>
            <a:srgbClr val="879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450800" y="2038320"/>
            <a:ext cx="2619720" cy="20520"/>
          </a:xfrm>
          <a:prstGeom prst="rect">
            <a:avLst/>
          </a:prstGeom>
          <a:solidFill>
            <a:srgbClr val="899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450800" y="2058840"/>
            <a:ext cx="2619720" cy="20880"/>
          </a:xfrm>
          <a:prstGeom prst="rect">
            <a:avLst/>
          </a:prstGeom>
          <a:solidFill>
            <a:srgbClr val="8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50800" y="2079720"/>
            <a:ext cx="2619720" cy="14040"/>
          </a:xfrm>
          <a:prstGeom prst="rect">
            <a:avLst/>
          </a:prstGeom>
          <a:solidFill>
            <a:srgbClr val="8d8e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450800" y="2093760"/>
            <a:ext cx="2619720" cy="24120"/>
          </a:xfrm>
          <a:prstGeom prst="rect">
            <a:avLst/>
          </a:prstGeom>
          <a:solidFill>
            <a:srgbClr val="8f8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50800" y="2117880"/>
            <a:ext cx="2619720" cy="15840"/>
          </a:xfrm>
          <a:prstGeom prst="rect">
            <a:avLst/>
          </a:prstGeom>
          <a:solidFill>
            <a:srgbClr val="91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450800" y="2133720"/>
            <a:ext cx="2619720" cy="15840"/>
          </a:xfrm>
          <a:prstGeom prst="rect">
            <a:avLst/>
          </a:prstGeom>
          <a:solidFill>
            <a:srgbClr val="938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450800" y="2149560"/>
            <a:ext cx="2619720" cy="14040"/>
          </a:xfrm>
          <a:prstGeom prst="rect">
            <a:avLst/>
          </a:prstGeom>
          <a:solidFill>
            <a:srgbClr val="958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450800" y="2163600"/>
            <a:ext cx="2619720" cy="17640"/>
          </a:xfrm>
          <a:prstGeom prst="rect">
            <a:avLst/>
          </a:prstGeom>
          <a:solidFill>
            <a:srgbClr val="978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450800" y="2181240"/>
            <a:ext cx="2619720" cy="20520"/>
          </a:xfrm>
          <a:prstGeom prst="rect">
            <a:avLst/>
          </a:prstGeom>
          <a:solidFill>
            <a:srgbClr val="998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450800" y="2201760"/>
            <a:ext cx="2619720" cy="19080"/>
          </a:xfrm>
          <a:prstGeom prst="rect">
            <a:avLst/>
          </a:prstGeom>
          <a:solidFill>
            <a:srgbClr val="9b89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450800" y="2220840"/>
            <a:ext cx="2619720" cy="15840"/>
          </a:xfrm>
          <a:prstGeom prst="rect">
            <a:avLst/>
          </a:prstGeom>
          <a:solidFill>
            <a:srgbClr val="9d8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450800" y="2236680"/>
            <a:ext cx="2619720" cy="14400"/>
          </a:xfrm>
          <a:prstGeom prst="rect">
            <a:avLst/>
          </a:prstGeom>
          <a:solidFill>
            <a:srgbClr val="9f8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50800" y="2251080"/>
            <a:ext cx="2619720" cy="17280"/>
          </a:xfrm>
          <a:prstGeom prst="rect">
            <a:avLst/>
          </a:prstGeom>
          <a:solidFill>
            <a:srgbClr val="a18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450800" y="2268360"/>
            <a:ext cx="2619720" cy="14400"/>
          </a:xfrm>
          <a:prstGeom prst="rect">
            <a:avLst/>
          </a:prstGeom>
          <a:solidFill>
            <a:srgbClr val="a3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450800" y="2282760"/>
            <a:ext cx="2619720" cy="15840"/>
          </a:xfrm>
          <a:prstGeom prst="rect">
            <a:avLst/>
          </a:prstGeom>
          <a:solidFill>
            <a:srgbClr val="a58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450800" y="2298600"/>
            <a:ext cx="2619720" cy="15840"/>
          </a:xfrm>
          <a:prstGeom prst="rect">
            <a:avLst/>
          </a:prstGeom>
          <a:solidFill>
            <a:srgbClr val="a784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450800" y="2314440"/>
            <a:ext cx="2619720" cy="17640"/>
          </a:xfrm>
          <a:prstGeom prst="rect">
            <a:avLst/>
          </a:prstGeom>
          <a:solidFill>
            <a:srgbClr val="a98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450800" y="2332080"/>
            <a:ext cx="2619720" cy="14400"/>
          </a:xfrm>
          <a:prstGeom prst="rect">
            <a:avLst/>
          </a:prstGeom>
          <a:solidFill>
            <a:srgbClr val="ab8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450800" y="2346480"/>
            <a:ext cx="2619720" cy="15840"/>
          </a:xfrm>
          <a:prstGeom prst="rect">
            <a:avLst/>
          </a:prstGeom>
          <a:solidFill>
            <a:srgbClr val="ad82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450800" y="2362320"/>
            <a:ext cx="2619720" cy="15840"/>
          </a:xfrm>
          <a:prstGeom prst="rect">
            <a:avLst/>
          </a:prstGeom>
          <a:solidFill>
            <a:srgbClr val="ae8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450800" y="2378160"/>
            <a:ext cx="2619720" cy="17280"/>
          </a:xfrm>
          <a:prstGeom prst="rect">
            <a:avLst/>
          </a:prstGeom>
          <a:solidFill>
            <a:srgbClr val="b08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450800" y="2395440"/>
            <a:ext cx="2619720" cy="14400"/>
          </a:xfrm>
          <a:prstGeom prst="rect">
            <a:avLst/>
          </a:prstGeom>
          <a:solidFill>
            <a:srgbClr val="b27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450800" y="2409840"/>
            <a:ext cx="2619720" cy="15840"/>
          </a:xfrm>
          <a:prstGeom prst="rect">
            <a:avLst/>
          </a:prstGeom>
          <a:solidFill>
            <a:srgbClr val="b47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450800" y="2425680"/>
            <a:ext cx="2619720" cy="15840"/>
          </a:xfrm>
          <a:prstGeom prst="rect">
            <a:avLst/>
          </a:prstGeom>
          <a:solidFill>
            <a:srgbClr val="b67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450800" y="2441520"/>
            <a:ext cx="2619720" cy="15840"/>
          </a:xfrm>
          <a:prstGeom prst="rect">
            <a:avLst/>
          </a:prstGeom>
          <a:solidFill>
            <a:srgbClr val="b87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450800" y="2457360"/>
            <a:ext cx="2619720" cy="17640"/>
          </a:xfrm>
          <a:prstGeom prst="rect">
            <a:avLst/>
          </a:prstGeom>
          <a:solidFill>
            <a:srgbClr val="ba7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450800" y="2475000"/>
            <a:ext cx="2619720" cy="14040"/>
          </a:xfrm>
          <a:prstGeom prst="rect">
            <a:avLst/>
          </a:prstGeom>
          <a:solidFill>
            <a:srgbClr val="bc7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450800" y="2489040"/>
            <a:ext cx="2619720" cy="16200"/>
          </a:xfrm>
          <a:prstGeom prst="rect">
            <a:avLst/>
          </a:prstGeom>
          <a:solidFill>
            <a:srgbClr val="be7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450800" y="2505240"/>
            <a:ext cx="2619720" cy="10800"/>
          </a:xfrm>
          <a:prstGeom prst="rect">
            <a:avLst/>
          </a:prstGeom>
          <a:solidFill>
            <a:srgbClr val="c07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450800" y="2516040"/>
            <a:ext cx="2619720" cy="12960"/>
          </a:xfrm>
          <a:prstGeom prst="rect">
            <a:avLst/>
          </a:prstGeom>
          <a:solidFill>
            <a:srgbClr val="c1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450800" y="2529000"/>
            <a:ext cx="2619720" cy="15840"/>
          </a:xfrm>
          <a:prstGeom prst="rect">
            <a:avLst/>
          </a:prstGeom>
          <a:solidFill>
            <a:srgbClr val="c27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450800" y="2544840"/>
            <a:ext cx="2619720" cy="14040"/>
          </a:xfrm>
          <a:prstGeom prst="rect">
            <a:avLst/>
          </a:prstGeom>
          <a:solidFill>
            <a:srgbClr val="c475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450800" y="2558880"/>
            <a:ext cx="2619720" cy="17640"/>
          </a:xfrm>
          <a:prstGeom prst="rect">
            <a:avLst/>
          </a:prstGeom>
          <a:solidFill>
            <a:srgbClr val="c674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450800" y="2576520"/>
            <a:ext cx="2619720" cy="12600"/>
          </a:xfrm>
          <a:prstGeom prst="rect">
            <a:avLst/>
          </a:prstGeom>
          <a:solidFill>
            <a:srgbClr val="c87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450800" y="2589120"/>
            <a:ext cx="2619720" cy="11160"/>
          </a:xfrm>
          <a:prstGeom prst="rect">
            <a:avLst/>
          </a:prstGeom>
          <a:solidFill>
            <a:srgbClr val="c97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450800" y="2600280"/>
            <a:ext cx="2619720" cy="7920"/>
          </a:xfrm>
          <a:prstGeom prst="rect">
            <a:avLst/>
          </a:prstGeom>
          <a:solidFill>
            <a:srgbClr val="ca7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450800" y="2608200"/>
            <a:ext cx="2619720" cy="14400"/>
          </a:xfrm>
          <a:prstGeom prst="rect">
            <a:avLst/>
          </a:prstGeom>
          <a:solidFill>
            <a:srgbClr val="cb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450800" y="2622600"/>
            <a:ext cx="2619720" cy="15840"/>
          </a:xfrm>
          <a:prstGeom prst="rect">
            <a:avLst/>
          </a:prstGeom>
          <a:solidFill>
            <a:srgbClr val="cd6f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450800" y="2638440"/>
            <a:ext cx="2619720" cy="9360"/>
          </a:xfrm>
          <a:prstGeom prst="rect">
            <a:avLst/>
          </a:prstGeom>
          <a:solidFill>
            <a:srgbClr val="ce6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450800" y="2647800"/>
            <a:ext cx="2619720" cy="16200"/>
          </a:xfrm>
          <a:prstGeom prst="rect">
            <a:avLst/>
          </a:prstGeom>
          <a:solidFill>
            <a:srgbClr val="cf6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450800" y="2664000"/>
            <a:ext cx="2619720" cy="14040"/>
          </a:xfrm>
          <a:prstGeom prst="rect">
            <a:avLst/>
          </a:prstGeom>
          <a:solidFill>
            <a:srgbClr val="d16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450800" y="2678040"/>
            <a:ext cx="2619720" cy="12600"/>
          </a:xfrm>
          <a:prstGeom prst="rect">
            <a:avLst/>
          </a:prstGeom>
          <a:solidFill>
            <a:srgbClr val="d36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50800" y="2690640"/>
            <a:ext cx="2619720" cy="12960"/>
          </a:xfrm>
          <a:prstGeom prst="rect">
            <a:avLst/>
          </a:prstGeom>
          <a:solidFill>
            <a:srgbClr val="d46a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450800" y="2703600"/>
            <a:ext cx="2619720" cy="12600"/>
          </a:xfrm>
          <a:prstGeom prst="rect">
            <a:avLst/>
          </a:prstGeom>
          <a:solidFill>
            <a:srgbClr val="d56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450800" y="2716200"/>
            <a:ext cx="2619720" cy="11160"/>
          </a:xfrm>
          <a:prstGeom prst="rect">
            <a:avLst/>
          </a:prstGeom>
          <a:solidFill>
            <a:srgbClr val="d668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450800" y="2727360"/>
            <a:ext cx="2619720" cy="14400"/>
          </a:xfrm>
          <a:prstGeom prst="rect">
            <a:avLst/>
          </a:prstGeom>
          <a:solidFill>
            <a:srgbClr val="d76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450800" y="2741760"/>
            <a:ext cx="2619720" cy="12600"/>
          </a:xfrm>
          <a:prstGeom prst="rect">
            <a:avLst/>
          </a:prstGeom>
          <a:solidFill>
            <a:srgbClr val="d96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450800" y="2754360"/>
            <a:ext cx="2619720" cy="9360"/>
          </a:xfrm>
          <a:prstGeom prst="rect">
            <a:avLst/>
          </a:prstGeom>
          <a:solidFill>
            <a:srgbClr val="da6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450800" y="2763720"/>
            <a:ext cx="2619720" cy="9720"/>
          </a:xfrm>
          <a:prstGeom prst="rect">
            <a:avLst/>
          </a:prstGeom>
          <a:solidFill>
            <a:srgbClr val="da6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450800" y="2773440"/>
            <a:ext cx="2619720" cy="9360"/>
          </a:xfrm>
          <a:prstGeom prst="rect">
            <a:avLst/>
          </a:prstGeom>
          <a:solidFill>
            <a:srgbClr val="dc6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450800" y="2782800"/>
            <a:ext cx="2619720" cy="12960"/>
          </a:xfrm>
          <a:prstGeom prst="rect">
            <a:avLst/>
          </a:prstGeom>
          <a:solidFill>
            <a:srgbClr val="dc63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450800" y="2795760"/>
            <a:ext cx="2619720" cy="7920"/>
          </a:xfrm>
          <a:prstGeom prst="rect">
            <a:avLst/>
          </a:prstGeom>
          <a:solidFill>
            <a:srgbClr val="dd6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450800" y="2803680"/>
            <a:ext cx="2619720" cy="9360"/>
          </a:xfrm>
          <a:prstGeom prst="rect">
            <a:avLst/>
          </a:prstGeom>
          <a:solidFill>
            <a:srgbClr val="df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450800" y="2813040"/>
            <a:ext cx="2619720" cy="14400"/>
          </a:xfrm>
          <a:prstGeom prst="rect">
            <a:avLst/>
          </a:prstGeom>
          <a:solidFill>
            <a:srgbClr val="df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450800" y="2827440"/>
            <a:ext cx="2619720" cy="9360"/>
          </a:xfrm>
          <a:prstGeom prst="rect">
            <a:avLst/>
          </a:prstGeom>
          <a:solidFill>
            <a:srgbClr val="e05f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450800" y="2836800"/>
            <a:ext cx="2619720" cy="15840"/>
          </a:xfrm>
          <a:prstGeom prst="rect">
            <a:avLst/>
          </a:prstGeom>
          <a:solidFill>
            <a:srgbClr val="e15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450800" y="2852640"/>
            <a:ext cx="2619720" cy="11160"/>
          </a:xfrm>
          <a:prstGeom prst="rect">
            <a:avLst/>
          </a:prstGeom>
          <a:solidFill>
            <a:srgbClr val="e25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450800" y="2863800"/>
            <a:ext cx="2619720" cy="12600"/>
          </a:xfrm>
          <a:prstGeom prst="rect">
            <a:avLst/>
          </a:prstGeom>
          <a:solidFill>
            <a:srgbClr val="e35c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1450800" y="2876400"/>
            <a:ext cx="2619720" cy="9720"/>
          </a:xfrm>
          <a:prstGeom prst="rect">
            <a:avLst/>
          </a:prstGeom>
          <a:solidFill>
            <a:srgbClr val="e45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450800" y="2886120"/>
            <a:ext cx="2619720" cy="14400"/>
          </a:xfrm>
          <a:prstGeom prst="rect">
            <a:avLst/>
          </a:prstGeom>
          <a:solidFill>
            <a:srgbClr val="e55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450800" y="2900520"/>
            <a:ext cx="2619720" cy="10800"/>
          </a:xfrm>
          <a:prstGeom prst="rect">
            <a:avLst/>
          </a:prstGeom>
          <a:solidFill>
            <a:srgbClr val="e65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450800" y="2911320"/>
            <a:ext cx="2619720" cy="11160"/>
          </a:xfrm>
          <a:prstGeom prst="rect">
            <a:avLst/>
          </a:prstGeom>
          <a:solidFill>
            <a:srgbClr val="e75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450800" y="2922480"/>
            <a:ext cx="2619720" cy="15840"/>
          </a:xfrm>
          <a:prstGeom prst="rect">
            <a:avLst/>
          </a:prstGeom>
          <a:solidFill>
            <a:srgbClr val="e75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450800" y="2938320"/>
            <a:ext cx="2619720" cy="9720"/>
          </a:xfrm>
          <a:prstGeom prst="rect">
            <a:avLst/>
          </a:prstGeom>
          <a:solidFill>
            <a:srgbClr val="e856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1450800" y="2948040"/>
            <a:ext cx="2619720" cy="9360"/>
          </a:xfrm>
          <a:prstGeom prst="rect">
            <a:avLst/>
          </a:prstGeom>
          <a:solidFill>
            <a:srgbClr val="e95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450800" y="2957400"/>
            <a:ext cx="2619720" cy="12960"/>
          </a:xfrm>
          <a:prstGeom prst="rect">
            <a:avLst/>
          </a:prstGeom>
          <a:solidFill>
            <a:srgbClr val="ea5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450800" y="2970360"/>
            <a:ext cx="2619720" cy="9360"/>
          </a:xfrm>
          <a:prstGeom prst="rect">
            <a:avLst/>
          </a:prstGeom>
          <a:solidFill>
            <a:srgbClr val="eb5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450800" y="2979720"/>
            <a:ext cx="2619720" cy="15840"/>
          </a:xfrm>
          <a:prstGeom prst="rect">
            <a:avLst/>
          </a:prstGeom>
          <a:solidFill>
            <a:srgbClr val="ec5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450800" y="2995560"/>
            <a:ext cx="2619720" cy="11160"/>
          </a:xfrm>
          <a:prstGeom prst="rect">
            <a:avLst/>
          </a:prstGeom>
          <a:solidFill>
            <a:srgbClr val="ed5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450800" y="3006720"/>
            <a:ext cx="2619720" cy="9360"/>
          </a:xfrm>
          <a:prstGeom prst="rect">
            <a:avLst/>
          </a:prstGeom>
          <a:solidFill>
            <a:srgbClr val="ee5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450800" y="3016080"/>
            <a:ext cx="2619720" cy="11160"/>
          </a:xfrm>
          <a:prstGeom prst="rect">
            <a:avLst/>
          </a:prstGeom>
          <a:solidFill>
            <a:srgbClr val="ee5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450800" y="3027240"/>
            <a:ext cx="2619720" cy="14400"/>
          </a:xfrm>
          <a:prstGeom prst="rect">
            <a:avLst/>
          </a:prstGeom>
          <a:solidFill>
            <a:srgbClr val="ee4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450800" y="3041640"/>
            <a:ext cx="2619720" cy="14400"/>
          </a:xfrm>
          <a:prstGeom prst="rect">
            <a:avLst/>
          </a:prstGeom>
          <a:solidFill>
            <a:srgbClr val="ef4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450800" y="3056040"/>
            <a:ext cx="2619720" cy="9360"/>
          </a:xfrm>
          <a:prstGeom prst="rect">
            <a:avLst/>
          </a:prstGeom>
          <a:solidFill>
            <a:srgbClr val="f04d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450800" y="3065400"/>
            <a:ext cx="2619720" cy="14400"/>
          </a:xfrm>
          <a:prstGeom prst="rect">
            <a:avLst/>
          </a:prstGeom>
          <a:solidFill>
            <a:srgbClr val="f04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450800" y="3079800"/>
            <a:ext cx="2619720" cy="11160"/>
          </a:xfrm>
          <a:prstGeom prst="rect">
            <a:avLst/>
          </a:prstGeom>
          <a:solidFill>
            <a:srgbClr val="f14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450800" y="3090960"/>
            <a:ext cx="2619720" cy="11160"/>
          </a:xfrm>
          <a:prstGeom prst="rect">
            <a:avLst/>
          </a:prstGeom>
          <a:solidFill>
            <a:srgbClr val="f24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450800" y="3102120"/>
            <a:ext cx="2619720" cy="9360"/>
          </a:xfrm>
          <a:prstGeom prst="rect">
            <a:avLst/>
          </a:prstGeom>
          <a:solidFill>
            <a:srgbClr val="f349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450800" y="3111480"/>
            <a:ext cx="2619720" cy="11160"/>
          </a:xfrm>
          <a:prstGeom prst="rect">
            <a:avLst/>
          </a:prstGeom>
          <a:solidFill>
            <a:srgbClr val="f34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450800" y="3122640"/>
            <a:ext cx="2619720" cy="14400"/>
          </a:xfrm>
          <a:prstGeom prst="rect">
            <a:avLst/>
          </a:prstGeom>
          <a:solidFill>
            <a:srgbClr val="f34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450800" y="3137040"/>
            <a:ext cx="2619720" cy="12600"/>
          </a:xfrm>
          <a:prstGeom prst="rect">
            <a:avLst/>
          </a:prstGeom>
          <a:solidFill>
            <a:srgbClr val="f44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50800" y="3149640"/>
            <a:ext cx="2619720" cy="11160"/>
          </a:xfrm>
          <a:prstGeom prst="rect">
            <a:avLst/>
          </a:prstGeom>
          <a:solidFill>
            <a:srgbClr val="f54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450800" y="3160800"/>
            <a:ext cx="2619720" cy="14040"/>
          </a:xfrm>
          <a:prstGeom prst="rect">
            <a:avLst/>
          </a:prstGeom>
          <a:solidFill>
            <a:srgbClr val="f54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450800" y="3174840"/>
            <a:ext cx="2619720" cy="11160"/>
          </a:xfrm>
          <a:prstGeom prst="rect">
            <a:avLst/>
          </a:prstGeom>
          <a:solidFill>
            <a:srgbClr val="f5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450800" y="3186000"/>
            <a:ext cx="2619720" cy="9720"/>
          </a:xfrm>
          <a:prstGeom prst="rect">
            <a:avLst/>
          </a:prstGeom>
          <a:solidFill>
            <a:srgbClr val="f6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450800" y="3195720"/>
            <a:ext cx="2619720" cy="11160"/>
          </a:xfrm>
          <a:prstGeom prst="rect">
            <a:avLst/>
          </a:prstGeom>
          <a:solidFill>
            <a:srgbClr val="f74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450800" y="3206880"/>
            <a:ext cx="2619720" cy="15840"/>
          </a:xfrm>
          <a:prstGeom prst="rect">
            <a:avLst/>
          </a:prstGeom>
          <a:solidFill>
            <a:srgbClr val="f743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450800" y="3222720"/>
            <a:ext cx="2619720" cy="9360"/>
          </a:xfrm>
          <a:prstGeom prst="rect">
            <a:avLst/>
          </a:prstGeom>
          <a:solidFill>
            <a:srgbClr val="f74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450800" y="3232080"/>
            <a:ext cx="2619720" cy="12600"/>
          </a:xfrm>
          <a:prstGeom prst="rect">
            <a:avLst/>
          </a:prstGeom>
          <a:solidFill>
            <a:srgbClr val="f84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450800" y="3244680"/>
            <a:ext cx="2619720" cy="11160"/>
          </a:xfrm>
          <a:prstGeom prst="rect">
            <a:avLst/>
          </a:prstGeom>
          <a:solidFill>
            <a:srgbClr val="f84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450800" y="3255840"/>
            <a:ext cx="2619720" cy="14400"/>
          </a:xfrm>
          <a:prstGeom prst="rect">
            <a:avLst/>
          </a:prstGeom>
          <a:solidFill>
            <a:srgbClr val="f84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450800" y="3270240"/>
            <a:ext cx="2619720" cy="9360"/>
          </a:xfrm>
          <a:prstGeom prst="rect">
            <a:avLst/>
          </a:prstGeom>
          <a:solidFill>
            <a:srgbClr val="f93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450800" y="3279600"/>
            <a:ext cx="2619720" cy="14400"/>
          </a:xfrm>
          <a:prstGeom prst="rect">
            <a:avLst/>
          </a:prstGeom>
          <a:solidFill>
            <a:srgbClr val="f93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450800" y="3294000"/>
            <a:ext cx="2619720" cy="14400"/>
          </a:xfrm>
          <a:prstGeom prst="rect">
            <a:avLst/>
          </a:prstGeom>
          <a:solidFill>
            <a:srgbClr val="fa3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450800" y="3308400"/>
            <a:ext cx="2619720" cy="9360"/>
          </a:xfrm>
          <a:prstGeom prst="rect">
            <a:avLst/>
          </a:prstGeom>
          <a:solidFill>
            <a:srgbClr val="fa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450800" y="3317760"/>
            <a:ext cx="2619720" cy="9720"/>
          </a:xfrm>
          <a:prstGeom prst="rect">
            <a:avLst/>
          </a:prstGeom>
          <a:solidFill>
            <a:srgbClr val="fa3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450800" y="3327480"/>
            <a:ext cx="2619720" cy="15840"/>
          </a:xfrm>
          <a:prstGeom prst="rect">
            <a:avLst/>
          </a:prstGeom>
          <a:solidFill>
            <a:srgbClr val="fb3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450800" y="3343320"/>
            <a:ext cx="2619720" cy="11160"/>
          </a:xfrm>
          <a:prstGeom prst="rect">
            <a:avLst/>
          </a:prstGeom>
          <a:solidFill>
            <a:srgbClr val="fb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450800" y="3354480"/>
            <a:ext cx="2619720" cy="11160"/>
          </a:xfrm>
          <a:prstGeom prst="rect">
            <a:avLst/>
          </a:prstGeom>
          <a:solidFill>
            <a:srgbClr val="fc3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450800" y="3365640"/>
            <a:ext cx="2619720" cy="9360"/>
          </a:xfrm>
          <a:prstGeom prst="rect">
            <a:avLst/>
          </a:prstGeom>
          <a:solidFill>
            <a:srgbClr val="fc3a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450800" y="3375000"/>
            <a:ext cx="2619720" cy="14400"/>
          </a:xfrm>
          <a:prstGeom prst="rect">
            <a:avLst/>
          </a:prstGeom>
          <a:solidFill>
            <a:srgbClr val="fc3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450800" y="3389400"/>
            <a:ext cx="2619720" cy="12600"/>
          </a:xfrm>
          <a:prstGeom prst="rect">
            <a:avLst/>
          </a:prstGeom>
          <a:solidFill>
            <a:srgbClr val="fc3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450800" y="3402000"/>
            <a:ext cx="2619720" cy="11160"/>
          </a:xfrm>
          <a:prstGeom prst="rect">
            <a:avLst/>
          </a:prstGeom>
          <a:solidFill>
            <a:srgbClr val="fd3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450800" y="3413160"/>
            <a:ext cx="2619720" cy="15840"/>
          </a:xfrm>
          <a:prstGeom prst="rect">
            <a:avLst/>
          </a:prstGeom>
          <a:solidFill>
            <a:srgbClr val="fd3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450800" y="3429000"/>
            <a:ext cx="2619720" cy="9360"/>
          </a:xfrm>
          <a:prstGeom prst="rect">
            <a:avLst/>
          </a:prstGeom>
          <a:solidFill>
            <a:srgbClr val="fd3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50800" y="3438360"/>
            <a:ext cx="2619720" cy="9720"/>
          </a:xfrm>
          <a:prstGeom prst="rect">
            <a:avLst/>
          </a:prstGeom>
          <a:solidFill>
            <a:srgbClr val="fd3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450800" y="3448080"/>
            <a:ext cx="2619720" cy="11160"/>
          </a:xfrm>
          <a:prstGeom prst="rect">
            <a:avLst/>
          </a:prstGeom>
          <a:solidFill>
            <a:srgbClr val="fd3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450800" y="3459240"/>
            <a:ext cx="2619720" cy="7920"/>
          </a:xfrm>
          <a:prstGeom prst="rect">
            <a:avLst/>
          </a:prstGeom>
          <a:solidFill>
            <a:srgbClr val="fd3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450800" y="3467160"/>
            <a:ext cx="2619720" cy="7920"/>
          </a:xfrm>
          <a:prstGeom prst="rect">
            <a:avLst/>
          </a:prstGeom>
          <a:solidFill>
            <a:srgbClr val="fe3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450800" y="3475080"/>
            <a:ext cx="2619720" cy="11160"/>
          </a:xfrm>
          <a:prstGeom prst="rect">
            <a:avLst/>
          </a:prstGeom>
          <a:solidFill>
            <a:srgbClr val="fe3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450800" y="3486240"/>
            <a:ext cx="2619720" cy="7920"/>
          </a:xfrm>
          <a:prstGeom prst="rect">
            <a:avLst/>
          </a:prstGeom>
          <a:solidFill>
            <a:srgbClr val="fe3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450800" y="3494160"/>
            <a:ext cx="2619720" cy="7920"/>
          </a:xfrm>
          <a:prstGeom prst="rect">
            <a:avLst/>
          </a:prstGeom>
          <a:solidFill>
            <a:srgbClr val="fe36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450800" y="3502080"/>
            <a:ext cx="2619720" cy="9360"/>
          </a:xfrm>
          <a:prstGeom prst="rect">
            <a:avLst/>
          </a:prstGeom>
          <a:solidFill>
            <a:srgbClr val="fe35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450800" y="3511440"/>
            <a:ext cx="2619720" cy="11160"/>
          </a:xfrm>
          <a:prstGeom prst="rect">
            <a:avLst/>
          </a:prstGeom>
          <a:solidFill>
            <a:srgbClr val="fe3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450800" y="3522600"/>
            <a:ext cx="2619720" cy="6480"/>
          </a:xfrm>
          <a:prstGeom prst="rect">
            <a:avLst/>
          </a:prstGeom>
          <a:solidFill>
            <a:srgbClr val="fe3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1450800" y="3529080"/>
            <a:ext cx="2619720" cy="7920"/>
          </a:xfrm>
          <a:prstGeom prst="rect">
            <a:avLst/>
          </a:prstGeom>
          <a:solidFill>
            <a:srgbClr val="ff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450800" y="3537000"/>
            <a:ext cx="2619720" cy="4680"/>
          </a:xfrm>
          <a:prstGeom prst="rect">
            <a:avLst/>
          </a:prstGeom>
          <a:solidFill>
            <a:srgbClr val="ff3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450800" y="3541680"/>
            <a:ext cx="2619720" cy="6480"/>
          </a:xfrm>
          <a:prstGeom prst="rect">
            <a:avLst/>
          </a:prstGeom>
          <a:solidFill>
            <a:srgbClr val="ff34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450800" y="3548160"/>
            <a:ext cx="2619720" cy="4680"/>
          </a:xfrm>
          <a:prstGeom prst="rect">
            <a:avLst/>
          </a:prstGeom>
          <a:solidFill>
            <a:srgbClr val="ff33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450800" y="3552840"/>
            <a:ext cx="2619720" cy="1440"/>
          </a:xfrm>
          <a:prstGeom prst="rect">
            <a:avLst/>
          </a:prstGeom>
          <a:solidFill>
            <a:srgbClr val="ff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50800" y="3554280"/>
            <a:ext cx="2619720" cy="1800"/>
          </a:xfrm>
          <a:prstGeom prst="rect">
            <a:avLst/>
          </a:prstGeom>
          <a:solidFill>
            <a:srgbClr val="ff33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450800" y="3556080"/>
            <a:ext cx="2619720" cy="1440"/>
          </a:xfrm>
          <a:prstGeom prst="rect">
            <a:avLst/>
          </a:prstGeom>
          <a:solidFill>
            <a:srgbClr val="ff3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50800" y="3557520"/>
            <a:ext cx="2619720" cy="3240"/>
          </a:xfrm>
          <a:prstGeom prst="rect">
            <a:avLst/>
          </a:prstGeom>
          <a:solidFill>
            <a:srgbClr val="ff3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450800" y="3560760"/>
            <a:ext cx="2619720" cy="1440"/>
          </a:xfrm>
          <a:prstGeom prst="rect">
            <a:avLst/>
          </a:prstGeom>
          <a:solidFill>
            <a:srgbClr val="ff3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450800" y="3562200"/>
            <a:ext cx="2619720" cy="1800"/>
          </a:xfrm>
          <a:prstGeom prst="rect">
            <a:avLst/>
          </a:prstGeom>
          <a:solidFill>
            <a:srgbClr val="ff3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450800" y="3564000"/>
            <a:ext cx="2619720" cy="3240"/>
          </a:xfrm>
          <a:prstGeom prst="rect">
            <a:avLst/>
          </a:prstGeom>
          <a:solidFill>
            <a:srgbClr val="ff3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450800" y="3567240"/>
            <a:ext cx="2619720" cy="1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450800" y="3568680"/>
            <a:ext cx="2619720" cy="1440"/>
          </a:xfrm>
          <a:prstGeom prst="rect">
            <a:avLst/>
          </a:prstGeom>
          <a:solidFill>
            <a:srgbClr val="ff3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450800" y="3570120"/>
            <a:ext cx="2619720" cy="1800"/>
          </a:xfrm>
          <a:prstGeom prst="rect">
            <a:avLst/>
          </a:prstGeom>
          <a:solidFill>
            <a:srgbClr val="ff3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450800" y="3571920"/>
            <a:ext cx="2619720" cy="4680"/>
          </a:xfrm>
          <a:prstGeom prst="rect">
            <a:avLst/>
          </a:prstGeom>
          <a:solidFill>
            <a:srgbClr val="ff3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450800" y="3576600"/>
            <a:ext cx="2619720" cy="1800"/>
          </a:xfrm>
          <a:prstGeom prst="rect">
            <a:avLst/>
          </a:prstGeom>
          <a:solidFill>
            <a:srgbClr val="ff3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450800" y="3578400"/>
            <a:ext cx="2619720" cy="1440"/>
          </a:xfrm>
          <a:prstGeom prst="rect">
            <a:avLst/>
          </a:prstGeom>
          <a:solidFill>
            <a:srgbClr val="ff3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450800" y="3579840"/>
            <a:ext cx="2619720" cy="1440"/>
          </a:xfrm>
          <a:prstGeom prst="rect">
            <a:avLst/>
          </a:prstGeom>
          <a:solidFill>
            <a:srgbClr val="ff33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450800" y="3581280"/>
            <a:ext cx="2619720" cy="3240"/>
          </a:xfrm>
          <a:prstGeom prst="rect">
            <a:avLst/>
          </a:prstGeom>
          <a:solidFill>
            <a:srgbClr val="ff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450800" y="3584520"/>
            <a:ext cx="2619720" cy="6480"/>
          </a:xfrm>
          <a:prstGeom prst="rect">
            <a:avLst/>
          </a:prstGeom>
          <a:solidFill>
            <a:srgbClr val="ff33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450800" y="3591000"/>
            <a:ext cx="2619720" cy="4680"/>
          </a:xfrm>
          <a:prstGeom prst="rect">
            <a:avLst/>
          </a:prstGeom>
          <a:solidFill>
            <a:srgbClr val="ff3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450800" y="3595680"/>
            <a:ext cx="2619720" cy="4680"/>
          </a:xfrm>
          <a:prstGeom prst="rect">
            <a:avLst/>
          </a:prstGeom>
          <a:solidFill>
            <a:srgbClr val="ff3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450800" y="3600360"/>
            <a:ext cx="2619720" cy="7920"/>
          </a:xfrm>
          <a:prstGeom prst="rect">
            <a:avLst/>
          </a:prstGeom>
          <a:solidFill>
            <a:srgbClr val="ff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450800" y="3608280"/>
            <a:ext cx="2619720" cy="9720"/>
          </a:xfrm>
          <a:prstGeom prst="rect">
            <a:avLst/>
          </a:prstGeom>
          <a:solidFill>
            <a:srgbClr val="fe3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450800" y="3618000"/>
            <a:ext cx="2619720" cy="9360"/>
          </a:xfrm>
          <a:prstGeom prst="rect">
            <a:avLst/>
          </a:prstGeom>
          <a:solidFill>
            <a:srgbClr val="fe3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50800" y="3627360"/>
            <a:ext cx="2619720" cy="7920"/>
          </a:xfrm>
          <a:prstGeom prst="rect">
            <a:avLst/>
          </a:prstGeom>
          <a:solidFill>
            <a:srgbClr val="fe35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450800" y="3635280"/>
            <a:ext cx="2619720" cy="9720"/>
          </a:xfrm>
          <a:prstGeom prst="rect">
            <a:avLst/>
          </a:prstGeom>
          <a:solidFill>
            <a:srgbClr val="fe35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450800" y="3645000"/>
            <a:ext cx="2619720" cy="9360"/>
          </a:xfrm>
          <a:prstGeom prst="rect">
            <a:avLst/>
          </a:prstGeom>
          <a:solidFill>
            <a:srgbClr val="fe3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450800" y="3654360"/>
            <a:ext cx="2619720" cy="7920"/>
          </a:xfrm>
          <a:prstGeom prst="rect">
            <a:avLst/>
          </a:prstGeom>
          <a:solidFill>
            <a:srgbClr val="fe3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450800" y="3662280"/>
            <a:ext cx="2619720" cy="9720"/>
          </a:xfrm>
          <a:prstGeom prst="rect">
            <a:avLst/>
          </a:prstGeom>
          <a:solidFill>
            <a:srgbClr val="fe3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1450800" y="3672000"/>
            <a:ext cx="2619720" cy="9360"/>
          </a:xfrm>
          <a:prstGeom prst="rect">
            <a:avLst/>
          </a:prstGeom>
          <a:solidFill>
            <a:srgbClr val="fd3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450800" y="3681360"/>
            <a:ext cx="2619720" cy="9720"/>
          </a:xfrm>
          <a:prstGeom prst="rect">
            <a:avLst/>
          </a:prstGeom>
          <a:solidFill>
            <a:srgbClr val="fd3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1450800" y="3691080"/>
            <a:ext cx="2619720" cy="10800"/>
          </a:xfrm>
          <a:prstGeom prst="rect">
            <a:avLst/>
          </a:prstGeom>
          <a:solidFill>
            <a:srgbClr val="fd3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450800" y="3701880"/>
            <a:ext cx="2619720" cy="11160"/>
          </a:xfrm>
          <a:prstGeom prst="rect">
            <a:avLst/>
          </a:prstGeom>
          <a:solidFill>
            <a:srgbClr val="fd3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1450800" y="3713040"/>
            <a:ext cx="2619720" cy="15840"/>
          </a:xfrm>
          <a:prstGeom prst="rect">
            <a:avLst/>
          </a:prstGeom>
          <a:solidFill>
            <a:srgbClr val="fd3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450800" y="3728880"/>
            <a:ext cx="2619720" cy="9720"/>
          </a:xfrm>
          <a:prstGeom prst="rect">
            <a:avLst/>
          </a:prstGeom>
          <a:solidFill>
            <a:srgbClr val="fd3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450800" y="3738600"/>
            <a:ext cx="2619720" cy="14400"/>
          </a:xfrm>
          <a:prstGeom prst="rect">
            <a:avLst/>
          </a:prstGeom>
          <a:solidFill>
            <a:srgbClr val="fc3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450800" y="3753000"/>
            <a:ext cx="2619720" cy="12600"/>
          </a:xfrm>
          <a:prstGeom prst="rect">
            <a:avLst/>
          </a:prstGeom>
          <a:solidFill>
            <a:srgbClr val="fc3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450800" y="3765600"/>
            <a:ext cx="2619720" cy="9360"/>
          </a:xfrm>
          <a:prstGeom prst="rect">
            <a:avLst/>
          </a:prstGeom>
          <a:solidFill>
            <a:srgbClr val="fc3a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450800" y="3774960"/>
            <a:ext cx="2619720" cy="9720"/>
          </a:xfrm>
          <a:prstGeom prst="rect">
            <a:avLst/>
          </a:prstGeom>
          <a:solidFill>
            <a:srgbClr val="fc3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450800" y="3784680"/>
            <a:ext cx="2619720" cy="15840"/>
          </a:xfrm>
          <a:prstGeom prst="rect">
            <a:avLst/>
          </a:prstGeom>
          <a:solidFill>
            <a:srgbClr val="fb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450800" y="3800520"/>
            <a:ext cx="2619720" cy="11160"/>
          </a:xfrm>
          <a:prstGeom prst="rect">
            <a:avLst/>
          </a:prstGeom>
          <a:solidFill>
            <a:srgbClr val="fb3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450800" y="3811680"/>
            <a:ext cx="2619720" cy="11160"/>
          </a:xfrm>
          <a:prstGeom prst="rect">
            <a:avLst/>
          </a:prstGeom>
          <a:solidFill>
            <a:srgbClr val="fa3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450800" y="3822840"/>
            <a:ext cx="2619720" cy="9360"/>
          </a:xfrm>
          <a:prstGeom prst="rect">
            <a:avLst/>
          </a:prstGeom>
          <a:solidFill>
            <a:srgbClr val="fa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450800" y="3832200"/>
            <a:ext cx="2619720" cy="14400"/>
          </a:xfrm>
          <a:prstGeom prst="rect">
            <a:avLst/>
          </a:prstGeom>
          <a:solidFill>
            <a:srgbClr val="fa3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450800" y="3846600"/>
            <a:ext cx="2619720" cy="12600"/>
          </a:xfrm>
          <a:prstGeom prst="rect">
            <a:avLst/>
          </a:prstGeom>
          <a:solidFill>
            <a:srgbClr val="f93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450800" y="3859200"/>
            <a:ext cx="2619720" cy="11160"/>
          </a:xfrm>
          <a:prstGeom prst="rect">
            <a:avLst/>
          </a:prstGeom>
          <a:solidFill>
            <a:srgbClr val="f93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450800" y="3870360"/>
            <a:ext cx="2619720" cy="15840"/>
          </a:xfrm>
          <a:prstGeom prst="rect">
            <a:avLst/>
          </a:prstGeom>
          <a:solidFill>
            <a:srgbClr val="f93f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450800" y="3886200"/>
            <a:ext cx="2619720" cy="9360"/>
          </a:xfrm>
          <a:prstGeom prst="rect">
            <a:avLst/>
          </a:prstGeom>
          <a:solidFill>
            <a:srgbClr val="f84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450800" y="3895560"/>
            <a:ext cx="2619720" cy="11160"/>
          </a:xfrm>
          <a:prstGeom prst="rect">
            <a:avLst/>
          </a:prstGeom>
          <a:solidFill>
            <a:srgbClr val="f84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450800" y="3906720"/>
            <a:ext cx="2619720" cy="12960"/>
          </a:xfrm>
          <a:prstGeom prst="rect">
            <a:avLst/>
          </a:prstGeom>
          <a:solidFill>
            <a:srgbClr val="f74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450800" y="3919680"/>
            <a:ext cx="2619720" cy="14040"/>
          </a:xfrm>
          <a:prstGeom prst="rect">
            <a:avLst/>
          </a:prstGeom>
          <a:solidFill>
            <a:srgbClr val="f74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450800" y="3933720"/>
            <a:ext cx="2619720" cy="11160"/>
          </a:xfrm>
          <a:prstGeom prst="rect">
            <a:avLst/>
          </a:prstGeom>
          <a:solidFill>
            <a:srgbClr val="f74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450800" y="3944880"/>
            <a:ext cx="2619720" cy="9720"/>
          </a:xfrm>
          <a:prstGeom prst="rect">
            <a:avLst/>
          </a:prstGeom>
          <a:solidFill>
            <a:srgbClr val="f6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450800" y="3954600"/>
            <a:ext cx="2619720" cy="10800"/>
          </a:xfrm>
          <a:prstGeom prst="rect">
            <a:avLst/>
          </a:prstGeom>
          <a:solidFill>
            <a:srgbClr val="f5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450800" y="3965400"/>
            <a:ext cx="2619720" cy="16200"/>
          </a:xfrm>
          <a:prstGeom prst="rect">
            <a:avLst/>
          </a:prstGeom>
          <a:solidFill>
            <a:srgbClr val="f545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450800" y="3981600"/>
            <a:ext cx="2619720" cy="9360"/>
          </a:xfrm>
          <a:prstGeom prst="rect">
            <a:avLst/>
          </a:prstGeom>
          <a:solidFill>
            <a:srgbClr val="f54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450800" y="3990960"/>
            <a:ext cx="2619720" cy="15840"/>
          </a:xfrm>
          <a:prstGeom prst="rect">
            <a:avLst/>
          </a:prstGeom>
          <a:solidFill>
            <a:srgbClr val="f44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450800" y="4006800"/>
            <a:ext cx="2619720" cy="11160"/>
          </a:xfrm>
          <a:prstGeom prst="rect">
            <a:avLst/>
          </a:prstGeom>
          <a:solidFill>
            <a:srgbClr val="f34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450800" y="4017960"/>
            <a:ext cx="2619720" cy="9360"/>
          </a:xfrm>
          <a:prstGeom prst="rect">
            <a:avLst/>
          </a:prstGeom>
          <a:solidFill>
            <a:srgbClr val="f34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450800" y="4027320"/>
            <a:ext cx="2619720" cy="11160"/>
          </a:xfrm>
          <a:prstGeom prst="rect">
            <a:avLst/>
          </a:prstGeom>
          <a:solidFill>
            <a:srgbClr val="f349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450800" y="4038480"/>
            <a:ext cx="2619720" cy="11160"/>
          </a:xfrm>
          <a:prstGeom prst="rect">
            <a:avLst/>
          </a:prstGeom>
          <a:solidFill>
            <a:srgbClr val="f24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450800" y="4049640"/>
            <a:ext cx="2619720" cy="9720"/>
          </a:xfrm>
          <a:prstGeom prst="rect">
            <a:avLst/>
          </a:prstGeom>
          <a:solidFill>
            <a:srgbClr val="f14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450800" y="4059360"/>
            <a:ext cx="2619720" cy="15840"/>
          </a:xfrm>
          <a:prstGeom prst="rect">
            <a:avLst/>
          </a:prstGeom>
          <a:solidFill>
            <a:srgbClr val="f14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450800" y="4075200"/>
            <a:ext cx="2619720" cy="9360"/>
          </a:xfrm>
          <a:prstGeom prst="rect">
            <a:avLst/>
          </a:prstGeom>
          <a:solidFill>
            <a:srgbClr val="f04d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450800" y="4084560"/>
            <a:ext cx="2619720" cy="15840"/>
          </a:xfrm>
          <a:prstGeom prst="rect">
            <a:avLst/>
          </a:prstGeom>
          <a:solidFill>
            <a:srgbClr val="ef4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450800" y="4100400"/>
            <a:ext cx="2619720" cy="11160"/>
          </a:xfrm>
          <a:prstGeom prst="rect">
            <a:avLst/>
          </a:prstGeom>
          <a:solidFill>
            <a:srgbClr val="ee4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450800" y="4111560"/>
            <a:ext cx="2619720" cy="11160"/>
          </a:xfrm>
          <a:prstGeom prst="rect">
            <a:avLst/>
          </a:prstGeom>
          <a:solidFill>
            <a:srgbClr val="ee5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450800" y="4122720"/>
            <a:ext cx="2619720" cy="11160"/>
          </a:xfrm>
          <a:prstGeom prst="rect">
            <a:avLst/>
          </a:prstGeom>
          <a:solidFill>
            <a:srgbClr val="ee5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450800" y="4133880"/>
            <a:ext cx="2619720" cy="14400"/>
          </a:xfrm>
          <a:prstGeom prst="rect">
            <a:avLst/>
          </a:prstGeom>
          <a:solidFill>
            <a:srgbClr val="ed5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450800" y="4148280"/>
            <a:ext cx="2619720" cy="10800"/>
          </a:xfrm>
          <a:prstGeom prst="rect">
            <a:avLst/>
          </a:prstGeom>
          <a:solidFill>
            <a:srgbClr val="ec5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450800" y="4159080"/>
            <a:ext cx="2619720" cy="11160"/>
          </a:xfrm>
          <a:prstGeom prst="rect">
            <a:avLst/>
          </a:prstGeom>
          <a:solidFill>
            <a:srgbClr val="ec5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450800" y="4170240"/>
            <a:ext cx="2619720" cy="7920"/>
          </a:xfrm>
          <a:prstGeom prst="rect">
            <a:avLst/>
          </a:prstGeom>
          <a:solidFill>
            <a:srgbClr val="eb5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450800" y="4178160"/>
            <a:ext cx="2619720" cy="7920"/>
          </a:xfrm>
          <a:prstGeom prst="rect">
            <a:avLst/>
          </a:prstGeom>
          <a:solidFill>
            <a:srgbClr val="e955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450800" y="4186080"/>
            <a:ext cx="2619720" cy="11160"/>
          </a:xfrm>
          <a:prstGeom prst="rect">
            <a:avLst/>
          </a:prstGeom>
          <a:solidFill>
            <a:srgbClr val="e95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450800" y="4197240"/>
            <a:ext cx="2619720" cy="12960"/>
          </a:xfrm>
          <a:prstGeom prst="rect">
            <a:avLst/>
          </a:prstGeom>
          <a:solidFill>
            <a:srgbClr val="e85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450800" y="4210200"/>
            <a:ext cx="2619720" cy="12600"/>
          </a:xfrm>
          <a:prstGeom prst="rect">
            <a:avLst/>
          </a:prstGeom>
          <a:solidFill>
            <a:srgbClr val="e75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50800" y="4222800"/>
            <a:ext cx="2619720" cy="11160"/>
          </a:xfrm>
          <a:prstGeom prst="rect">
            <a:avLst/>
          </a:prstGeom>
          <a:solidFill>
            <a:srgbClr val="e658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450800" y="4233960"/>
            <a:ext cx="2619720" cy="15840"/>
          </a:xfrm>
          <a:prstGeom prst="rect">
            <a:avLst/>
          </a:prstGeom>
          <a:solidFill>
            <a:srgbClr val="e659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450800" y="4249800"/>
            <a:ext cx="2619720" cy="9360"/>
          </a:xfrm>
          <a:prstGeom prst="rect">
            <a:avLst/>
          </a:prstGeom>
          <a:solidFill>
            <a:srgbClr val="e55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450800" y="4259160"/>
            <a:ext cx="2619720" cy="9720"/>
          </a:xfrm>
          <a:prstGeom prst="rect">
            <a:avLst/>
          </a:prstGeom>
          <a:solidFill>
            <a:srgbClr val="e4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450800" y="4268880"/>
            <a:ext cx="2619720" cy="14040"/>
          </a:xfrm>
          <a:prstGeom prst="rect">
            <a:avLst/>
          </a:prstGeom>
          <a:solidFill>
            <a:srgbClr val="e35c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50800" y="4282920"/>
            <a:ext cx="2619720" cy="12960"/>
          </a:xfrm>
          <a:prstGeom prst="rect">
            <a:avLst/>
          </a:prstGeom>
          <a:solidFill>
            <a:srgbClr val="e25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450800" y="4295880"/>
            <a:ext cx="2619720" cy="11160"/>
          </a:xfrm>
          <a:prstGeom prst="rect">
            <a:avLst/>
          </a:prstGeom>
          <a:solidFill>
            <a:srgbClr val="e15e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450800" y="4307040"/>
            <a:ext cx="2619720" cy="14040"/>
          </a:xfrm>
          <a:prstGeom prst="rect">
            <a:avLst/>
          </a:prstGeom>
          <a:solidFill>
            <a:srgbClr val="e05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1450800" y="4321080"/>
            <a:ext cx="2619720" cy="11160"/>
          </a:xfrm>
          <a:prstGeom prst="rect">
            <a:avLst/>
          </a:prstGeom>
          <a:solidFill>
            <a:srgbClr val="df6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450800" y="4332240"/>
            <a:ext cx="2619720" cy="14400"/>
          </a:xfrm>
          <a:prstGeom prst="rect">
            <a:avLst/>
          </a:prstGeom>
          <a:solidFill>
            <a:srgbClr val="de61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50800" y="4346640"/>
            <a:ext cx="2619720" cy="12600"/>
          </a:xfrm>
          <a:prstGeom prst="rect">
            <a:avLst/>
          </a:prstGeom>
          <a:solidFill>
            <a:srgbClr val="dd6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450800" y="4359240"/>
            <a:ext cx="2619720" cy="7920"/>
          </a:xfrm>
          <a:prstGeom prst="rect">
            <a:avLst/>
          </a:prstGeom>
          <a:solidFill>
            <a:srgbClr val="dc6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450800" y="4367160"/>
            <a:ext cx="2619720" cy="9720"/>
          </a:xfrm>
          <a:prstGeom prst="rect">
            <a:avLst/>
          </a:prstGeom>
          <a:solidFill>
            <a:srgbClr val="da6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450800" y="4376880"/>
            <a:ext cx="2619720" cy="7920"/>
          </a:xfrm>
          <a:prstGeom prst="rect">
            <a:avLst/>
          </a:prstGeom>
          <a:solidFill>
            <a:srgbClr val="da64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450800" y="4384800"/>
            <a:ext cx="2619720" cy="7920"/>
          </a:xfrm>
          <a:prstGeom prst="rect">
            <a:avLst/>
          </a:prstGeom>
          <a:solidFill>
            <a:srgbClr val="d96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450800" y="4392720"/>
            <a:ext cx="2619720" cy="14040"/>
          </a:xfrm>
          <a:prstGeom prst="rect">
            <a:avLst/>
          </a:prstGeom>
          <a:solidFill>
            <a:srgbClr val="d86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450800" y="4406760"/>
            <a:ext cx="2619720" cy="11160"/>
          </a:xfrm>
          <a:prstGeom prst="rect">
            <a:avLst/>
          </a:prstGeom>
          <a:solidFill>
            <a:srgbClr val="d76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450800" y="4417920"/>
            <a:ext cx="2619720" cy="12960"/>
          </a:xfrm>
          <a:prstGeom prst="rect">
            <a:avLst/>
          </a:prstGeom>
          <a:solidFill>
            <a:srgbClr val="d66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450800" y="4430880"/>
            <a:ext cx="2619720" cy="14040"/>
          </a:xfrm>
          <a:prstGeom prst="rect">
            <a:avLst/>
          </a:prstGeom>
          <a:solidFill>
            <a:srgbClr val="d46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450800" y="4444920"/>
            <a:ext cx="2619720" cy="11160"/>
          </a:xfrm>
          <a:prstGeom prst="rect">
            <a:avLst/>
          </a:prstGeom>
          <a:solidFill>
            <a:srgbClr val="d36a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450800" y="4456080"/>
            <a:ext cx="2619720" cy="15840"/>
          </a:xfrm>
          <a:prstGeom prst="rect">
            <a:avLst/>
          </a:prstGeom>
          <a:solidFill>
            <a:srgbClr val="d26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450800" y="4471920"/>
            <a:ext cx="2619720" cy="14400"/>
          </a:xfrm>
          <a:prstGeom prst="rect">
            <a:avLst/>
          </a:prstGeom>
          <a:solidFill>
            <a:srgbClr val="d06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450800" y="4486320"/>
            <a:ext cx="2619720" cy="11160"/>
          </a:xfrm>
          <a:prstGeom prst="rect">
            <a:avLst/>
          </a:prstGeom>
          <a:solidFill>
            <a:srgbClr val="cf6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450800" y="4497480"/>
            <a:ext cx="2619720" cy="12600"/>
          </a:xfrm>
          <a:prstGeom prst="rect">
            <a:avLst/>
          </a:prstGeom>
          <a:solidFill>
            <a:srgbClr val="ce6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450800" y="4510080"/>
            <a:ext cx="2619720" cy="7920"/>
          </a:xfrm>
          <a:prstGeom prst="rect">
            <a:avLst/>
          </a:prstGeom>
          <a:solidFill>
            <a:srgbClr val="cd6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450800" y="4518000"/>
            <a:ext cx="2619720" cy="15840"/>
          </a:xfrm>
          <a:prstGeom prst="rect">
            <a:avLst/>
          </a:prstGeom>
          <a:solidFill>
            <a:srgbClr val="cb6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450800" y="4533840"/>
            <a:ext cx="2619720" cy="7920"/>
          </a:xfrm>
          <a:prstGeom prst="rect">
            <a:avLst/>
          </a:prstGeom>
          <a:solidFill>
            <a:srgbClr val="ca7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450800" y="4541760"/>
            <a:ext cx="2619720" cy="7920"/>
          </a:xfrm>
          <a:prstGeom prst="rect">
            <a:avLst/>
          </a:prstGeom>
          <a:solidFill>
            <a:srgbClr val="c97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450800" y="4549680"/>
            <a:ext cx="2619720" cy="15840"/>
          </a:xfrm>
          <a:prstGeom prst="rect">
            <a:avLst/>
          </a:prstGeom>
          <a:solidFill>
            <a:srgbClr val="c87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450800" y="4565520"/>
            <a:ext cx="2619720" cy="15840"/>
          </a:xfrm>
          <a:prstGeom prst="rect">
            <a:avLst/>
          </a:prstGeom>
          <a:solidFill>
            <a:srgbClr val="c6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450800" y="4581360"/>
            <a:ext cx="2619720" cy="17640"/>
          </a:xfrm>
          <a:prstGeom prst="rect">
            <a:avLst/>
          </a:prstGeom>
          <a:solidFill>
            <a:srgbClr val="c474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450800" y="4599000"/>
            <a:ext cx="2619720" cy="12600"/>
          </a:xfrm>
          <a:prstGeom prst="rect">
            <a:avLst/>
          </a:prstGeom>
          <a:solidFill>
            <a:srgbClr val="c27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450800" y="4611600"/>
            <a:ext cx="2619720" cy="12960"/>
          </a:xfrm>
          <a:prstGeom prst="rect">
            <a:avLst/>
          </a:prstGeom>
          <a:solidFill>
            <a:srgbClr val="c1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450800" y="4624560"/>
            <a:ext cx="2619720" cy="12600"/>
          </a:xfrm>
          <a:prstGeom prst="rect">
            <a:avLst/>
          </a:prstGeom>
          <a:solidFill>
            <a:srgbClr val="c07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450800" y="4637160"/>
            <a:ext cx="2619720" cy="17280"/>
          </a:xfrm>
          <a:prstGeom prst="rect">
            <a:avLst/>
          </a:prstGeom>
          <a:solidFill>
            <a:srgbClr val="be7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450800" y="4654440"/>
            <a:ext cx="2619720" cy="14400"/>
          </a:xfrm>
          <a:prstGeom prst="rect">
            <a:avLst/>
          </a:prstGeom>
          <a:solidFill>
            <a:srgbClr val="bc7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450800" y="4668840"/>
            <a:ext cx="2619720" cy="15840"/>
          </a:xfrm>
          <a:prstGeom prst="rect">
            <a:avLst/>
          </a:prstGeom>
          <a:solidFill>
            <a:srgbClr val="ba7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450800" y="4684680"/>
            <a:ext cx="2619720" cy="15840"/>
          </a:xfrm>
          <a:prstGeom prst="rect">
            <a:avLst/>
          </a:prstGeom>
          <a:solidFill>
            <a:srgbClr val="b87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450800" y="4700520"/>
            <a:ext cx="2619720" cy="15840"/>
          </a:xfrm>
          <a:prstGeom prst="rect">
            <a:avLst/>
          </a:prstGeom>
          <a:solidFill>
            <a:srgbClr val="b67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450800" y="4716360"/>
            <a:ext cx="2619720" cy="15840"/>
          </a:xfrm>
          <a:prstGeom prst="rect">
            <a:avLst/>
          </a:prstGeom>
          <a:solidFill>
            <a:srgbClr val="b47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50800" y="4732200"/>
            <a:ext cx="2619720" cy="15840"/>
          </a:xfrm>
          <a:prstGeom prst="rect">
            <a:avLst/>
          </a:prstGeom>
          <a:solidFill>
            <a:srgbClr val="b27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450800" y="4748040"/>
            <a:ext cx="2619720" cy="14400"/>
          </a:xfrm>
          <a:prstGeom prst="rect">
            <a:avLst/>
          </a:prstGeom>
          <a:solidFill>
            <a:srgbClr val="b08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450800" y="4762440"/>
            <a:ext cx="2619720" cy="12600"/>
          </a:xfrm>
          <a:prstGeom prst="rect">
            <a:avLst/>
          </a:prstGeom>
          <a:solidFill>
            <a:srgbClr val="af8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450800" y="4775040"/>
            <a:ext cx="2619720" cy="12960"/>
          </a:xfrm>
          <a:prstGeom prst="rect">
            <a:avLst/>
          </a:prstGeom>
          <a:solidFill>
            <a:srgbClr val="ad8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50800" y="4788000"/>
            <a:ext cx="2619720" cy="15840"/>
          </a:xfrm>
          <a:prstGeom prst="rect">
            <a:avLst/>
          </a:prstGeom>
          <a:solidFill>
            <a:srgbClr val="ac82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450800" y="4803840"/>
            <a:ext cx="2619720" cy="14400"/>
          </a:xfrm>
          <a:prstGeom prst="rect">
            <a:avLst/>
          </a:prstGeom>
          <a:solidFill>
            <a:srgbClr val="aa8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450800" y="4818240"/>
            <a:ext cx="2619720" cy="17280"/>
          </a:xfrm>
          <a:prstGeom prst="rect">
            <a:avLst/>
          </a:prstGeom>
          <a:solidFill>
            <a:srgbClr val="a88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450800" y="4835520"/>
            <a:ext cx="2619720" cy="15840"/>
          </a:xfrm>
          <a:prstGeom prst="rect">
            <a:avLst/>
          </a:prstGeom>
          <a:solidFill>
            <a:srgbClr val="a684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50800" y="4851360"/>
            <a:ext cx="2619720" cy="15840"/>
          </a:xfrm>
          <a:prstGeom prst="rect">
            <a:avLst/>
          </a:prstGeom>
          <a:solidFill>
            <a:srgbClr val="a48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450800" y="4867200"/>
            <a:ext cx="2619720" cy="14400"/>
          </a:xfrm>
          <a:prstGeom prst="rect">
            <a:avLst/>
          </a:prstGeom>
          <a:solidFill>
            <a:srgbClr val="a28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450800" y="4881600"/>
            <a:ext cx="2619720" cy="17280"/>
          </a:xfrm>
          <a:prstGeom prst="rect">
            <a:avLst/>
          </a:prstGeom>
          <a:solidFill>
            <a:srgbClr val="a08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450800" y="4898880"/>
            <a:ext cx="2619720" cy="14400"/>
          </a:xfrm>
          <a:prstGeom prst="rect">
            <a:avLst/>
          </a:prstGeom>
          <a:solidFill>
            <a:srgbClr val="9e8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450800" y="4913280"/>
            <a:ext cx="2619720" cy="20520"/>
          </a:xfrm>
          <a:prstGeom prst="rect">
            <a:avLst/>
          </a:prstGeom>
          <a:solidFill>
            <a:srgbClr val="9c8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1450800" y="4933800"/>
            <a:ext cx="2619720" cy="20880"/>
          </a:xfrm>
          <a:prstGeom prst="rect">
            <a:avLst/>
          </a:prstGeom>
          <a:solidFill>
            <a:srgbClr val="9a8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450800" y="4954680"/>
            <a:ext cx="2619720" cy="14040"/>
          </a:xfrm>
          <a:prstGeom prst="rect">
            <a:avLst/>
          </a:prstGeom>
          <a:solidFill>
            <a:srgbClr val="988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1450800" y="4968720"/>
            <a:ext cx="2619720" cy="17640"/>
          </a:xfrm>
          <a:prstGeom prst="rect">
            <a:avLst/>
          </a:prstGeom>
          <a:solidFill>
            <a:srgbClr val="968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450800" y="4986360"/>
            <a:ext cx="2619720" cy="14400"/>
          </a:xfrm>
          <a:prstGeom prst="rect">
            <a:avLst/>
          </a:prstGeom>
          <a:solidFill>
            <a:srgbClr val="948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450800" y="5000760"/>
            <a:ext cx="2619720" cy="15840"/>
          </a:xfrm>
          <a:prstGeom prst="rect">
            <a:avLst/>
          </a:prstGeom>
          <a:solidFill>
            <a:srgbClr val="928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450800" y="5016600"/>
            <a:ext cx="2619720" cy="11160"/>
          </a:xfrm>
          <a:prstGeom prst="rect">
            <a:avLst/>
          </a:prstGeom>
          <a:solidFill>
            <a:srgbClr val="918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450800" y="5027760"/>
            <a:ext cx="2619720" cy="20520"/>
          </a:xfrm>
          <a:prstGeom prst="rect">
            <a:avLst/>
          </a:prstGeom>
          <a:solidFill>
            <a:srgbClr val="8f8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1450800" y="5048280"/>
            <a:ext cx="2619720" cy="15840"/>
          </a:xfrm>
          <a:prstGeom prst="rect">
            <a:avLst/>
          </a:prstGeom>
          <a:solidFill>
            <a:srgbClr val="8d8e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450800" y="5064120"/>
            <a:ext cx="2619720" cy="23760"/>
          </a:xfrm>
          <a:prstGeom prst="rect">
            <a:avLst/>
          </a:prstGeom>
          <a:solidFill>
            <a:srgbClr val="8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450800" y="5087880"/>
            <a:ext cx="2619720" cy="14400"/>
          </a:xfrm>
          <a:prstGeom prst="rect">
            <a:avLst/>
          </a:prstGeom>
          <a:solidFill>
            <a:srgbClr val="899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450800" y="5102280"/>
            <a:ext cx="2619720" cy="17280"/>
          </a:xfrm>
          <a:prstGeom prst="rect">
            <a:avLst/>
          </a:prstGeom>
          <a:solidFill>
            <a:srgbClr val="879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450800" y="5119560"/>
            <a:ext cx="2619720" cy="20880"/>
          </a:xfrm>
          <a:prstGeom prst="rect">
            <a:avLst/>
          </a:prstGeom>
          <a:solidFill>
            <a:srgbClr val="859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450800" y="5140440"/>
            <a:ext cx="2619720" cy="19080"/>
          </a:xfrm>
          <a:prstGeom prst="rect">
            <a:avLst/>
          </a:prstGeom>
          <a:solidFill>
            <a:srgbClr val="839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450800" y="5159520"/>
            <a:ext cx="2619720" cy="27000"/>
          </a:xfrm>
          <a:prstGeom prst="rect">
            <a:avLst/>
          </a:prstGeom>
          <a:solidFill>
            <a:srgbClr val="819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450800" y="5186520"/>
            <a:ext cx="2619720" cy="20520"/>
          </a:xfrm>
          <a:prstGeom prst="rect">
            <a:avLst/>
          </a:prstGeom>
          <a:solidFill>
            <a:srgbClr val="7f9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450800" y="5207040"/>
            <a:ext cx="2619720" cy="23760"/>
          </a:xfrm>
          <a:prstGeom prst="rect">
            <a:avLst/>
          </a:prstGeom>
          <a:solidFill>
            <a:srgbClr val="7d93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450800" y="5230800"/>
            <a:ext cx="2619720" cy="19080"/>
          </a:xfrm>
          <a:prstGeom prst="rect">
            <a:avLst/>
          </a:prstGeom>
          <a:solidFill>
            <a:srgbClr val="7b9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450800" y="5249880"/>
            <a:ext cx="2619720" cy="27000"/>
          </a:xfrm>
          <a:prstGeom prst="rect">
            <a:avLst/>
          </a:prstGeom>
          <a:solidFill>
            <a:srgbClr val="799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1450800" y="5276880"/>
            <a:ext cx="2619720" cy="20520"/>
          </a:xfrm>
          <a:prstGeom prst="rect">
            <a:avLst/>
          </a:prstGeom>
          <a:solidFill>
            <a:srgbClr val="779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1450800" y="5297400"/>
            <a:ext cx="2619720" cy="31680"/>
          </a:xfrm>
          <a:prstGeom prst="rect">
            <a:avLst/>
          </a:prstGeom>
          <a:solidFill>
            <a:srgbClr val="759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450800" y="5329080"/>
            <a:ext cx="2619720" cy="32040"/>
          </a:xfrm>
          <a:prstGeom prst="rect">
            <a:avLst/>
          </a:prstGeom>
          <a:solidFill>
            <a:srgbClr val="739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450800" y="5361120"/>
            <a:ext cx="2619720" cy="29880"/>
          </a:xfrm>
          <a:prstGeom prst="rect">
            <a:avLst/>
          </a:prstGeom>
          <a:solidFill>
            <a:srgbClr val="719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450800" y="5391000"/>
            <a:ext cx="2619720" cy="32040"/>
          </a:xfrm>
          <a:prstGeom prst="rect">
            <a:avLst/>
          </a:prstGeom>
          <a:solidFill>
            <a:srgbClr val="6f9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450800" y="5423040"/>
            <a:ext cx="2619720" cy="31680"/>
          </a:xfrm>
          <a:prstGeom prst="rect">
            <a:avLst/>
          </a:prstGeom>
          <a:solidFill>
            <a:srgbClr val="6d9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1450800" y="5454720"/>
            <a:ext cx="2619720" cy="47520"/>
          </a:xfrm>
          <a:prstGeom prst="rect">
            <a:avLst/>
          </a:prstGeom>
          <a:solidFill>
            <a:srgbClr val="6b98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450800" y="5502240"/>
            <a:ext cx="2619720" cy="47520"/>
          </a:xfrm>
          <a:prstGeom prst="rect">
            <a:avLst/>
          </a:prstGeom>
          <a:solidFill>
            <a:srgbClr val="699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1450800" y="5549760"/>
            <a:ext cx="2619720" cy="39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1450800" y="1546200"/>
            <a:ext cx="2617920" cy="4041720"/>
          </a:xfrm>
          <a:custGeom>
            <a:avLst/>
            <a:gdLst/>
            <a:ahLst/>
            <a:rect l="l" t="t" r="r" b="b"/>
            <a:pathLst>
              <a:path w="1649" h="2546">
                <a:moveTo>
                  <a:pt x="522" y="0"/>
                </a:moveTo>
                <a:lnTo>
                  <a:pt x="496" y="0"/>
                </a:lnTo>
                <a:lnTo>
                  <a:pt x="470" y="2"/>
                </a:lnTo>
                <a:lnTo>
                  <a:pt x="443" y="7"/>
                </a:lnTo>
                <a:lnTo>
                  <a:pt x="417" y="11"/>
                </a:lnTo>
                <a:lnTo>
                  <a:pt x="392" y="16"/>
                </a:lnTo>
                <a:lnTo>
                  <a:pt x="367" y="23"/>
                </a:lnTo>
                <a:lnTo>
                  <a:pt x="343" y="32"/>
                </a:lnTo>
                <a:lnTo>
                  <a:pt x="319" y="41"/>
                </a:lnTo>
                <a:lnTo>
                  <a:pt x="297" y="51"/>
                </a:lnTo>
                <a:lnTo>
                  <a:pt x="273" y="62"/>
                </a:lnTo>
                <a:lnTo>
                  <a:pt x="251" y="75"/>
                </a:lnTo>
                <a:lnTo>
                  <a:pt x="230" y="89"/>
                </a:lnTo>
                <a:lnTo>
                  <a:pt x="210" y="104"/>
                </a:lnTo>
                <a:lnTo>
                  <a:pt x="190" y="119"/>
                </a:lnTo>
                <a:lnTo>
                  <a:pt x="171" y="135"/>
                </a:lnTo>
                <a:lnTo>
                  <a:pt x="153" y="153"/>
                </a:lnTo>
                <a:lnTo>
                  <a:pt x="135" y="171"/>
                </a:lnTo>
                <a:lnTo>
                  <a:pt x="119" y="190"/>
                </a:lnTo>
                <a:lnTo>
                  <a:pt x="104" y="210"/>
                </a:lnTo>
                <a:lnTo>
                  <a:pt x="89" y="230"/>
                </a:lnTo>
                <a:lnTo>
                  <a:pt x="75" y="251"/>
                </a:lnTo>
                <a:lnTo>
                  <a:pt x="62" y="273"/>
                </a:lnTo>
                <a:lnTo>
                  <a:pt x="51" y="296"/>
                </a:lnTo>
                <a:lnTo>
                  <a:pt x="41" y="319"/>
                </a:lnTo>
                <a:lnTo>
                  <a:pt x="32" y="343"/>
                </a:lnTo>
                <a:lnTo>
                  <a:pt x="23" y="367"/>
                </a:lnTo>
                <a:lnTo>
                  <a:pt x="16" y="392"/>
                </a:lnTo>
                <a:lnTo>
                  <a:pt x="11" y="417"/>
                </a:lnTo>
                <a:lnTo>
                  <a:pt x="7" y="443"/>
                </a:lnTo>
                <a:lnTo>
                  <a:pt x="2" y="470"/>
                </a:lnTo>
                <a:lnTo>
                  <a:pt x="0" y="496"/>
                </a:lnTo>
                <a:lnTo>
                  <a:pt x="0" y="522"/>
                </a:lnTo>
                <a:lnTo>
                  <a:pt x="0" y="2024"/>
                </a:lnTo>
                <a:lnTo>
                  <a:pt x="0" y="2051"/>
                </a:lnTo>
                <a:lnTo>
                  <a:pt x="2" y="2077"/>
                </a:lnTo>
                <a:lnTo>
                  <a:pt x="7" y="2103"/>
                </a:lnTo>
                <a:lnTo>
                  <a:pt x="11" y="2130"/>
                </a:lnTo>
                <a:lnTo>
                  <a:pt x="16" y="2155"/>
                </a:lnTo>
                <a:lnTo>
                  <a:pt x="23" y="2179"/>
                </a:lnTo>
                <a:lnTo>
                  <a:pt x="32" y="2204"/>
                </a:lnTo>
                <a:lnTo>
                  <a:pt x="41" y="2228"/>
                </a:lnTo>
                <a:lnTo>
                  <a:pt x="51" y="2251"/>
                </a:lnTo>
                <a:lnTo>
                  <a:pt x="62" y="2273"/>
                </a:lnTo>
                <a:lnTo>
                  <a:pt x="75" y="2295"/>
                </a:lnTo>
                <a:lnTo>
                  <a:pt x="89" y="2316"/>
                </a:lnTo>
                <a:lnTo>
                  <a:pt x="104" y="2336"/>
                </a:lnTo>
                <a:lnTo>
                  <a:pt x="119" y="2356"/>
                </a:lnTo>
                <a:lnTo>
                  <a:pt x="135" y="2375"/>
                </a:lnTo>
                <a:lnTo>
                  <a:pt x="153" y="2393"/>
                </a:lnTo>
                <a:lnTo>
                  <a:pt x="171" y="2411"/>
                </a:lnTo>
                <a:lnTo>
                  <a:pt x="190" y="2427"/>
                </a:lnTo>
                <a:lnTo>
                  <a:pt x="210" y="2443"/>
                </a:lnTo>
                <a:lnTo>
                  <a:pt x="230" y="2458"/>
                </a:lnTo>
                <a:lnTo>
                  <a:pt x="251" y="2471"/>
                </a:lnTo>
                <a:lnTo>
                  <a:pt x="273" y="2484"/>
                </a:lnTo>
                <a:lnTo>
                  <a:pt x="297" y="2496"/>
                </a:lnTo>
                <a:lnTo>
                  <a:pt x="319" y="2505"/>
                </a:lnTo>
                <a:lnTo>
                  <a:pt x="343" y="2515"/>
                </a:lnTo>
                <a:lnTo>
                  <a:pt x="367" y="2523"/>
                </a:lnTo>
                <a:lnTo>
                  <a:pt x="392" y="2530"/>
                </a:lnTo>
                <a:lnTo>
                  <a:pt x="417" y="2536"/>
                </a:lnTo>
                <a:lnTo>
                  <a:pt x="443" y="2541"/>
                </a:lnTo>
                <a:lnTo>
                  <a:pt x="470" y="2544"/>
                </a:lnTo>
                <a:lnTo>
                  <a:pt x="496" y="2546"/>
                </a:lnTo>
                <a:lnTo>
                  <a:pt x="522" y="2546"/>
                </a:lnTo>
                <a:lnTo>
                  <a:pt x="1126" y="2546"/>
                </a:lnTo>
                <a:lnTo>
                  <a:pt x="1153" y="2546"/>
                </a:lnTo>
                <a:lnTo>
                  <a:pt x="1180" y="2544"/>
                </a:lnTo>
                <a:lnTo>
                  <a:pt x="1206" y="2541"/>
                </a:lnTo>
                <a:lnTo>
                  <a:pt x="1231" y="2536"/>
                </a:lnTo>
                <a:lnTo>
                  <a:pt x="1257" y="2530"/>
                </a:lnTo>
                <a:lnTo>
                  <a:pt x="1282" y="2523"/>
                </a:lnTo>
                <a:lnTo>
                  <a:pt x="1306" y="2515"/>
                </a:lnTo>
                <a:lnTo>
                  <a:pt x="1330" y="2505"/>
                </a:lnTo>
                <a:lnTo>
                  <a:pt x="1353" y="2496"/>
                </a:lnTo>
                <a:lnTo>
                  <a:pt x="1376" y="2484"/>
                </a:lnTo>
                <a:lnTo>
                  <a:pt x="1397" y="2471"/>
                </a:lnTo>
                <a:lnTo>
                  <a:pt x="1419" y="2458"/>
                </a:lnTo>
                <a:lnTo>
                  <a:pt x="1439" y="2443"/>
                </a:lnTo>
                <a:lnTo>
                  <a:pt x="1459" y="2427"/>
                </a:lnTo>
                <a:lnTo>
                  <a:pt x="1478" y="2411"/>
                </a:lnTo>
                <a:lnTo>
                  <a:pt x="1496" y="2393"/>
                </a:lnTo>
                <a:lnTo>
                  <a:pt x="1513" y="2375"/>
                </a:lnTo>
                <a:lnTo>
                  <a:pt x="1530" y="2356"/>
                </a:lnTo>
                <a:lnTo>
                  <a:pt x="1546" y="2336"/>
                </a:lnTo>
                <a:lnTo>
                  <a:pt x="1559" y="2316"/>
                </a:lnTo>
                <a:lnTo>
                  <a:pt x="1574" y="2295"/>
                </a:lnTo>
                <a:lnTo>
                  <a:pt x="1587" y="2273"/>
                </a:lnTo>
                <a:lnTo>
                  <a:pt x="1597" y="2251"/>
                </a:lnTo>
                <a:lnTo>
                  <a:pt x="1608" y="2228"/>
                </a:lnTo>
                <a:lnTo>
                  <a:pt x="1617" y="2204"/>
                </a:lnTo>
                <a:lnTo>
                  <a:pt x="1626" y="2179"/>
                </a:lnTo>
                <a:lnTo>
                  <a:pt x="1633" y="2155"/>
                </a:lnTo>
                <a:lnTo>
                  <a:pt x="1638" y="2130"/>
                </a:lnTo>
                <a:lnTo>
                  <a:pt x="1644" y="2103"/>
                </a:lnTo>
                <a:lnTo>
                  <a:pt x="1647" y="2077"/>
                </a:lnTo>
                <a:lnTo>
                  <a:pt x="1649" y="2051"/>
                </a:lnTo>
                <a:lnTo>
                  <a:pt x="1649" y="2024"/>
                </a:lnTo>
                <a:lnTo>
                  <a:pt x="1649" y="522"/>
                </a:lnTo>
                <a:lnTo>
                  <a:pt x="1649" y="496"/>
                </a:lnTo>
                <a:lnTo>
                  <a:pt x="1647" y="470"/>
                </a:lnTo>
                <a:lnTo>
                  <a:pt x="1644" y="443"/>
                </a:lnTo>
                <a:lnTo>
                  <a:pt x="1638" y="417"/>
                </a:lnTo>
                <a:lnTo>
                  <a:pt x="1633" y="392"/>
                </a:lnTo>
                <a:lnTo>
                  <a:pt x="1626" y="367"/>
                </a:lnTo>
                <a:lnTo>
                  <a:pt x="1617" y="343"/>
                </a:lnTo>
                <a:lnTo>
                  <a:pt x="1608" y="319"/>
                </a:lnTo>
                <a:lnTo>
                  <a:pt x="1597" y="296"/>
                </a:lnTo>
                <a:lnTo>
                  <a:pt x="1587" y="273"/>
                </a:lnTo>
                <a:lnTo>
                  <a:pt x="1574" y="251"/>
                </a:lnTo>
                <a:lnTo>
                  <a:pt x="1559" y="230"/>
                </a:lnTo>
                <a:lnTo>
                  <a:pt x="1546" y="210"/>
                </a:lnTo>
                <a:lnTo>
                  <a:pt x="1530" y="190"/>
                </a:lnTo>
                <a:lnTo>
                  <a:pt x="1513" y="171"/>
                </a:lnTo>
                <a:lnTo>
                  <a:pt x="1496" y="153"/>
                </a:lnTo>
                <a:lnTo>
                  <a:pt x="1478" y="135"/>
                </a:lnTo>
                <a:lnTo>
                  <a:pt x="1459" y="119"/>
                </a:lnTo>
                <a:lnTo>
                  <a:pt x="1439" y="104"/>
                </a:lnTo>
                <a:lnTo>
                  <a:pt x="1419" y="89"/>
                </a:lnTo>
                <a:lnTo>
                  <a:pt x="1397" y="75"/>
                </a:lnTo>
                <a:lnTo>
                  <a:pt x="1376" y="62"/>
                </a:lnTo>
                <a:lnTo>
                  <a:pt x="1353" y="51"/>
                </a:lnTo>
                <a:lnTo>
                  <a:pt x="1330" y="41"/>
                </a:lnTo>
                <a:lnTo>
                  <a:pt x="1306" y="32"/>
                </a:lnTo>
                <a:lnTo>
                  <a:pt x="1282" y="23"/>
                </a:lnTo>
                <a:lnTo>
                  <a:pt x="1257" y="16"/>
                </a:lnTo>
                <a:lnTo>
                  <a:pt x="1231" y="11"/>
                </a:lnTo>
                <a:lnTo>
                  <a:pt x="1206" y="7"/>
                </a:lnTo>
                <a:lnTo>
                  <a:pt x="1180" y="2"/>
                </a:lnTo>
                <a:lnTo>
                  <a:pt x="1153" y="0"/>
                </a:lnTo>
                <a:lnTo>
                  <a:pt x="1126" y="0"/>
                </a:lnTo>
                <a:lnTo>
                  <a:pt x="52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1450800" y="1546200"/>
            <a:ext cx="2617920" cy="4041720"/>
          </a:xfrm>
          <a:custGeom>
            <a:avLst/>
            <a:gdLst/>
            <a:ahLst/>
            <a:rect l="l" t="t" r="r" b="b"/>
            <a:pathLst>
              <a:path w="1649" h="2546">
                <a:moveTo>
                  <a:pt x="522" y="0"/>
                </a:moveTo>
                <a:lnTo>
                  <a:pt x="496" y="0"/>
                </a:lnTo>
                <a:lnTo>
                  <a:pt x="470" y="2"/>
                </a:lnTo>
                <a:lnTo>
                  <a:pt x="443" y="7"/>
                </a:lnTo>
                <a:lnTo>
                  <a:pt x="417" y="11"/>
                </a:lnTo>
                <a:lnTo>
                  <a:pt x="392" y="16"/>
                </a:lnTo>
                <a:lnTo>
                  <a:pt x="367" y="23"/>
                </a:lnTo>
                <a:lnTo>
                  <a:pt x="343" y="32"/>
                </a:lnTo>
                <a:lnTo>
                  <a:pt x="319" y="41"/>
                </a:lnTo>
                <a:lnTo>
                  <a:pt x="297" y="51"/>
                </a:lnTo>
                <a:lnTo>
                  <a:pt x="273" y="62"/>
                </a:lnTo>
                <a:lnTo>
                  <a:pt x="251" y="75"/>
                </a:lnTo>
                <a:lnTo>
                  <a:pt x="230" y="89"/>
                </a:lnTo>
                <a:lnTo>
                  <a:pt x="210" y="104"/>
                </a:lnTo>
                <a:lnTo>
                  <a:pt x="190" y="119"/>
                </a:lnTo>
                <a:lnTo>
                  <a:pt x="171" y="135"/>
                </a:lnTo>
                <a:lnTo>
                  <a:pt x="153" y="153"/>
                </a:lnTo>
                <a:lnTo>
                  <a:pt x="135" y="171"/>
                </a:lnTo>
                <a:lnTo>
                  <a:pt x="119" y="190"/>
                </a:lnTo>
                <a:lnTo>
                  <a:pt x="104" y="210"/>
                </a:lnTo>
                <a:lnTo>
                  <a:pt x="89" y="230"/>
                </a:lnTo>
                <a:lnTo>
                  <a:pt x="75" y="251"/>
                </a:lnTo>
                <a:lnTo>
                  <a:pt x="62" y="273"/>
                </a:lnTo>
                <a:lnTo>
                  <a:pt x="51" y="296"/>
                </a:lnTo>
                <a:lnTo>
                  <a:pt x="41" y="319"/>
                </a:lnTo>
                <a:lnTo>
                  <a:pt x="32" y="343"/>
                </a:lnTo>
                <a:lnTo>
                  <a:pt x="23" y="367"/>
                </a:lnTo>
                <a:lnTo>
                  <a:pt x="16" y="392"/>
                </a:lnTo>
                <a:lnTo>
                  <a:pt x="11" y="417"/>
                </a:lnTo>
                <a:lnTo>
                  <a:pt x="7" y="443"/>
                </a:lnTo>
                <a:lnTo>
                  <a:pt x="2" y="470"/>
                </a:lnTo>
                <a:lnTo>
                  <a:pt x="0" y="496"/>
                </a:lnTo>
                <a:lnTo>
                  <a:pt x="0" y="522"/>
                </a:lnTo>
                <a:lnTo>
                  <a:pt x="0" y="2024"/>
                </a:lnTo>
                <a:lnTo>
                  <a:pt x="0" y="2051"/>
                </a:lnTo>
                <a:lnTo>
                  <a:pt x="2" y="2077"/>
                </a:lnTo>
                <a:lnTo>
                  <a:pt x="7" y="2103"/>
                </a:lnTo>
                <a:lnTo>
                  <a:pt x="11" y="2130"/>
                </a:lnTo>
                <a:lnTo>
                  <a:pt x="16" y="2155"/>
                </a:lnTo>
                <a:lnTo>
                  <a:pt x="23" y="2179"/>
                </a:lnTo>
                <a:lnTo>
                  <a:pt x="32" y="2204"/>
                </a:lnTo>
                <a:lnTo>
                  <a:pt x="41" y="2228"/>
                </a:lnTo>
                <a:lnTo>
                  <a:pt x="51" y="2251"/>
                </a:lnTo>
                <a:lnTo>
                  <a:pt x="62" y="2273"/>
                </a:lnTo>
                <a:lnTo>
                  <a:pt x="75" y="2295"/>
                </a:lnTo>
                <a:lnTo>
                  <a:pt x="89" y="2316"/>
                </a:lnTo>
                <a:lnTo>
                  <a:pt x="104" y="2336"/>
                </a:lnTo>
                <a:lnTo>
                  <a:pt x="119" y="2356"/>
                </a:lnTo>
                <a:lnTo>
                  <a:pt x="135" y="2375"/>
                </a:lnTo>
                <a:lnTo>
                  <a:pt x="153" y="2393"/>
                </a:lnTo>
                <a:lnTo>
                  <a:pt x="171" y="2411"/>
                </a:lnTo>
                <a:lnTo>
                  <a:pt x="190" y="2427"/>
                </a:lnTo>
                <a:lnTo>
                  <a:pt x="210" y="2443"/>
                </a:lnTo>
                <a:lnTo>
                  <a:pt x="230" y="2458"/>
                </a:lnTo>
                <a:lnTo>
                  <a:pt x="251" y="2471"/>
                </a:lnTo>
                <a:lnTo>
                  <a:pt x="273" y="2484"/>
                </a:lnTo>
                <a:lnTo>
                  <a:pt x="297" y="2496"/>
                </a:lnTo>
                <a:lnTo>
                  <a:pt x="319" y="2505"/>
                </a:lnTo>
                <a:lnTo>
                  <a:pt x="343" y="2515"/>
                </a:lnTo>
                <a:lnTo>
                  <a:pt x="367" y="2523"/>
                </a:lnTo>
                <a:lnTo>
                  <a:pt x="392" y="2530"/>
                </a:lnTo>
                <a:lnTo>
                  <a:pt x="417" y="2536"/>
                </a:lnTo>
                <a:lnTo>
                  <a:pt x="443" y="2541"/>
                </a:lnTo>
                <a:lnTo>
                  <a:pt x="470" y="2544"/>
                </a:lnTo>
                <a:lnTo>
                  <a:pt x="496" y="2546"/>
                </a:lnTo>
                <a:lnTo>
                  <a:pt x="522" y="2546"/>
                </a:lnTo>
                <a:lnTo>
                  <a:pt x="1126" y="2546"/>
                </a:lnTo>
                <a:lnTo>
                  <a:pt x="1153" y="2546"/>
                </a:lnTo>
                <a:lnTo>
                  <a:pt x="1180" y="2544"/>
                </a:lnTo>
                <a:lnTo>
                  <a:pt x="1206" y="2541"/>
                </a:lnTo>
                <a:lnTo>
                  <a:pt x="1231" y="2536"/>
                </a:lnTo>
                <a:lnTo>
                  <a:pt x="1257" y="2530"/>
                </a:lnTo>
                <a:lnTo>
                  <a:pt x="1282" y="2523"/>
                </a:lnTo>
                <a:lnTo>
                  <a:pt x="1306" y="2515"/>
                </a:lnTo>
                <a:lnTo>
                  <a:pt x="1330" y="2505"/>
                </a:lnTo>
                <a:lnTo>
                  <a:pt x="1353" y="2496"/>
                </a:lnTo>
                <a:lnTo>
                  <a:pt x="1376" y="2484"/>
                </a:lnTo>
                <a:lnTo>
                  <a:pt x="1397" y="2471"/>
                </a:lnTo>
                <a:lnTo>
                  <a:pt x="1419" y="2458"/>
                </a:lnTo>
                <a:lnTo>
                  <a:pt x="1439" y="2443"/>
                </a:lnTo>
                <a:lnTo>
                  <a:pt x="1459" y="2427"/>
                </a:lnTo>
                <a:lnTo>
                  <a:pt x="1478" y="2411"/>
                </a:lnTo>
                <a:lnTo>
                  <a:pt x="1496" y="2393"/>
                </a:lnTo>
                <a:lnTo>
                  <a:pt x="1513" y="2375"/>
                </a:lnTo>
                <a:lnTo>
                  <a:pt x="1530" y="2356"/>
                </a:lnTo>
                <a:lnTo>
                  <a:pt x="1546" y="2336"/>
                </a:lnTo>
                <a:lnTo>
                  <a:pt x="1559" y="2316"/>
                </a:lnTo>
                <a:lnTo>
                  <a:pt x="1574" y="2295"/>
                </a:lnTo>
                <a:lnTo>
                  <a:pt x="1587" y="2273"/>
                </a:lnTo>
                <a:lnTo>
                  <a:pt x="1597" y="2251"/>
                </a:lnTo>
                <a:lnTo>
                  <a:pt x="1608" y="2228"/>
                </a:lnTo>
                <a:lnTo>
                  <a:pt x="1617" y="2204"/>
                </a:lnTo>
                <a:lnTo>
                  <a:pt x="1626" y="2179"/>
                </a:lnTo>
                <a:lnTo>
                  <a:pt x="1633" y="2155"/>
                </a:lnTo>
                <a:lnTo>
                  <a:pt x="1638" y="2130"/>
                </a:lnTo>
                <a:lnTo>
                  <a:pt x="1644" y="2103"/>
                </a:lnTo>
                <a:lnTo>
                  <a:pt x="1647" y="2077"/>
                </a:lnTo>
                <a:lnTo>
                  <a:pt x="1649" y="2051"/>
                </a:lnTo>
                <a:lnTo>
                  <a:pt x="1649" y="2024"/>
                </a:lnTo>
                <a:lnTo>
                  <a:pt x="1649" y="522"/>
                </a:lnTo>
                <a:lnTo>
                  <a:pt x="1649" y="496"/>
                </a:lnTo>
                <a:lnTo>
                  <a:pt x="1647" y="470"/>
                </a:lnTo>
                <a:lnTo>
                  <a:pt x="1644" y="443"/>
                </a:lnTo>
                <a:lnTo>
                  <a:pt x="1638" y="417"/>
                </a:lnTo>
                <a:lnTo>
                  <a:pt x="1633" y="392"/>
                </a:lnTo>
                <a:lnTo>
                  <a:pt x="1626" y="367"/>
                </a:lnTo>
                <a:lnTo>
                  <a:pt x="1617" y="343"/>
                </a:lnTo>
                <a:lnTo>
                  <a:pt x="1608" y="319"/>
                </a:lnTo>
                <a:lnTo>
                  <a:pt x="1597" y="296"/>
                </a:lnTo>
                <a:lnTo>
                  <a:pt x="1587" y="273"/>
                </a:lnTo>
                <a:lnTo>
                  <a:pt x="1574" y="251"/>
                </a:lnTo>
                <a:lnTo>
                  <a:pt x="1559" y="230"/>
                </a:lnTo>
                <a:lnTo>
                  <a:pt x="1546" y="210"/>
                </a:lnTo>
                <a:lnTo>
                  <a:pt x="1530" y="190"/>
                </a:lnTo>
                <a:lnTo>
                  <a:pt x="1513" y="171"/>
                </a:lnTo>
                <a:lnTo>
                  <a:pt x="1496" y="153"/>
                </a:lnTo>
                <a:lnTo>
                  <a:pt x="1478" y="135"/>
                </a:lnTo>
                <a:lnTo>
                  <a:pt x="1459" y="119"/>
                </a:lnTo>
                <a:lnTo>
                  <a:pt x="1439" y="104"/>
                </a:lnTo>
                <a:lnTo>
                  <a:pt x="1419" y="89"/>
                </a:lnTo>
                <a:lnTo>
                  <a:pt x="1397" y="75"/>
                </a:lnTo>
                <a:lnTo>
                  <a:pt x="1376" y="62"/>
                </a:lnTo>
                <a:lnTo>
                  <a:pt x="1353" y="51"/>
                </a:lnTo>
                <a:lnTo>
                  <a:pt x="1330" y="41"/>
                </a:lnTo>
                <a:lnTo>
                  <a:pt x="1306" y="32"/>
                </a:lnTo>
                <a:lnTo>
                  <a:pt x="1282" y="23"/>
                </a:lnTo>
                <a:lnTo>
                  <a:pt x="1257" y="16"/>
                </a:lnTo>
                <a:lnTo>
                  <a:pt x="1231" y="11"/>
                </a:lnTo>
                <a:lnTo>
                  <a:pt x="1206" y="7"/>
                </a:lnTo>
                <a:lnTo>
                  <a:pt x="1180" y="2"/>
                </a:lnTo>
                <a:lnTo>
                  <a:pt x="1153" y="0"/>
                </a:lnTo>
                <a:lnTo>
                  <a:pt x="1126" y="0"/>
                </a:lnTo>
                <a:lnTo>
                  <a:pt x="5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450800" y="1544760"/>
            <a:ext cx="2619720" cy="3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1450800" y="1584360"/>
            <a:ext cx="2619720" cy="47520"/>
          </a:xfrm>
          <a:prstGeom prst="rect">
            <a:avLst/>
          </a:prstGeom>
          <a:solidFill>
            <a:srgbClr val="689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1450800" y="1631880"/>
            <a:ext cx="2619720" cy="49320"/>
          </a:xfrm>
          <a:prstGeom prst="rect">
            <a:avLst/>
          </a:prstGeom>
          <a:solidFill>
            <a:srgbClr val="6a9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1450800" y="1681200"/>
            <a:ext cx="2619720" cy="30240"/>
          </a:xfrm>
          <a:prstGeom prst="rect">
            <a:avLst/>
          </a:prstGeom>
          <a:solidFill>
            <a:srgbClr val="6c9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1450800" y="1711440"/>
            <a:ext cx="2619720" cy="31680"/>
          </a:xfrm>
          <a:prstGeom prst="rect">
            <a:avLst/>
          </a:prstGeom>
          <a:solidFill>
            <a:srgbClr val="6e9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1450800" y="1743120"/>
            <a:ext cx="2619720" cy="31680"/>
          </a:xfrm>
          <a:prstGeom prst="rect">
            <a:avLst/>
          </a:prstGeom>
          <a:solidFill>
            <a:srgbClr val="709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1450800" y="1774800"/>
            <a:ext cx="2619720" cy="31680"/>
          </a:xfrm>
          <a:prstGeom prst="rect">
            <a:avLst/>
          </a:prstGeom>
          <a:solidFill>
            <a:srgbClr val="729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450800" y="1806480"/>
            <a:ext cx="2619720" cy="31680"/>
          </a:xfrm>
          <a:prstGeom prst="rect">
            <a:avLst/>
          </a:prstGeom>
          <a:solidFill>
            <a:srgbClr val="749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450800" y="1838160"/>
            <a:ext cx="2619720" cy="17640"/>
          </a:xfrm>
          <a:prstGeom prst="rect">
            <a:avLst/>
          </a:prstGeom>
          <a:solidFill>
            <a:srgbClr val="769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1450800" y="1855800"/>
            <a:ext cx="2619720" cy="28440"/>
          </a:xfrm>
          <a:prstGeom prst="rect">
            <a:avLst/>
          </a:prstGeom>
          <a:solidFill>
            <a:srgbClr val="789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1450800" y="1884240"/>
            <a:ext cx="2619720" cy="20880"/>
          </a:xfrm>
          <a:prstGeom prst="rect">
            <a:avLst/>
          </a:prstGeom>
          <a:solidFill>
            <a:srgbClr val="7a9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450800" y="1905120"/>
            <a:ext cx="2619720" cy="23760"/>
          </a:xfrm>
          <a:prstGeom prst="rect">
            <a:avLst/>
          </a:prstGeom>
          <a:solidFill>
            <a:srgbClr val="7c9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1450800" y="1928880"/>
            <a:ext cx="2619720" cy="19080"/>
          </a:xfrm>
          <a:prstGeom prst="rect">
            <a:avLst/>
          </a:prstGeom>
          <a:solidFill>
            <a:srgbClr val="7e93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1450800" y="1947960"/>
            <a:ext cx="2619720" cy="15840"/>
          </a:xfrm>
          <a:prstGeom prst="rect">
            <a:avLst/>
          </a:prstGeom>
          <a:solidFill>
            <a:srgbClr val="809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450800" y="1963800"/>
            <a:ext cx="2619720" cy="19080"/>
          </a:xfrm>
          <a:prstGeom prst="rect">
            <a:avLst/>
          </a:prstGeom>
          <a:solidFill>
            <a:srgbClr val="819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450800" y="1982880"/>
            <a:ext cx="2619720" cy="23760"/>
          </a:xfrm>
          <a:prstGeom prst="rect">
            <a:avLst/>
          </a:prstGeom>
          <a:solidFill>
            <a:srgbClr val="839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450800" y="2006640"/>
            <a:ext cx="2619720" cy="17280"/>
          </a:xfrm>
          <a:prstGeom prst="rect">
            <a:avLst/>
          </a:prstGeom>
          <a:solidFill>
            <a:srgbClr val="859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450800" y="2023920"/>
            <a:ext cx="2619720" cy="14400"/>
          </a:xfrm>
          <a:prstGeom prst="rect">
            <a:avLst/>
          </a:prstGeom>
          <a:solidFill>
            <a:srgbClr val="879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450800" y="2038320"/>
            <a:ext cx="2619720" cy="20520"/>
          </a:xfrm>
          <a:prstGeom prst="rect">
            <a:avLst/>
          </a:prstGeom>
          <a:solidFill>
            <a:srgbClr val="899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450800" y="2058840"/>
            <a:ext cx="2619720" cy="20880"/>
          </a:xfrm>
          <a:prstGeom prst="rect">
            <a:avLst/>
          </a:prstGeom>
          <a:solidFill>
            <a:srgbClr val="8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450800" y="2079720"/>
            <a:ext cx="2619720" cy="14040"/>
          </a:xfrm>
          <a:prstGeom prst="rect">
            <a:avLst/>
          </a:prstGeom>
          <a:solidFill>
            <a:srgbClr val="8d8e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450800" y="2093760"/>
            <a:ext cx="2619720" cy="24120"/>
          </a:xfrm>
          <a:prstGeom prst="rect">
            <a:avLst/>
          </a:prstGeom>
          <a:solidFill>
            <a:srgbClr val="8f8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1450800" y="2117880"/>
            <a:ext cx="2619720" cy="15840"/>
          </a:xfrm>
          <a:prstGeom prst="rect">
            <a:avLst/>
          </a:prstGeom>
          <a:solidFill>
            <a:srgbClr val="91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1450800" y="2133720"/>
            <a:ext cx="2619720" cy="15840"/>
          </a:xfrm>
          <a:prstGeom prst="rect">
            <a:avLst/>
          </a:prstGeom>
          <a:solidFill>
            <a:srgbClr val="938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1450800" y="2149560"/>
            <a:ext cx="2619720" cy="14040"/>
          </a:xfrm>
          <a:prstGeom prst="rect">
            <a:avLst/>
          </a:prstGeom>
          <a:solidFill>
            <a:srgbClr val="958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1450800" y="2163600"/>
            <a:ext cx="2619720" cy="17640"/>
          </a:xfrm>
          <a:prstGeom prst="rect">
            <a:avLst/>
          </a:prstGeom>
          <a:solidFill>
            <a:srgbClr val="978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1450800" y="2181240"/>
            <a:ext cx="2619720" cy="20520"/>
          </a:xfrm>
          <a:prstGeom prst="rect">
            <a:avLst/>
          </a:prstGeom>
          <a:solidFill>
            <a:srgbClr val="998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450800" y="2201760"/>
            <a:ext cx="2619720" cy="19080"/>
          </a:xfrm>
          <a:prstGeom prst="rect">
            <a:avLst/>
          </a:prstGeom>
          <a:solidFill>
            <a:srgbClr val="9b89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450800" y="2220840"/>
            <a:ext cx="2619720" cy="15840"/>
          </a:xfrm>
          <a:prstGeom prst="rect">
            <a:avLst/>
          </a:prstGeom>
          <a:solidFill>
            <a:srgbClr val="9d8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450800" y="2236680"/>
            <a:ext cx="2619720" cy="14400"/>
          </a:xfrm>
          <a:prstGeom prst="rect">
            <a:avLst/>
          </a:prstGeom>
          <a:solidFill>
            <a:srgbClr val="9f8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1450800" y="2251080"/>
            <a:ext cx="2619720" cy="17280"/>
          </a:xfrm>
          <a:prstGeom prst="rect">
            <a:avLst/>
          </a:prstGeom>
          <a:solidFill>
            <a:srgbClr val="a18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450800" y="2268360"/>
            <a:ext cx="2619720" cy="14400"/>
          </a:xfrm>
          <a:prstGeom prst="rect">
            <a:avLst/>
          </a:prstGeom>
          <a:solidFill>
            <a:srgbClr val="a3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1450800" y="2282760"/>
            <a:ext cx="2619720" cy="15840"/>
          </a:xfrm>
          <a:prstGeom prst="rect">
            <a:avLst/>
          </a:prstGeom>
          <a:solidFill>
            <a:srgbClr val="a58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1450800" y="2298600"/>
            <a:ext cx="2619720" cy="15840"/>
          </a:xfrm>
          <a:prstGeom prst="rect">
            <a:avLst/>
          </a:prstGeom>
          <a:solidFill>
            <a:srgbClr val="a784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1450800" y="2314440"/>
            <a:ext cx="2619720" cy="17640"/>
          </a:xfrm>
          <a:prstGeom prst="rect">
            <a:avLst/>
          </a:prstGeom>
          <a:solidFill>
            <a:srgbClr val="a98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1450800" y="2332080"/>
            <a:ext cx="2619720" cy="14400"/>
          </a:xfrm>
          <a:prstGeom prst="rect">
            <a:avLst/>
          </a:prstGeom>
          <a:solidFill>
            <a:srgbClr val="ab8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1450800" y="2346480"/>
            <a:ext cx="2619720" cy="15840"/>
          </a:xfrm>
          <a:prstGeom prst="rect">
            <a:avLst/>
          </a:prstGeom>
          <a:solidFill>
            <a:srgbClr val="ad82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450800" y="2362320"/>
            <a:ext cx="2619720" cy="15840"/>
          </a:xfrm>
          <a:prstGeom prst="rect">
            <a:avLst/>
          </a:prstGeom>
          <a:solidFill>
            <a:srgbClr val="ae8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1450800" y="2378160"/>
            <a:ext cx="2619720" cy="17280"/>
          </a:xfrm>
          <a:prstGeom prst="rect">
            <a:avLst/>
          </a:prstGeom>
          <a:solidFill>
            <a:srgbClr val="b08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50800" y="2395440"/>
            <a:ext cx="2619720" cy="14400"/>
          </a:xfrm>
          <a:prstGeom prst="rect">
            <a:avLst/>
          </a:prstGeom>
          <a:solidFill>
            <a:srgbClr val="b27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450800" y="2409840"/>
            <a:ext cx="2619720" cy="15840"/>
          </a:xfrm>
          <a:prstGeom prst="rect">
            <a:avLst/>
          </a:prstGeom>
          <a:solidFill>
            <a:srgbClr val="b47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450800" y="2425680"/>
            <a:ext cx="2619720" cy="15840"/>
          </a:xfrm>
          <a:prstGeom prst="rect">
            <a:avLst/>
          </a:prstGeom>
          <a:solidFill>
            <a:srgbClr val="b67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1450800" y="2441520"/>
            <a:ext cx="2619720" cy="15840"/>
          </a:xfrm>
          <a:prstGeom prst="rect">
            <a:avLst/>
          </a:prstGeom>
          <a:solidFill>
            <a:srgbClr val="b87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450800" y="2457360"/>
            <a:ext cx="2619720" cy="17640"/>
          </a:xfrm>
          <a:prstGeom prst="rect">
            <a:avLst/>
          </a:prstGeom>
          <a:solidFill>
            <a:srgbClr val="ba7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450800" y="2475000"/>
            <a:ext cx="2619720" cy="14040"/>
          </a:xfrm>
          <a:prstGeom prst="rect">
            <a:avLst/>
          </a:prstGeom>
          <a:solidFill>
            <a:srgbClr val="bc7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1450800" y="2489040"/>
            <a:ext cx="2619720" cy="16200"/>
          </a:xfrm>
          <a:prstGeom prst="rect">
            <a:avLst/>
          </a:prstGeom>
          <a:solidFill>
            <a:srgbClr val="be7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1450800" y="2505240"/>
            <a:ext cx="2619720" cy="10800"/>
          </a:xfrm>
          <a:prstGeom prst="rect">
            <a:avLst/>
          </a:prstGeom>
          <a:solidFill>
            <a:srgbClr val="c07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1450800" y="2516040"/>
            <a:ext cx="2619720" cy="12960"/>
          </a:xfrm>
          <a:prstGeom prst="rect">
            <a:avLst/>
          </a:prstGeom>
          <a:solidFill>
            <a:srgbClr val="c1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450800" y="2529000"/>
            <a:ext cx="2619720" cy="15840"/>
          </a:xfrm>
          <a:prstGeom prst="rect">
            <a:avLst/>
          </a:prstGeom>
          <a:solidFill>
            <a:srgbClr val="c27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450800" y="2544840"/>
            <a:ext cx="2619720" cy="14040"/>
          </a:xfrm>
          <a:prstGeom prst="rect">
            <a:avLst/>
          </a:prstGeom>
          <a:solidFill>
            <a:srgbClr val="c475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450800" y="2558880"/>
            <a:ext cx="2619720" cy="17640"/>
          </a:xfrm>
          <a:prstGeom prst="rect">
            <a:avLst/>
          </a:prstGeom>
          <a:solidFill>
            <a:srgbClr val="c674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450800" y="2576520"/>
            <a:ext cx="2619720" cy="12600"/>
          </a:xfrm>
          <a:prstGeom prst="rect">
            <a:avLst/>
          </a:prstGeom>
          <a:solidFill>
            <a:srgbClr val="c87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450800" y="2589120"/>
            <a:ext cx="2619720" cy="11160"/>
          </a:xfrm>
          <a:prstGeom prst="rect">
            <a:avLst/>
          </a:prstGeom>
          <a:solidFill>
            <a:srgbClr val="c97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450800" y="2600280"/>
            <a:ext cx="2619720" cy="7920"/>
          </a:xfrm>
          <a:prstGeom prst="rect">
            <a:avLst/>
          </a:prstGeom>
          <a:solidFill>
            <a:srgbClr val="ca7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1450800" y="2608200"/>
            <a:ext cx="2619720" cy="14400"/>
          </a:xfrm>
          <a:prstGeom prst="rect">
            <a:avLst/>
          </a:prstGeom>
          <a:solidFill>
            <a:srgbClr val="cb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450800" y="2622600"/>
            <a:ext cx="2619720" cy="15840"/>
          </a:xfrm>
          <a:prstGeom prst="rect">
            <a:avLst/>
          </a:prstGeom>
          <a:solidFill>
            <a:srgbClr val="cd6f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450800" y="2638440"/>
            <a:ext cx="2619720" cy="9360"/>
          </a:xfrm>
          <a:prstGeom prst="rect">
            <a:avLst/>
          </a:prstGeom>
          <a:solidFill>
            <a:srgbClr val="ce6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450800" y="2647800"/>
            <a:ext cx="2619720" cy="16200"/>
          </a:xfrm>
          <a:prstGeom prst="rect">
            <a:avLst/>
          </a:prstGeom>
          <a:solidFill>
            <a:srgbClr val="cf6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450800" y="2664000"/>
            <a:ext cx="2619720" cy="14040"/>
          </a:xfrm>
          <a:prstGeom prst="rect">
            <a:avLst/>
          </a:prstGeom>
          <a:solidFill>
            <a:srgbClr val="d16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1450800" y="2678040"/>
            <a:ext cx="2619720" cy="12600"/>
          </a:xfrm>
          <a:prstGeom prst="rect">
            <a:avLst/>
          </a:prstGeom>
          <a:solidFill>
            <a:srgbClr val="d36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450800" y="2690640"/>
            <a:ext cx="2619720" cy="12960"/>
          </a:xfrm>
          <a:prstGeom prst="rect">
            <a:avLst/>
          </a:prstGeom>
          <a:solidFill>
            <a:srgbClr val="d46a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450800" y="2703600"/>
            <a:ext cx="2619720" cy="12600"/>
          </a:xfrm>
          <a:prstGeom prst="rect">
            <a:avLst/>
          </a:prstGeom>
          <a:solidFill>
            <a:srgbClr val="d56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450800" y="2716200"/>
            <a:ext cx="2619720" cy="11160"/>
          </a:xfrm>
          <a:prstGeom prst="rect">
            <a:avLst/>
          </a:prstGeom>
          <a:solidFill>
            <a:srgbClr val="d668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450800" y="2727360"/>
            <a:ext cx="2619720" cy="14400"/>
          </a:xfrm>
          <a:prstGeom prst="rect">
            <a:avLst/>
          </a:prstGeom>
          <a:solidFill>
            <a:srgbClr val="d76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450800" y="2741760"/>
            <a:ext cx="2619720" cy="12600"/>
          </a:xfrm>
          <a:prstGeom prst="rect">
            <a:avLst/>
          </a:prstGeom>
          <a:solidFill>
            <a:srgbClr val="d96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450800" y="2754360"/>
            <a:ext cx="2619720" cy="9360"/>
          </a:xfrm>
          <a:prstGeom prst="rect">
            <a:avLst/>
          </a:prstGeom>
          <a:solidFill>
            <a:srgbClr val="da6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450800" y="2763720"/>
            <a:ext cx="2619720" cy="9720"/>
          </a:xfrm>
          <a:prstGeom prst="rect">
            <a:avLst/>
          </a:prstGeom>
          <a:solidFill>
            <a:srgbClr val="da6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450800" y="2773440"/>
            <a:ext cx="2619720" cy="9360"/>
          </a:xfrm>
          <a:prstGeom prst="rect">
            <a:avLst/>
          </a:prstGeom>
          <a:solidFill>
            <a:srgbClr val="dc6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50800" y="2782800"/>
            <a:ext cx="2619720" cy="12960"/>
          </a:xfrm>
          <a:prstGeom prst="rect">
            <a:avLst/>
          </a:prstGeom>
          <a:solidFill>
            <a:srgbClr val="dc63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450800" y="2795760"/>
            <a:ext cx="2619720" cy="7920"/>
          </a:xfrm>
          <a:prstGeom prst="rect">
            <a:avLst/>
          </a:prstGeom>
          <a:solidFill>
            <a:srgbClr val="dd6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450800" y="2803680"/>
            <a:ext cx="2619720" cy="9360"/>
          </a:xfrm>
          <a:prstGeom prst="rect">
            <a:avLst/>
          </a:prstGeom>
          <a:solidFill>
            <a:srgbClr val="df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450800" y="2813040"/>
            <a:ext cx="2619720" cy="14400"/>
          </a:xfrm>
          <a:prstGeom prst="rect">
            <a:avLst/>
          </a:prstGeom>
          <a:solidFill>
            <a:srgbClr val="df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450800" y="2827440"/>
            <a:ext cx="2619720" cy="9360"/>
          </a:xfrm>
          <a:prstGeom prst="rect">
            <a:avLst/>
          </a:prstGeom>
          <a:solidFill>
            <a:srgbClr val="e05f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450800" y="2836800"/>
            <a:ext cx="2619720" cy="15840"/>
          </a:xfrm>
          <a:prstGeom prst="rect">
            <a:avLst/>
          </a:prstGeom>
          <a:solidFill>
            <a:srgbClr val="e15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450800" y="2852640"/>
            <a:ext cx="2619720" cy="11160"/>
          </a:xfrm>
          <a:prstGeom prst="rect">
            <a:avLst/>
          </a:prstGeom>
          <a:solidFill>
            <a:srgbClr val="e25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450800" y="2863800"/>
            <a:ext cx="2619720" cy="12600"/>
          </a:xfrm>
          <a:prstGeom prst="rect">
            <a:avLst/>
          </a:prstGeom>
          <a:solidFill>
            <a:srgbClr val="e35c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1450800" y="2876400"/>
            <a:ext cx="2619720" cy="9720"/>
          </a:xfrm>
          <a:prstGeom prst="rect">
            <a:avLst/>
          </a:prstGeom>
          <a:solidFill>
            <a:srgbClr val="e45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450800" y="2886120"/>
            <a:ext cx="2619720" cy="14400"/>
          </a:xfrm>
          <a:prstGeom prst="rect">
            <a:avLst/>
          </a:prstGeom>
          <a:solidFill>
            <a:srgbClr val="e55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50800" y="2900520"/>
            <a:ext cx="2619720" cy="10800"/>
          </a:xfrm>
          <a:prstGeom prst="rect">
            <a:avLst/>
          </a:prstGeom>
          <a:solidFill>
            <a:srgbClr val="e65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1450800" y="2911320"/>
            <a:ext cx="2619720" cy="11160"/>
          </a:xfrm>
          <a:prstGeom prst="rect">
            <a:avLst/>
          </a:prstGeom>
          <a:solidFill>
            <a:srgbClr val="e75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1450800" y="2922480"/>
            <a:ext cx="2619720" cy="15840"/>
          </a:xfrm>
          <a:prstGeom prst="rect">
            <a:avLst/>
          </a:prstGeom>
          <a:solidFill>
            <a:srgbClr val="e75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450800" y="2938320"/>
            <a:ext cx="2619720" cy="9720"/>
          </a:xfrm>
          <a:prstGeom prst="rect">
            <a:avLst/>
          </a:prstGeom>
          <a:solidFill>
            <a:srgbClr val="e856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450800" y="2948040"/>
            <a:ext cx="2619720" cy="9360"/>
          </a:xfrm>
          <a:prstGeom prst="rect">
            <a:avLst/>
          </a:prstGeom>
          <a:solidFill>
            <a:srgbClr val="e95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450800" y="2957400"/>
            <a:ext cx="2619720" cy="12960"/>
          </a:xfrm>
          <a:prstGeom prst="rect">
            <a:avLst/>
          </a:prstGeom>
          <a:solidFill>
            <a:srgbClr val="ea5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450800" y="2970360"/>
            <a:ext cx="2619720" cy="9360"/>
          </a:xfrm>
          <a:prstGeom prst="rect">
            <a:avLst/>
          </a:prstGeom>
          <a:solidFill>
            <a:srgbClr val="eb5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1450800" y="2979720"/>
            <a:ext cx="2619720" cy="15840"/>
          </a:xfrm>
          <a:prstGeom prst="rect">
            <a:avLst/>
          </a:prstGeom>
          <a:solidFill>
            <a:srgbClr val="ec5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450800" y="2995560"/>
            <a:ext cx="2619720" cy="11160"/>
          </a:xfrm>
          <a:prstGeom prst="rect">
            <a:avLst/>
          </a:prstGeom>
          <a:solidFill>
            <a:srgbClr val="ed5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1450800" y="3006720"/>
            <a:ext cx="2619720" cy="9360"/>
          </a:xfrm>
          <a:prstGeom prst="rect">
            <a:avLst/>
          </a:prstGeom>
          <a:solidFill>
            <a:srgbClr val="ee5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1450800" y="3016080"/>
            <a:ext cx="2619720" cy="11160"/>
          </a:xfrm>
          <a:prstGeom prst="rect">
            <a:avLst/>
          </a:prstGeom>
          <a:solidFill>
            <a:srgbClr val="ee5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1450800" y="3027240"/>
            <a:ext cx="2619720" cy="14400"/>
          </a:xfrm>
          <a:prstGeom prst="rect">
            <a:avLst/>
          </a:prstGeom>
          <a:solidFill>
            <a:srgbClr val="ee4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450800" y="3041640"/>
            <a:ext cx="2619720" cy="14400"/>
          </a:xfrm>
          <a:prstGeom prst="rect">
            <a:avLst/>
          </a:prstGeom>
          <a:solidFill>
            <a:srgbClr val="ef4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450800" y="3056040"/>
            <a:ext cx="2619720" cy="9360"/>
          </a:xfrm>
          <a:prstGeom prst="rect">
            <a:avLst/>
          </a:prstGeom>
          <a:solidFill>
            <a:srgbClr val="f04d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450800" y="3065400"/>
            <a:ext cx="2619720" cy="14400"/>
          </a:xfrm>
          <a:prstGeom prst="rect">
            <a:avLst/>
          </a:prstGeom>
          <a:solidFill>
            <a:srgbClr val="f04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450800" y="3079800"/>
            <a:ext cx="2619720" cy="11160"/>
          </a:xfrm>
          <a:prstGeom prst="rect">
            <a:avLst/>
          </a:prstGeom>
          <a:solidFill>
            <a:srgbClr val="f14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450800" y="3090960"/>
            <a:ext cx="2619720" cy="11160"/>
          </a:xfrm>
          <a:prstGeom prst="rect">
            <a:avLst/>
          </a:prstGeom>
          <a:solidFill>
            <a:srgbClr val="f24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450800" y="3102120"/>
            <a:ext cx="2619720" cy="9360"/>
          </a:xfrm>
          <a:prstGeom prst="rect">
            <a:avLst/>
          </a:prstGeom>
          <a:solidFill>
            <a:srgbClr val="f349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450800" y="3111480"/>
            <a:ext cx="2619720" cy="11160"/>
          </a:xfrm>
          <a:prstGeom prst="rect">
            <a:avLst/>
          </a:prstGeom>
          <a:solidFill>
            <a:srgbClr val="f34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1450800" y="3122640"/>
            <a:ext cx="2619720" cy="14400"/>
          </a:xfrm>
          <a:prstGeom prst="rect">
            <a:avLst/>
          </a:prstGeom>
          <a:solidFill>
            <a:srgbClr val="f34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450800" y="3137040"/>
            <a:ext cx="2619720" cy="12600"/>
          </a:xfrm>
          <a:prstGeom prst="rect">
            <a:avLst/>
          </a:prstGeom>
          <a:solidFill>
            <a:srgbClr val="f44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450800" y="3149640"/>
            <a:ext cx="2619720" cy="11160"/>
          </a:xfrm>
          <a:prstGeom prst="rect">
            <a:avLst/>
          </a:prstGeom>
          <a:solidFill>
            <a:srgbClr val="f54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1450800" y="3160800"/>
            <a:ext cx="2619720" cy="14040"/>
          </a:xfrm>
          <a:prstGeom prst="rect">
            <a:avLst/>
          </a:prstGeom>
          <a:solidFill>
            <a:srgbClr val="f54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450800" y="3174840"/>
            <a:ext cx="2619720" cy="11160"/>
          </a:xfrm>
          <a:prstGeom prst="rect">
            <a:avLst/>
          </a:prstGeom>
          <a:solidFill>
            <a:srgbClr val="f5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450800" y="3186000"/>
            <a:ext cx="2619720" cy="9720"/>
          </a:xfrm>
          <a:prstGeom prst="rect">
            <a:avLst/>
          </a:prstGeom>
          <a:solidFill>
            <a:srgbClr val="f6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1450800" y="3195720"/>
            <a:ext cx="2619720" cy="11160"/>
          </a:xfrm>
          <a:prstGeom prst="rect">
            <a:avLst/>
          </a:prstGeom>
          <a:solidFill>
            <a:srgbClr val="f74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450800" y="3206880"/>
            <a:ext cx="2619720" cy="15840"/>
          </a:xfrm>
          <a:prstGeom prst="rect">
            <a:avLst/>
          </a:prstGeom>
          <a:solidFill>
            <a:srgbClr val="f743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1450800" y="3222720"/>
            <a:ext cx="2619720" cy="9360"/>
          </a:xfrm>
          <a:prstGeom prst="rect">
            <a:avLst/>
          </a:prstGeom>
          <a:solidFill>
            <a:srgbClr val="f74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450800" y="3232080"/>
            <a:ext cx="2619720" cy="12600"/>
          </a:xfrm>
          <a:prstGeom prst="rect">
            <a:avLst/>
          </a:prstGeom>
          <a:solidFill>
            <a:srgbClr val="f84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1450800" y="3244680"/>
            <a:ext cx="2619720" cy="11160"/>
          </a:xfrm>
          <a:prstGeom prst="rect">
            <a:avLst/>
          </a:prstGeom>
          <a:solidFill>
            <a:srgbClr val="f84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1450800" y="3255840"/>
            <a:ext cx="2619720" cy="14400"/>
          </a:xfrm>
          <a:prstGeom prst="rect">
            <a:avLst/>
          </a:prstGeom>
          <a:solidFill>
            <a:srgbClr val="f84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450800" y="3270240"/>
            <a:ext cx="2619720" cy="9360"/>
          </a:xfrm>
          <a:prstGeom prst="rect">
            <a:avLst/>
          </a:prstGeom>
          <a:solidFill>
            <a:srgbClr val="f93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450800" y="3279600"/>
            <a:ext cx="2619720" cy="14400"/>
          </a:xfrm>
          <a:prstGeom prst="rect">
            <a:avLst/>
          </a:prstGeom>
          <a:solidFill>
            <a:srgbClr val="f93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450800" y="3294000"/>
            <a:ext cx="2619720" cy="14400"/>
          </a:xfrm>
          <a:prstGeom prst="rect">
            <a:avLst/>
          </a:prstGeom>
          <a:solidFill>
            <a:srgbClr val="fa3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1450800" y="3308400"/>
            <a:ext cx="2619720" cy="9360"/>
          </a:xfrm>
          <a:prstGeom prst="rect">
            <a:avLst/>
          </a:prstGeom>
          <a:solidFill>
            <a:srgbClr val="fa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450800" y="3317760"/>
            <a:ext cx="2619720" cy="9720"/>
          </a:xfrm>
          <a:prstGeom prst="rect">
            <a:avLst/>
          </a:prstGeom>
          <a:solidFill>
            <a:srgbClr val="fa3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450800" y="3327480"/>
            <a:ext cx="2619720" cy="15840"/>
          </a:xfrm>
          <a:prstGeom prst="rect">
            <a:avLst/>
          </a:prstGeom>
          <a:solidFill>
            <a:srgbClr val="fb3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450800" y="3343320"/>
            <a:ext cx="2619720" cy="11160"/>
          </a:xfrm>
          <a:prstGeom prst="rect">
            <a:avLst/>
          </a:prstGeom>
          <a:solidFill>
            <a:srgbClr val="fb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1450800" y="3354480"/>
            <a:ext cx="2619720" cy="11160"/>
          </a:xfrm>
          <a:prstGeom prst="rect">
            <a:avLst/>
          </a:prstGeom>
          <a:solidFill>
            <a:srgbClr val="fc3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450800" y="3365640"/>
            <a:ext cx="2619720" cy="9360"/>
          </a:xfrm>
          <a:prstGeom prst="rect">
            <a:avLst/>
          </a:prstGeom>
          <a:solidFill>
            <a:srgbClr val="fc3a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450800" y="3375000"/>
            <a:ext cx="2619720" cy="14400"/>
          </a:xfrm>
          <a:prstGeom prst="rect">
            <a:avLst/>
          </a:prstGeom>
          <a:solidFill>
            <a:srgbClr val="fc3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450800" y="3389400"/>
            <a:ext cx="2619720" cy="12600"/>
          </a:xfrm>
          <a:prstGeom prst="rect">
            <a:avLst/>
          </a:prstGeom>
          <a:solidFill>
            <a:srgbClr val="fc3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450800" y="3402000"/>
            <a:ext cx="2619720" cy="11160"/>
          </a:xfrm>
          <a:prstGeom prst="rect">
            <a:avLst/>
          </a:prstGeom>
          <a:solidFill>
            <a:srgbClr val="fd3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450800" y="3413160"/>
            <a:ext cx="2619720" cy="15840"/>
          </a:xfrm>
          <a:prstGeom prst="rect">
            <a:avLst/>
          </a:prstGeom>
          <a:solidFill>
            <a:srgbClr val="fd3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450800" y="3429000"/>
            <a:ext cx="2619720" cy="9360"/>
          </a:xfrm>
          <a:prstGeom prst="rect">
            <a:avLst/>
          </a:prstGeom>
          <a:solidFill>
            <a:srgbClr val="fd3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450800" y="3438360"/>
            <a:ext cx="2619720" cy="9720"/>
          </a:xfrm>
          <a:prstGeom prst="rect">
            <a:avLst/>
          </a:prstGeom>
          <a:solidFill>
            <a:srgbClr val="fd3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450800" y="3448080"/>
            <a:ext cx="2619720" cy="11160"/>
          </a:xfrm>
          <a:prstGeom prst="rect">
            <a:avLst/>
          </a:prstGeom>
          <a:solidFill>
            <a:srgbClr val="fd3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450800" y="3459240"/>
            <a:ext cx="2619720" cy="7920"/>
          </a:xfrm>
          <a:prstGeom prst="rect">
            <a:avLst/>
          </a:prstGeom>
          <a:solidFill>
            <a:srgbClr val="fd3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450800" y="3467160"/>
            <a:ext cx="2619720" cy="7920"/>
          </a:xfrm>
          <a:prstGeom prst="rect">
            <a:avLst/>
          </a:prstGeom>
          <a:solidFill>
            <a:srgbClr val="fe3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450800" y="3475080"/>
            <a:ext cx="2619720" cy="11160"/>
          </a:xfrm>
          <a:prstGeom prst="rect">
            <a:avLst/>
          </a:prstGeom>
          <a:solidFill>
            <a:srgbClr val="fe3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450800" y="3486240"/>
            <a:ext cx="2619720" cy="7920"/>
          </a:xfrm>
          <a:prstGeom prst="rect">
            <a:avLst/>
          </a:prstGeom>
          <a:solidFill>
            <a:srgbClr val="fe3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450800" y="3494160"/>
            <a:ext cx="2619720" cy="7920"/>
          </a:xfrm>
          <a:prstGeom prst="rect">
            <a:avLst/>
          </a:prstGeom>
          <a:solidFill>
            <a:srgbClr val="fe36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450800" y="3502080"/>
            <a:ext cx="2619720" cy="9360"/>
          </a:xfrm>
          <a:prstGeom prst="rect">
            <a:avLst/>
          </a:prstGeom>
          <a:solidFill>
            <a:srgbClr val="fe35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450800" y="3511440"/>
            <a:ext cx="2619720" cy="11160"/>
          </a:xfrm>
          <a:prstGeom prst="rect">
            <a:avLst/>
          </a:prstGeom>
          <a:solidFill>
            <a:srgbClr val="fe3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450800" y="3522600"/>
            <a:ext cx="2619720" cy="6480"/>
          </a:xfrm>
          <a:prstGeom prst="rect">
            <a:avLst/>
          </a:prstGeom>
          <a:solidFill>
            <a:srgbClr val="fe3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450800" y="3529080"/>
            <a:ext cx="2619720" cy="7920"/>
          </a:xfrm>
          <a:prstGeom prst="rect">
            <a:avLst/>
          </a:prstGeom>
          <a:solidFill>
            <a:srgbClr val="ff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450800" y="3537000"/>
            <a:ext cx="2619720" cy="4680"/>
          </a:xfrm>
          <a:prstGeom prst="rect">
            <a:avLst/>
          </a:prstGeom>
          <a:solidFill>
            <a:srgbClr val="ff3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1450800" y="3541680"/>
            <a:ext cx="2619720" cy="6480"/>
          </a:xfrm>
          <a:prstGeom prst="rect">
            <a:avLst/>
          </a:prstGeom>
          <a:solidFill>
            <a:srgbClr val="ff34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450800" y="3548160"/>
            <a:ext cx="2619720" cy="4680"/>
          </a:xfrm>
          <a:prstGeom prst="rect">
            <a:avLst/>
          </a:prstGeom>
          <a:solidFill>
            <a:srgbClr val="ff33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450800" y="3552840"/>
            <a:ext cx="2619720" cy="1440"/>
          </a:xfrm>
          <a:prstGeom prst="rect">
            <a:avLst/>
          </a:prstGeom>
          <a:solidFill>
            <a:srgbClr val="ff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450800" y="3554280"/>
            <a:ext cx="2619720" cy="1800"/>
          </a:xfrm>
          <a:prstGeom prst="rect">
            <a:avLst/>
          </a:prstGeom>
          <a:solidFill>
            <a:srgbClr val="ff33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450800" y="3556080"/>
            <a:ext cx="2619720" cy="1440"/>
          </a:xfrm>
          <a:prstGeom prst="rect">
            <a:avLst/>
          </a:prstGeom>
          <a:solidFill>
            <a:srgbClr val="ff3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450800" y="3557520"/>
            <a:ext cx="2619720" cy="3240"/>
          </a:xfrm>
          <a:prstGeom prst="rect">
            <a:avLst/>
          </a:prstGeom>
          <a:solidFill>
            <a:srgbClr val="ff3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450800" y="3560760"/>
            <a:ext cx="2619720" cy="1440"/>
          </a:xfrm>
          <a:prstGeom prst="rect">
            <a:avLst/>
          </a:prstGeom>
          <a:solidFill>
            <a:srgbClr val="ff3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450800" y="3562200"/>
            <a:ext cx="2619720" cy="1800"/>
          </a:xfrm>
          <a:prstGeom prst="rect">
            <a:avLst/>
          </a:prstGeom>
          <a:solidFill>
            <a:srgbClr val="ff3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450800" y="3564000"/>
            <a:ext cx="2619720" cy="3240"/>
          </a:xfrm>
          <a:prstGeom prst="rect">
            <a:avLst/>
          </a:prstGeom>
          <a:solidFill>
            <a:srgbClr val="ff3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450800" y="3567240"/>
            <a:ext cx="2619720" cy="1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450800" y="3568680"/>
            <a:ext cx="2619720" cy="1440"/>
          </a:xfrm>
          <a:prstGeom prst="rect">
            <a:avLst/>
          </a:prstGeom>
          <a:solidFill>
            <a:srgbClr val="ff3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450800" y="3570120"/>
            <a:ext cx="2619720" cy="1800"/>
          </a:xfrm>
          <a:prstGeom prst="rect">
            <a:avLst/>
          </a:prstGeom>
          <a:solidFill>
            <a:srgbClr val="ff3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450800" y="3571920"/>
            <a:ext cx="2619720" cy="4680"/>
          </a:xfrm>
          <a:prstGeom prst="rect">
            <a:avLst/>
          </a:prstGeom>
          <a:solidFill>
            <a:srgbClr val="ff3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450800" y="3576600"/>
            <a:ext cx="2619720" cy="1800"/>
          </a:xfrm>
          <a:prstGeom prst="rect">
            <a:avLst/>
          </a:prstGeom>
          <a:solidFill>
            <a:srgbClr val="ff3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450800" y="3578400"/>
            <a:ext cx="2619720" cy="1440"/>
          </a:xfrm>
          <a:prstGeom prst="rect">
            <a:avLst/>
          </a:prstGeom>
          <a:solidFill>
            <a:srgbClr val="ff3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450800" y="3579840"/>
            <a:ext cx="2619720" cy="1440"/>
          </a:xfrm>
          <a:prstGeom prst="rect">
            <a:avLst/>
          </a:prstGeom>
          <a:solidFill>
            <a:srgbClr val="ff33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450800" y="3581280"/>
            <a:ext cx="2619720" cy="3240"/>
          </a:xfrm>
          <a:prstGeom prst="rect">
            <a:avLst/>
          </a:prstGeom>
          <a:solidFill>
            <a:srgbClr val="ff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450800" y="3584520"/>
            <a:ext cx="2619720" cy="6480"/>
          </a:xfrm>
          <a:prstGeom prst="rect">
            <a:avLst/>
          </a:prstGeom>
          <a:solidFill>
            <a:srgbClr val="ff33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450800" y="3591000"/>
            <a:ext cx="2619720" cy="4680"/>
          </a:xfrm>
          <a:prstGeom prst="rect">
            <a:avLst/>
          </a:prstGeom>
          <a:solidFill>
            <a:srgbClr val="ff3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450800" y="3595680"/>
            <a:ext cx="2619720" cy="4680"/>
          </a:xfrm>
          <a:prstGeom prst="rect">
            <a:avLst/>
          </a:prstGeom>
          <a:solidFill>
            <a:srgbClr val="ff3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50800" y="3600360"/>
            <a:ext cx="2619720" cy="7920"/>
          </a:xfrm>
          <a:prstGeom prst="rect">
            <a:avLst/>
          </a:prstGeom>
          <a:solidFill>
            <a:srgbClr val="ff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450800" y="3608280"/>
            <a:ext cx="2619720" cy="9720"/>
          </a:xfrm>
          <a:prstGeom prst="rect">
            <a:avLst/>
          </a:prstGeom>
          <a:solidFill>
            <a:srgbClr val="fe3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450800" y="3618000"/>
            <a:ext cx="2619720" cy="9360"/>
          </a:xfrm>
          <a:prstGeom prst="rect">
            <a:avLst/>
          </a:prstGeom>
          <a:solidFill>
            <a:srgbClr val="fe3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450800" y="3627360"/>
            <a:ext cx="2619720" cy="7920"/>
          </a:xfrm>
          <a:prstGeom prst="rect">
            <a:avLst/>
          </a:prstGeom>
          <a:solidFill>
            <a:srgbClr val="fe35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450800" y="3635280"/>
            <a:ext cx="2619720" cy="9720"/>
          </a:xfrm>
          <a:prstGeom prst="rect">
            <a:avLst/>
          </a:prstGeom>
          <a:solidFill>
            <a:srgbClr val="fe35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450800" y="3645000"/>
            <a:ext cx="2619720" cy="9360"/>
          </a:xfrm>
          <a:prstGeom prst="rect">
            <a:avLst/>
          </a:prstGeom>
          <a:solidFill>
            <a:srgbClr val="fe3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450800" y="3654360"/>
            <a:ext cx="2619720" cy="7920"/>
          </a:xfrm>
          <a:prstGeom prst="rect">
            <a:avLst/>
          </a:prstGeom>
          <a:solidFill>
            <a:srgbClr val="fe3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450800" y="3662280"/>
            <a:ext cx="2619720" cy="9720"/>
          </a:xfrm>
          <a:prstGeom prst="rect">
            <a:avLst/>
          </a:prstGeom>
          <a:solidFill>
            <a:srgbClr val="fe3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450800" y="3672000"/>
            <a:ext cx="2619720" cy="9360"/>
          </a:xfrm>
          <a:prstGeom prst="rect">
            <a:avLst/>
          </a:prstGeom>
          <a:solidFill>
            <a:srgbClr val="fd3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450800" y="3681360"/>
            <a:ext cx="2619720" cy="9720"/>
          </a:xfrm>
          <a:prstGeom prst="rect">
            <a:avLst/>
          </a:prstGeom>
          <a:solidFill>
            <a:srgbClr val="fd3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450800" y="3691080"/>
            <a:ext cx="2619720" cy="10800"/>
          </a:xfrm>
          <a:prstGeom prst="rect">
            <a:avLst/>
          </a:prstGeom>
          <a:solidFill>
            <a:srgbClr val="fd3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1450800" y="3701880"/>
            <a:ext cx="2619720" cy="11160"/>
          </a:xfrm>
          <a:prstGeom prst="rect">
            <a:avLst/>
          </a:prstGeom>
          <a:solidFill>
            <a:srgbClr val="fd3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450800" y="3713040"/>
            <a:ext cx="2619720" cy="15840"/>
          </a:xfrm>
          <a:prstGeom prst="rect">
            <a:avLst/>
          </a:prstGeom>
          <a:solidFill>
            <a:srgbClr val="fd3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450800" y="3728880"/>
            <a:ext cx="2619720" cy="9720"/>
          </a:xfrm>
          <a:prstGeom prst="rect">
            <a:avLst/>
          </a:prstGeom>
          <a:solidFill>
            <a:srgbClr val="fd3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1450800" y="3738600"/>
            <a:ext cx="2619720" cy="14400"/>
          </a:xfrm>
          <a:prstGeom prst="rect">
            <a:avLst/>
          </a:prstGeom>
          <a:solidFill>
            <a:srgbClr val="fc3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1450800" y="3753000"/>
            <a:ext cx="2619720" cy="12600"/>
          </a:xfrm>
          <a:prstGeom prst="rect">
            <a:avLst/>
          </a:prstGeom>
          <a:solidFill>
            <a:srgbClr val="fc3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1450800" y="3765600"/>
            <a:ext cx="2619720" cy="9360"/>
          </a:xfrm>
          <a:prstGeom prst="rect">
            <a:avLst/>
          </a:prstGeom>
          <a:solidFill>
            <a:srgbClr val="fc3a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450800" y="3774960"/>
            <a:ext cx="2619720" cy="9720"/>
          </a:xfrm>
          <a:prstGeom prst="rect">
            <a:avLst/>
          </a:prstGeom>
          <a:solidFill>
            <a:srgbClr val="fc3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450800" y="3784680"/>
            <a:ext cx="2619720" cy="15840"/>
          </a:xfrm>
          <a:prstGeom prst="rect">
            <a:avLst/>
          </a:prstGeom>
          <a:solidFill>
            <a:srgbClr val="fb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450800" y="3800520"/>
            <a:ext cx="2619720" cy="11160"/>
          </a:xfrm>
          <a:prstGeom prst="rect">
            <a:avLst/>
          </a:prstGeom>
          <a:solidFill>
            <a:srgbClr val="fb3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1450800" y="3811680"/>
            <a:ext cx="2619720" cy="11160"/>
          </a:xfrm>
          <a:prstGeom prst="rect">
            <a:avLst/>
          </a:prstGeom>
          <a:solidFill>
            <a:srgbClr val="fa3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1450800" y="3822840"/>
            <a:ext cx="2619720" cy="9360"/>
          </a:xfrm>
          <a:prstGeom prst="rect">
            <a:avLst/>
          </a:prstGeom>
          <a:solidFill>
            <a:srgbClr val="fa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450800" y="3832200"/>
            <a:ext cx="2619720" cy="14400"/>
          </a:xfrm>
          <a:prstGeom prst="rect">
            <a:avLst/>
          </a:prstGeom>
          <a:solidFill>
            <a:srgbClr val="fa3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50800" y="3846600"/>
            <a:ext cx="2619720" cy="12600"/>
          </a:xfrm>
          <a:prstGeom prst="rect">
            <a:avLst/>
          </a:prstGeom>
          <a:solidFill>
            <a:srgbClr val="f93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450800" y="3859200"/>
            <a:ext cx="2619720" cy="11160"/>
          </a:xfrm>
          <a:prstGeom prst="rect">
            <a:avLst/>
          </a:prstGeom>
          <a:solidFill>
            <a:srgbClr val="f93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450800" y="3870360"/>
            <a:ext cx="2619720" cy="15840"/>
          </a:xfrm>
          <a:prstGeom prst="rect">
            <a:avLst/>
          </a:prstGeom>
          <a:solidFill>
            <a:srgbClr val="f93f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450800" y="3886200"/>
            <a:ext cx="2619720" cy="9360"/>
          </a:xfrm>
          <a:prstGeom prst="rect">
            <a:avLst/>
          </a:prstGeom>
          <a:solidFill>
            <a:srgbClr val="f84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450800" y="3895560"/>
            <a:ext cx="2619720" cy="11160"/>
          </a:xfrm>
          <a:prstGeom prst="rect">
            <a:avLst/>
          </a:prstGeom>
          <a:solidFill>
            <a:srgbClr val="f84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450800" y="3906720"/>
            <a:ext cx="2619720" cy="12960"/>
          </a:xfrm>
          <a:prstGeom prst="rect">
            <a:avLst/>
          </a:prstGeom>
          <a:solidFill>
            <a:srgbClr val="f74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450800" y="3919680"/>
            <a:ext cx="2619720" cy="14040"/>
          </a:xfrm>
          <a:prstGeom prst="rect">
            <a:avLst/>
          </a:prstGeom>
          <a:solidFill>
            <a:srgbClr val="f74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450800" y="3933720"/>
            <a:ext cx="2619720" cy="11160"/>
          </a:xfrm>
          <a:prstGeom prst="rect">
            <a:avLst/>
          </a:prstGeom>
          <a:solidFill>
            <a:srgbClr val="f74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450800" y="3944880"/>
            <a:ext cx="2619720" cy="9720"/>
          </a:xfrm>
          <a:prstGeom prst="rect">
            <a:avLst/>
          </a:prstGeom>
          <a:solidFill>
            <a:srgbClr val="f6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450800" y="3954600"/>
            <a:ext cx="2619720" cy="10800"/>
          </a:xfrm>
          <a:prstGeom prst="rect">
            <a:avLst/>
          </a:prstGeom>
          <a:solidFill>
            <a:srgbClr val="f5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450800" y="3965400"/>
            <a:ext cx="2619720" cy="16200"/>
          </a:xfrm>
          <a:prstGeom prst="rect">
            <a:avLst/>
          </a:prstGeom>
          <a:solidFill>
            <a:srgbClr val="f545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50800" y="3981600"/>
            <a:ext cx="2619720" cy="9360"/>
          </a:xfrm>
          <a:prstGeom prst="rect">
            <a:avLst/>
          </a:prstGeom>
          <a:solidFill>
            <a:srgbClr val="f54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450800" y="3990960"/>
            <a:ext cx="2619720" cy="15840"/>
          </a:xfrm>
          <a:prstGeom prst="rect">
            <a:avLst/>
          </a:prstGeom>
          <a:solidFill>
            <a:srgbClr val="f44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450800" y="4006800"/>
            <a:ext cx="2619720" cy="11160"/>
          </a:xfrm>
          <a:prstGeom prst="rect">
            <a:avLst/>
          </a:prstGeom>
          <a:solidFill>
            <a:srgbClr val="f34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450800" y="4017960"/>
            <a:ext cx="2619720" cy="9360"/>
          </a:xfrm>
          <a:prstGeom prst="rect">
            <a:avLst/>
          </a:prstGeom>
          <a:solidFill>
            <a:srgbClr val="f34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450800" y="4027320"/>
            <a:ext cx="2619720" cy="11160"/>
          </a:xfrm>
          <a:prstGeom prst="rect">
            <a:avLst/>
          </a:prstGeom>
          <a:solidFill>
            <a:srgbClr val="f349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50800" y="4038480"/>
            <a:ext cx="2619720" cy="11160"/>
          </a:xfrm>
          <a:prstGeom prst="rect">
            <a:avLst/>
          </a:prstGeom>
          <a:solidFill>
            <a:srgbClr val="f24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450800" y="4049640"/>
            <a:ext cx="2619720" cy="9720"/>
          </a:xfrm>
          <a:prstGeom prst="rect">
            <a:avLst/>
          </a:prstGeom>
          <a:solidFill>
            <a:srgbClr val="f14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450800" y="4059360"/>
            <a:ext cx="2619720" cy="15840"/>
          </a:xfrm>
          <a:prstGeom prst="rect">
            <a:avLst/>
          </a:prstGeom>
          <a:solidFill>
            <a:srgbClr val="f14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450800" y="4075200"/>
            <a:ext cx="2619720" cy="9360"/>
          </a:xfrm>
          <a:prstGeom prst="rect">
            <a:avLst/>
          </a:prstGeom>
          <a:solidFill>
            <a:srgbClr val="f04d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450800" y="4084560"/>
            <a:ext cx="2619720" cy="15840"/>
          </a:xfrm>
          <a:prstGeom prst="rect">
            <a:avLst/>
          </a:prstGeom>
          <a:solidFill>
            <a:srgbClr val="ef4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450800" y="4100400"/>
            <a:ext cx="2619720" cy="11160"/>
          </a:xfrm>
          <a:prstGeom prst="rect">
            <a:avLst/>
          </a:prstGeom>
          <a:solidFill>
            <a:srgbClr val="ee4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450800" y="4111560"/>
            <a:ext cx="2619720" cy="11160"/>
          </a:xfrm>
          <a:prstGeom prst="rect">
            <a:avLst/>
          </a:prstGeom>
          <a:solidFill>
            <a:srgbClr val="ee5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450800" y="4122720"/>
            <a:ext cx="2619720" cy="11160"/>
          </a:xfrm>
          <a:prstGeom prst="rect">
            <a:avLst/>
          </a:prstGeom>
          <a:solidFill>
            <a:srgbClr val="ee5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450800" y="4133880"/>
            <a:ext cx="2619720" cy="14400"/>
          </a:xfrm>
          <a:prstGeom prst="rect">
            <a:avLst/>
          </a:prstGeom>
          <a:solidFill>
            <a:srgbClr val="ed5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450800" y="4148280"/>
            <a:ext cx="2619720" cy="10800"/>
          </a:xfrm>
          <a:prstGeom prst="rect">
            <a:avLst/>
          </a:prstGeom>
          <a:solidFill>
            <a:srgbClr val="ec5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450800" y="4159080"/>
            <a:ext cx="2619720" cy="11160"/>
          </a:xfrm>
          <a:prstGeom prst="rect">
            <a:avLst/>
          </a:prstGeom>
          <a:solidFill>
            <a:srgbClr val="ec5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1450800" y="4170240"/>
            <a:ext cx="2619720" cy="7920"/>
          </a:xfrm>
          <a:prstGeom prst="rect">
            <a:avLst/>
          </a:prstGeom>
          <a:solidFill>
            <a:srgbClr val="eb5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1450800" y="4178160"/>
            <a:ext cx="2619720" cy="7920"/>
          </a:xfrm>
          <a:prstGeom prst="rect">
            <a:avLst/>
          </a:prstGeom>
          <a:solidFill>
            <a:srgbClr val="e955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450800" y="4186080"/>
            <a:ext cx="2619720" cy="11160"/>
          </a:xfrm>
          <a:prstGeom prst="rect">
            <a:avLst/>
          </a:prstGeom>
          <a:solidFill>
            <a:srgbClr val="e95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1450800" y="4197240"/>
            <a:ext cx="2619720" cy="12960"/>
          </a:xfrm>
          <a:prstGeom prst="rect">
            <a:avLst/>
          </a:prstGeom>
          <a:solidFill>
            <a:srgbClr val="e85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1450800" y="4210200"/>
            <a:ext cx="2619720" cy="12600"/>
          </a:xfrm>
          <a:prstGeom prst="rect">
            <a:avLst/>
          </a:prstGeom>
          <a:solidFill>
            <a:srgbClr val="e75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450800" y="4222800"/>
            <a:ext cx="2619720" cy="11160"/>
          </a:xfrm>
          <a:prstGeom prst="rect">
            <a:avLst/>
          </a:prstGeom>
          <a:solidFill>
            <a:srgbClr val="e658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1450800" y="4233960"/>
            <a:ext cx="2619720" cy="15840"/>
          </a:xfrm>
          <a:prstGeom prst="rect">
            <a:avLst/>
          </a:prstGeom>
          <a:solidFill>
            <a:srgbClr val="e659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450800" y="4249800"/>
            <a:ext cx="2619720" cy="9360"/>
          </a:xfrm>
          <a:prstGeom prst="rect">
            <a:avLst/>
          </a:prstGeom>
          <a:solidFill>
            <a:srgbClr val="e55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1450800" y="4259160"/>
            <a:ext cx="2619720" cy="9720"/>
          </a:xfrm>
          <a:prstGeom prst="rect">
            <a:avLst/>
          </a:prstGeom>
          <a:solidFill>
            <a:srgbClr val="e4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450800" y="4268880"/>
            <a:ext cx="2619720" cy="14040"/>
          </a:xfrm>
          <a:prstGeom prst="rect">
            <a:avLst/>
          </a:prstGeom>
          <a:solidFill>
            <a:srgbClr val="e35c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450800" y="4282920"/>
            <a:ext cx="2619720" cy="12960"/>
          </a:xfrm>
          <a:prstGeom prst="rect">
            <a:avLst/>
          </a:prstGeom>
          <a:solidFill>
            <a:srgbClr val="e25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1450800" y="4295880"/>
            <a:ext cx="2619720" cy="11160"/>
          </a:xfrm>
          <a:prstGeom prst="rect">
            <a:avLst/>
          </a:prstGeom>
          <a:solidFill>
            <a:srgbClr val="e15e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450800" y="4307040"/>
            <a:ext cx="2619720" cy="14040"/>
          </a:xfrm>
          <a:prstGeom prst="rect">
            <a:avLst/>
          </a:prstGeom>
          <a:solidFill>
            <a:srgbClr val="e05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450800" y="4321080"/>
            <a:ext cx="2619720" cy="11160"/>
          </a:xfrm>
          <a:prstGeom prst="rect">
            <a:avLst/>
          </a:prstGeom>
          <a:solidFill>
            <a:srgbClr val="df6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450800" y="4332240"/>
            <a:ext cx="2619720" cy="14400"/>
          </a:xfrm>
          <a:prstGeom prst="rect">
            <a:avLst/>
          </a:prstGeom>
          <a:solidFill>
            <a:srgbClr val="de61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450800" y="4346640"/>
            <a:ext cx="2619720" cy="12600"/>
          </a:xfrm>
          <a:prstGeom prst="rect">
            <a:avLst/>
          </a:prstGeom>
          <a:solidFill>
            <a:srgbClr val="dd6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450800" y="4359240"/>
            <a:ext cx="2619720" cy="7920"/>
          </a:xfrm>
          <a:prstGeom prst="rect">
            <a:avLst/>
          </a:prstGeom>
          <a:solidFill>
            <a:srgbClr val="dc6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450800" y="4367160"/>
            <a:ext cx="2619720" cy="9720"/>
          </a:xfrm>
          <a:prstGeom prst="rect">
            <a:avLst/>
          </a:prstGeom>
          <a:solidFill>
            <a:srgbClr val="da6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450800" y="4376880"/>
            <a:ext cx="2619720" cy="7920"/>
          </a:xfrm>
          <a:prstGeom prst="rect">
            <a:avLst/>
          </a:prstGeom>
          <a:solidFill>
            <a:srgbClr val="da64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450800" y="4384800"/>
            <a:ext cx="2619720" cy="7920"/>
          </a:xfrm>
          <a:prstGeom prst="rect">
            <a:avLst/>
          </a:prstGeom>
          <a:solidFill>
            <a:srgbClr val="d96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450800" y="4392720"/>
            <a:ext cx="2619720" cy="14040"/>
          </a:xfrm>
          <a:prstGeom prst="rect">
            <a:avLst/>
          </a:prstGeom>
          <a:solidFill>
            <a:srgbClr val="d86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450800" y="4406760"/>
            <a:ext cx="2619720" cy="11160"/>
          </a:xfrm>
          <a:prstGeom prst="rect">
            <a:avLst/>
          </a:prstGeom>
          <a:solidFill>
            <a:srgbClr val="d76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450800" y="4417920"/>
            <a:ext cx="2619720" cy="12960"/>
          </a:xfrm>
          <a:prstGeom prst="rect">
            <a:avLst/>
          </a:prstGeom>
          <a:solidFill>
            <a:srgbClr val="d66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450800" y="4430880"/>
            <a:ext cx="2619720" cy="14040"/>
          </a:xfrm>
          <a:prstGeom prst="rect">
            <a:avLst/>
          </a:prstGeom>
          <a:solidFill>
            <a:srgbClr val="d46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450800" y="4444920"/>
            <a:ext cx="2619720" cy="11160"/>
          </a:xfrm>
          <a:prstGeom prst="rect">
            <a:avLst/>
          </a:prstGeom>
          <a:solidFill>
            <a:srgbClr val="d36a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450800" y="4456080"/>
            <a:ext cx="2619720" cy="15840"/>
          </a:xfrm>
          <a:prstGeom prst="rect">
            <a:avLst/>
          </a:prstGeom>
          <a:solidFill>
            <a:srgbClr val="d26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450800" y="4471920"/>
            <a:ext cx="2619720" cy="14400"/>
          </a:xfrm>
          <a:prstGeom prst="rect">
            <a:avLst/>
          </a:prstGeom>
          <a:solidFill>
            <a:srgbClr val="d06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450800" y="4486320"/>
            <a:ext cx="2619720" cy="11160"/>
          </a:xfrm>
          <a:prstGeom prst="rect">
            <a:avLst/>
          </a:prstGeom>
          <a:solidFill>
            <a:srgbClr val="cf6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450800" y="4497480"/>
            <a:ext cx="2619720" cy="12600"/>
          </a:xfrm>
          <a:prstGeom prst="rect">
            <a:avLst/>
          </a:prstGeom>
          <a:solidFill>
            <a:srgbClr val="ce6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450800" y="4510080"/>
            <a:ext cx="2619720" cy="7920"/>
          </a:xfrm>
          <a:prstGeom prst="rect">
            <a:avLst/>
          </a:prstGeom>
          <a:solidFill>
            <a:srgbClr val="cd6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450800" y="4518000"/>
            <a:ext cx="2619720" cy="15840"/>
          </a:xfrm>
          <a:prstGeom prst="rect">
            <a:avLst/>
          </a:prstGeom>
          <a:solidFill>
            <a:srgbClr val="cb6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450800" y="4533840"/>
            <a:ext cx="2619720" cy="7920"/>
          </a:xfrm>
          <a:prstGeom prst="rect">
            <a:avLst/>
          </a:prstGeom>
          <a:solidFill>
            <a:srgbClr val="ca7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450800" y="4541760"/>
            <a:ext cx="2619720" cy="7920"/>
          </a:xfrm>
          <a:prstGeom prst="rect">
            <a:avLst/>
          </a:prstGeom>
          <a:solidFill>
            <a:srgbClr val="c97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450800" y="4549680"/>
            <a:ext cx="2619720" cy="15840"/>
          </a:xfrm>
          <a:prstGeom prst="rect">
            <a:avLst/>
          </a:prstGeom>
          <a:solidFill>
            <a:srgbClr val="c87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450800" y="4565520"/>
            <a:ext cx="2619720" cy="15840"/>
          </a:xfrm>
          <a:prstGeom prst="rect">
            <a:avLst/>
          </a:prstGeom>
          <a:solidFill>
            <a:srgbClr val="c6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450800" y="4581360"/>
            <a:ext cx="2619720" cy="17640"/>
          </a:xfrm>
          <a:prstGeom prst="rect">
            <a:avLst/>
          </a:prstGeom>
          <a:solidFill>
            <a:srgbClr val="c474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450800" y="4599000"/>
            <a:ext cx="2619720" cy="12600"/>
          </a:xfrm>
          <a:prstGeom prst="rect">
            <a:avLst/>
          </a:prstGeom>
          <a:solidFill>
            <a:srgbClr val="c27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450800" y="4611600"/>
            <a:ext cx="2619720" cy="12960"/>
          </a:xfrm>
          <a:prstGeom prst="rect">
            <a:avLst/>
          </a:prstGeom>
          <a:solidFill>
            <a:srgbClr val="c1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450800" y="4624560"/>
            <a:ext cx="2619720" cy="12600"/>
          </a:xfrm>
          <a:prstGeom prst="rect">
            <a:avLst/>
          </a:prstGeom>
          <a:solidFill>
            <a:srgbClr val="c07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450800" y="4637160"/>
            <a:ext cx="2619720" cy="17280"/>
          </a:xfrm>
          <a:prstGeom prst="rect">
            <a:avLst/>
          </a:prstGeom>
          <a:solidFill>
            <a:srgbClr val="be7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450800" y="4654440"/>
            <a:ext cx="2619720" cy="14400"/>
          </a:xfrm>
          <a:prstGeom prst="rect">
            <a:avLst/>
          </a:prstGeom>
          <a:solidFill>
            <a:srgbClr val="bc7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450800" y="4668840"/>
            <a:ext cx="2619720" cy="15840"/>
          </a:xfrm>
          <a:prstGeom prst="rect">
            <a:avLst/>
          </a:prstGeom>
          <a:solidFill>
            <a:srgbClr val="ba7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450800" y="4684680"/>
            <a:ext cx="2619720" cy="15840"/>
          </a:xfrm>
          <a:prstGeom prst="rect">
            <a:avLst/>
          </a:prstGeom>
          <a:solidFill>
            <a:srgbClr val="b87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450800" y="4700520"/>
            <a:ext cx="2619720" cy="15840"/>
          </a:xfrm>
          <a:prstGeom prst="rect">
            <a:avLst/>
          </a:prstGeom>
          <a:solidFill>
            <a:srgbClr val="b67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450800" y="4716360"/>
            <a:ext cx="2619720" cy="15840"/>
          </a:xfrm>
          <a:prstGeom prst="rect">
            <a:avLst/>
          </a:prstGeom>
          <a:solidFill>
            <a:srgbClr val="b47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450800" y="4732200"/>
            <a:ext cx="2619720" cy="15840"/>
          </a:xfrm>
          <a:prstGeom prst="rect">
            <a:avLst/>
          </a:prstGeom>
          <a:solidFill>
            <a:srgbClr val="b27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450800" y="4748040"/>
            <a:ext cx="2619720" cy="14400"/>
          </a:xfrm>
          <a:prstGeom prst="rect">
            <a:avLst/>
          </a:prstGeom>
          <a:solidFill>
            <a:srgbClr val="b08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450800" y="4762440"/>
            <a:ext cx="2619720" cy="12600"/>
          </a:xfrm>
          <a:prstGeom prst="rect">
            <a:avLst/>
          </a:prstGeom>
          <a:solidFill>
            <a:srgbClr val="af8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450800" y="4775040"/>
            <a:ext cx="2619720" cy="12960"/>
          </a:xfrm>
          <a:prstGeom prst="rect">
            <a:avLst/>
          </a:prstGeom>
          <a:solidFill>
            <a:srgbClr val="ad8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450800" y="4788000"/>
            <a:ext cx="2619720" cy="15840"/>
          </a:xfrm>
          <a:prstGeom prst="rect">
            <a:avLst/>
          </a:prstGeom>
          <a:solidFill>
            <a:srgbClr val="ac82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450800" y="4803840"/>
            <a:ext cx="2619720" cy="14400"/>
          </a:xfrm>
          <a:prstGeom prst="rect">
            <a:avLst/>
          </a:prstGeom>
          <a:solidFill>
            <a:srgbClr val="aa8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450800" y="4818240"/>
            <a:ext cx="2619720" cy="17280"/>
          </a:xfrm>
          <a:prstGeom prst="rect">
            <a:avLst/>
          </a:prstGeom>
          <a:solidFill>
            <a:srgbClr val="a88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450800" y="4835520"/>
            <a:ext cx="2619720" cy="15840"/>
          </a:xfrm>
          <a:prstGeom prst="rect">
            <a:avLst/>
          </a:prstGeom>
          <a:solidFill>
            <a:srgbClr val="a684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450800" y="4851360"/>
            <a:ext cx="2619720" cy="15840"/>
          </a:xfrm>
          <a:prstGeom prst="rect">
            <a:avLst/>
          </a:prstGeom>
          <a:solidFill>
            <a:srgbClr val="a48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450800" y="4867200"/>
            <a:ext cx="2619720" cy="14400"/>
          </a:xfrm>
          <a:prstGeom prst="rect">
            <a:avLst/>
          </a:prstGeom>
          <a:solidFill>
            <a:srgbClr val="a28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450800" y="4881600"/>
            <a:ext cx="2619720" cy="17280"/>
          </a:xfrm>
          <a:prstGeom prst="rect">
            <a:avLst/>
          </a:prstGeom>
          <a:solidFill>
            <a:srgbClr val="a08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450800" y="4898880"/>
            <a:ext cx="2619720" cy="14400"/>
          </a:xfrm>
          <a:prstGeom prst="rect">
            <a:avLst/>
          </a:prstGeom>
          <a:solidFill>
            <a:srgbClr val="9e8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450800" y="4913280"/>
            <a:ext cx="2619720" cy="20520"/>
          </a:xfrm>
          <a:prstGeom prst="rect">
            <a:avLst/>
          </a:prstGeom>
          <a:solidFill>
            <a:srgbClr val="9c8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50800" y="4933800"/>
            <a:ext cx="2619720" cy="20880"/>
          </a:xfrm>
          <a:prstGeom prst="rect">
            <a:avLst/>
          </a:prstGeom>
          <a:solidFill>
            <a:srgbClr val="9a8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450800" y="4954680"/>
            <a:ext cx="2619720" cy="14040"/>
          </a:xfrm>
          <a:prstGeom prst="rect">
            <a:avLst/>
          </a:prstGeom>
          <a:solidFill>
            <a:srgbClr val="988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450800" y="4968720"/>
            <a:ext cx="2619720" cy="17640"/>
          </a:xfrm>
          <a:prstGeom prst="rect">
            <a:avLst/>
          </a:prstGeom>
          <a:solidFill>
            <a:srgbClr val="968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450800" y="4986360"/>
            <a:ext cx="2619720" cy="14400"/>
          </a:xfrm>
          <a:prstGeom prst="rect">
            <a:avLst/>
          </a:prstGeom>
          <a:solidFill>
            <a:srgbClr val="948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450800" y="5000760"/>
            <a:ext cx="2619720" cy="15840"/>
          </a:xfrm>
          <a:prstGeom prst="rect">
            <a:avLst/>
          </a:prstGeom>
          <a:solidFill>
            <a:srgbClr val="928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450800" y="5016600"/>
            <a:ext cx="2619720" cy="11160"/>
          </a:xfrm>
          <a:prstGeom prst="rect">
            <a:avLst/>
          </a:prstGeom>
          <a:solidFill>
            <a:srgbClr val="918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450800" y="5027760"/>
            <a:ext cx="2619720" cy="20520"/>
          </a:xfrm>
          <a:prstGeom prst="rect">
            <a:avLst/>
          </a:prstGeom>
          <a:solidFill>
            <a:srgbClr val="8f8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450800" y="5048280"/>
            <a:ext cx="2619720" cy="15840"/>
          </a:xfrm>
          <a:prstGeom prst="rect">
            <a:avLst/>
          </a:prstGeom>
          <a:solidFill>
            <a:srgbClr val="8d8e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50800" y="5064120"/>
            <a:ext cx="2619720" cy="23760"/>
          </a:xfrm>
          <a:prstGeom prst="rect">
            <a:avLst/>
          </a:prstGeom>
          <a:solidFill>
            <a:srgbClr val="8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450800" y="5087880"/>
            <a:ext cx="2619720" cy="14400"/>
          </a:xfrm>
          <a:prstGeom prst="rect">
            <a:avLst/>
          </a:prstGeom>
          <a:solidFill>
            <a:srgbClr val="899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50800" y="5102280"/>
            <a:ext cx="2619720" cy="17280"/>
          </a:xfrm>
          <a:prstGeom prst="rect">
            <a:avLst/>
          </a:prstGeom>
          <a:solidFill>
            <a:srgbClr val="879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450800" y="5119560"/>
            <a:ext cx="2619720" cy="20880"/>
          </a:xfrm>
          <a:prstGeom prst="rect">
            <a:avLst/>
          </a:prstGeom>
          <a:solidFill>
            <a:srgbClr val="859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450800" y="5140440"/>
            <a:ext cx="2619720" cy="19080"/>
          </a:xfrm>
          <a:prstGeom prst="rect">
            <a:avLst/>
          </a:prstGeom>
          <a:solidFill>
            <a:srgbClr val="839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450800" y="5159520"/>
            <a:ext cx="2619720" cy="27000"/>
          </a:xfrm>
          <a:prstGeom prst="rect">
            <a:avLst/>
          </a:prstGeom>
          <a:solidFill>
            <a:srgbClr val="819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450800" y="5186520"/>
            <a:ext cx="2619720" cy="20520"/>
          </a:xfrm>
          <a:prstGeom prst="rect">
            <a:avLst/>
          </a:prstGeom>
          <a:solidFill>
            <a:srgbClr val="7f9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450800" y="5207040"/>
            <a:ext cx="2619720" cy="23760"/>
          </a:xfrm>
          <a:prstGeom prst="rect">
            <a:avLst/>
          </a:prstGeom>
          <a:solidFill>
            <a:srgbClr val="7d93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1450800" y="5230800"/>
            <a:ext cx="2619720" cy="19080"/>
          </a:xfrm>
          <a:prstGeom prst="rect">
            <a:avLst/>
          </a:prstGeom>
          <a:solidFill>
            <a:srgbClr val="7b9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450800" y="5249880"/>
            <a:ext cx="2619720" cy="27000"/>
          </a:xfrm>
          <a:prstGeom prst="rect">
            <a:avLst/>
          </a:prstGeom>
          <a:solidFill>
            <a:srgbClr val="799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450800" y="5276880"/>
            <a:ext cx="2619720" cy="20520"/>
          </a:xfrm>
          <a:prstGeom prst="rect">
            <a:avLst/>
          </a:prstGeom>
          <a:solidFill>
            <a:srgbClr val="779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450800" y="5297400"/>
            <a:ext cx="2619720" cy="31680"/>
          </a:xfrm>
          <a:prstGeom prst="rect">
            <a:avLst/>
          </a:prstGeom>
          <a:solidFill>
            <a:srgbClr val="759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450800" y="5329080"/>
            <a:ext cx="2619720" cy="32040"/>
          </a:xfrm>
          <a:prstGeom prst="rect">
            <a:avLst/>
          </a:prstGeom>
          <a:solidFill>
            <a:srgbClr val="739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450800" y="5361120"/>
            <a:ext cx="2619720" cy="29880"/>
          </a:xfrm>
          <a:prstGeom prst="rect">
            <a:avLst/>
          </a:prstGeom>
          <a:solidFill>
            <a:srgbClr val="719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1450800" y="5391000"/>
            <a:ext cx="2619720" cy="32040"/>
          </a:xfrm>
          <a:prstGeom prst="rect">
            <a:avLst/>
          </a:prstGeom>
          <a:solidFill>
            <a:srgbClr val="6f9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450800" y="5423040"/>
            <a:ext cx="2619720" cy="31680"/>
          </a:xfrm>
          <a:prstGeom prst="rect">
            <a:avLst/>
          </a:prstGeom>
          <a:solidFill>
            <a:srgbClr val="6d9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450800" y="5454720"/>
            <a:ext cx="2619720" cy="47520"/>
          </a:xfrm>
          <a:prstGeom prst="rect">
            <a:avLst/>
          </a:prstGeom>
          <a:solidFill>
            <a:srgbClr val="6b98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50800" y="5502240"/>
            <a:ext cx="2619720" cy="47520"/>
          </a:xfrm>
          <a:prstGeom prst="rect">
            <a:avLst/>
          </a:prstGeom>
          <a:solidFill>
            <a:srgbClr val="699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450800" y="5549760"/>
            <a:ext cx="2619720" cy="39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450800" y="1546200"/>
            <a:ext cx="2617920" cy="4041720"/>
          </a:xfrm>
          <a:custGeom>
            <a:avLst/>
            <a:gdLst/>
            <a:ahLst/>
            <a:rect l="l" t="t" r="r" b="b"/>
            <a:pathLst>
              <a:path w="1649" h="2546">
                <a:moveTo>
                  <a:pt x="522" y="0"/>
                </a:moveTo>
                <a:lnTo>
                  <a:pt x="496" y="0"/>
                </a:lnTo>
                <a:lnTo>
                  <a:pt x="470" y="2"/>
                </a:lnTo>
                <a:lnTo>
                  <a:pt x="443" y="5"/>
                </a:lnTo>
                <a:lnTo>
                  <a:pt x="417" y="10"/>
                </a:lnTo>
                <a:lnTo>
                  <a:pt x="392" y="16"/>
                </a:lnTo>
                <a:lnTo>
                  <a:pt x="367" y="23"/>
                </a:lnTo>
                <a:lnTo>
                  <a:pt x="343" y="32"/>
                </a:lnTo>
                <a:lnTo>
                  <a:pt x="319" y="40"/>
                </a:lnTo>
                <a:lnTo>
                  <a:pt x="297" y="51"/>
                </a:lnTo>
                <a:lnTo>
                  <a:pt x="273" y="62"/>
                </a:lnTo>
                <a:lnTo>
                  <a:pt x="251" y="75"/>
                </a:lnTo>
                <a:lnTo>
                  <a:pt x="230" y="89"/>
                </a:lnTo>
                <a:lnTo>
                  <a:pt x="210" y="104"/>
                </a:lnTo>
                <a:lnTo>
                  <a:pt x="190" y="119"/>
                </a:lnTo>
                <a:lnTo>
                  <a:pt x="171" y="135"/>
                </a:lnTo>
                <a:lnTo>
                  <a:pt x="153" y="153"/>
                </a:lnTo>
                <a:lnTo>
                  <a:pt x="135" y="171"/>
                </a:lnTo>
                <a:lnTo>
                  <a:pt x="119" y="189"/>
                </a:lnTo>
                <a:lnTo>
                  <a:pt x="104" y="210"/>
                </a:lnTo>
                <a:lnTo>
                  <a:pt x="89" y="230"/>
                </a:lnTo>
                <a:lnTo>
                  <a:pt x="76" y="251"/>
                </a:lnTo>
                <a:lnTo>
                  <a:pt x="64" y="273"/>
                </a:lnTo>
                <a:lnTo>
                  <a:pt x="51" y="296"/>
                </a:lnTo>
                <a:lnTo>
                  <a:pt x="41" y="319"/>
                </a:lnTo>
                <a:lnTo>
                  <a:pt x="32" y="342"/>
                </a:lnTo>
                <a:lnTo>
                  <a:pt x="23" y="367"/>
                </a:lnTo>
                <a:lnTo>
                  <a:pt x="16" y="392"/>
                </a:lnTo>
                <a:lnTo>
                  <a:pt x="11" y="417"/>
                </a:lnTo>
                <a:lnTo>
                  <a:pt x="7" y="442"/>
                </a:lnTo>
                <a:lnTo>
                  <a:pt x="3" y="469"/>
                </a:lnTo>
                <a:lnTo>
                  <a:pt x="0" y="495"/>
                </a:lnTo>
                <a:lnTo>
                  <a:pt x="0" y="522"/>
                </a:lnTo>
                <a:lnTo>
                  <a:pt x="0" y="2024"/>
                </a:lnTo>
                <a:lnTo>
                  <a:pt x="0" y="2052"/>
                </a:lnTo>
                <a:lnTo>
                  <a:pt x="3" y="2078"/>
                </a:lnTo>
                <a:lnTo>
                  <a:pt x="7" y="2104"/>
                </a:lnTo>
                <a:lnTo>
                  <a:pt x="11" y="2130"/>
                </a:lnTo>
                <a:lnTo>
                  <a:pt x="16" y="2155"/>
                </a:lnTo>
                <a:lnTo>
                  <a:pt x="23" y="2179"/>
                </a:lnTo>
                <a:lnTo>
                  <a:pt x="32" y="2205"/>
                </a:lnTo>
                <a:lnTo>
                  <a:pt x="41" y="2228"/>
                </a:lnTo>
                <a:lnTo>
                  <a:pt x="51" y="2251"/>
                </a:lnTo>
                <a:lnTo>
                  <a:pt x="64" y="2273"/>
                </a:lnTo>
                <a:lnTo>
                  <a:pt x="76" y="2295"/>
                </a:lnTo>
                <a:lnTo>
                  <a:pt x="89" y="2316"/>
                </a:lnTo>
                <a:lnTo>
                  <a:pt x="104" y="2336"/>
                </a:lnTo>
                <a:lnTo>
                  <a:pt x="119" y="2356"/>
                </a:lnTo>
                <a:lnTo>
                  <a:pt x="135" y="2375"/>
                </a:lnTo>
                <a:lnTo>
                  <a:pt x="153" y="2393"/>
                </a:lnTo>
                <a:lnTo>
                  <a:pt x="171" y="2411"/>
                </a:lnTo>
                <a:lnTo>
                  <a:pt x="190" y="2427"/>
                </a:lnTo>
                <a:lnTo>
                  <a:pt x="210" y="2443"/>
                </a:lnTo>
                <a:lnTo>
                  <a:pt x="230" y="2458"/>
                </a:lnTo>
                <a:lnTo>
                  <a:pt x="251" y="2471"/>
                </a:lnTo>
                <a:lnTo>
                  <a:pt x="273" y="2484"/>
                </a:lnTo>
                <a:lnTo>
                  <a:pt x="297" y="2496"/>
                </a:lnTo>
                <a:lnTo>
                  <a:pt x="319" y="2506"/>
                </a:lnTo>
                <a:lnTo>
                  <a:pt x="343" y="2515"/>
                </a:lnTo>
                <a:lnTo>
                  <a:pt x="367" y="2523"/>
                </a:lnTo>
                <a:lnTo>
                  <a:pt x="392" y="2530"/>
                </a:lnTo>
                <a:lnTo>
                  <a:pt x="417" y="2537"/>
                </a:lnTo>
                <a:lnTo>
                  <a:pt x="443" y="2541"/>
                </a:lnTo>
                <a:lnTo>
                  <a:pt x="470" y="2544"/>
                </a:lnTo>
                <a:lnTo>
                  <a:pt x="496" y="2546"/>
                </a:lnTo>
                <a:lnTo>
                  <a:pt x="522" y="2546"/>
                </a:lnTo>
                <a:lnTo>
                  <a:pt x="1126" y="2546"/>
                </a:lnTo>
                <a:lnTo>
                  <a:pt x="1153" y="2546"/>
                </a:lnTo>
                <a:lnTo>
                  <a:pt x="1181" y="2544"/>
                </a:lnTo>
                <a:lnTo>
                  <a:pt x="1206" y="2541"/>
                </a:lnTo>
                <a:lnTo>
                  <a:pt x="1231" y="2537"/>
                </a:lnTo>
                <a:lnTo>
                  <a:pt x="1257" y="2530"/>
                </a:lnTo>
                <a:lnTo>
                  <a:pt x="1282" y="2523"/>
                </a:lnTo>
                <a:lnTo>
                  <a:pt x="1306" y="2515"/>
                </a:lnTo>
                <a:lnTo>
                  <a:pt x="1330" y="2506"/>
                </a:lnTo>
                <a:lnTo>
                  <a:pt x="1353" y="2496"/>
                </a:lnTo>
                <a:lnTo>
                  <a:pt x="1376" y="2484"/>
                </a:lnTo>
                <a:lnTo>
                  <a:pt x="1398" y="2471"/>
                </a:lnTo>
                <a:lnTo>
                  <a:pt x="1419" y="2458"/>
                </a:lnTo>
                <a:lnTo>
                  <a:pt x="1439" y="2443"/>
                </a:lnTo>
                <a:lnTo>
                  <a:pt x="1459" y="2427"/>
                </a:lnTo>
                <a:lnTo>
                  <a:pt x="1478" y="2411"/>
                </a:lnTo>
                <a:lnTo>
                  <a:pt x="1496" y="2393"/>
                </a:lnTo>
                <a:lnTo>
                  <a:pt x="1513" y="2375"/>
                </a:lnTo>
                <a:lnTo>
                  <a:pt x="1530" y="2356"/>
                </a:lnTo>
                <a:lnTo>
                  <a:pt x="1546" y="2336"/>
                </a:lnTo>
                <a:lnTo>
                  <a:pt x="1560" y="2316"/>
                </a:lnTo>
                <a:lnTo>
                  <a:pt x="1574" y="2295"/>
                </a:lnTo>
                <a:lnTo>
                  <a:pt x="1587" y="2273"/>
                </a:lnTo>
                <a:lnTo>
                  <a:pt x="1597" y="2251"/>
                </a:lnTo>
                <a:lnTo>
                  <a:pt x="1609" y="2228"/>
                </a:lnTo>
                <a:lnTo>
                  <a:pt x="1617" y="2205"/>
                </a:lnTo>
                <a:lnTo>
                  <a:pt x="1626" y="2179"/>
                </a:lnTo>
                <a:lnTo>
                  <a:pt x="1633" y="2155"/>
                </a:lnTo>
                <a:lnTo>
                  <a:pt x="1639" y="2130"/>
                </a:lnTo>
                <a:lnTo>
                  <a:pt x="1644" y="2104"/>
                </a:lnTo>
                <a:lnTo>
                  <a:pt x="1647" y="2078"/>
                </a:lnTo>
                <a:lnTo>
                  <a:pt x="1649" y="2052"/>
                </a:lnTo>
                <a:lnTo>
                  <a:pt x="1649" y="2024"/>
                </a:lnTo>
                <a:lnTo>
                  <a:pt x="1649" y="522"/>
                </a:lnTo>
                <a:lnTo>
                  <a:pt x="1649" y="495"/>
                </a:lnTo>
                <a:lnTo>
                  <a:pt x="1647" y="469"/>
                </a:lnTo>
                <a:lnTo>
                  <a:pt x="1644" y="442"/>
                </a:lnTo>
                <a:lnTo>
                  <a:pt x="1639" y="417"/>
                </a:lnTo>
                <a:lnTo>
                  <a:pt x="1633" y="392"/>
                </a:lnTo>
                <a:lnTo>
                  <a:pt x="1626" y="367"/>
                </a:lnTo>
                <a:lnTo>
                  <a:pt x="1617" y="342"/>
                </a:lnTo>
                <a:lnTo>
                  <a:pt x="1609" y="319"/>
                </a:lnTo>
                <a:lnTo>
                  <a:pt x="1597" y="296"/>
                </a:lnTo>
                <a:lnTo>
                  <a:pt x="1587" y="273"/>
                </a:lnTo>
                <a:lnTo>
                  <a:pt x="1574" y="251"/>
                </a:lnTo>
                <a:lnTo>
                  <a:pt x="1560" y="230"/>
                </a:lnTo>
                <a:lnTo>
                  <a:pt x="1546" y="210"/>
                </a:lnTo>
                <a:lnTo>
                  <a:pt x="1530" y="189"/>
                </a:lnTo>
                <a:lnTo>
                  <a:pt x="1513" y="171"/>
                </a:lnTo>
                <a:lnTo>
                  <a:pt x="1496" y="153"/>
                </a:lnTo>
                <a:lnTo>
                  <a:pt x="1478" y="135"/>
                </a:lnTo>
                <a:lnTo>
                  <a:pt x="1459" y="119"/>
                </a:lnTo>
                <a:lnTo>
                  <a:pt x="1439" y="104"/>
                </a:lnTo>
                <a:lnTo>
                  <a:pt x="1419" y="89"/>
                </a:lnTo>
                <a:lnTo>
                  <a:pt x="1398" y="75"/>
                </a:lnTo>
                <a:lnTo>
                  <a:pt x="1376" y="62"/>
                </a:lnTo>
                <a:lnTo>
                  <a:pt x="1353" y="51"/>
                </a:lnTo>
                <a:lnTo>
                  <a:pt x="1330" y="40"/>
                </a:lnTo>
                <a:lnTo>
                  <a:pt x="1306" y="32"/>
                </a:lnTo>
                <a:lnTo>
                  <a:pt x="1282" y="23"/>
                </a:lnTo>
                <a:lnTo>
                  <a:pt x="1257" y="16"/>
                </a:lnTo>
                <a:lnTo>
                  <a:pt x="1231" y="10"/>
                </a:lnTo>
                <a:lnTo>
                  <a:pt x="1206" y="5"/>
                </a:lnTo>
                <a:lnTo>
                  <a:pt x="1181" y="2"/>
                </a:lnTo>
                <a:lnTo>
                  <a:pt x="1153" y="0"/>
                </a:lnTo>
                <a:lnTo>
                  <a:pt x="1126" y="0"/>
                </a:lnTo>
                <a:lnTo>
                  <a:pt x="52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639880" y="2257560"/>
            <a:ext cx="47808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639880" y="2417760"/>
            <a:ext cx="478080" cy="1317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639880" y="2549520"/>
            <a:ext cx="478080" cy="936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639880" y="2643120"/>
            <a:ext cx="478080" cy="907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639880" y="2733840"/>
            <a:ext cx="478080" cy="619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639880" y="2795760"/>
            <a:ext cx="478080" cy="71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2639880" y="2867040"/>
            <a:ext cx="478080" cy="507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2639880" y="2917800"/>
            <a:ext cx="478080" cy="507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639880" y="2968560"/>
            <a:ext cx="478080" cy="507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2639880" y="3019320"/>
            <a:ext cx="478080" cy="4284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2639880" y="3062160"/>
            <a:ext cx="478080" cy="399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2639880" y="3102120"/>
            <a:ext cx="478080" cy="3960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2639880" y="3141720"/>
            <a:ext cx="478080" cy="3168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2639880" y="3173400"/>
            <a:ext cx="478080" cy="41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639880" y="3214800"/>
            <a:ext cx="478080" cy="316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2639880" y="3246480"/>
            <a:ext cx="478080" cy="3024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2639880" y="3276720"/>
            <a:ext cx="478080" cy="4104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2639880" y="3317760"/>
            <a:ext cx="478080" cy="30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639880" y="3348000"/>
            <a:ext cx="478080" cy="3024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639880" y="3378240"/>
            <a:ext cx="478080" cy="2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2639880" y="3398760"/>
            <a:ext cx="478080" cy="3024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639880" y="3429000"/>
            <a:ext cx="478080" cy="316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2639880" y="3460680"/>
            <a:ext cx="478080" cy="3024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639880" y="3490920"/>
            <a:ext cx="478080" cy="2052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2639880" y="3511440"/>
            <a:ext cx="478080" cy="3024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639880" y="3541680"/>
            <a:ext cx="478080" cy="302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2639880" y="3571920"/>
            <a:ext cx="478080" cy="20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639880" y="3592440"/>
            <a:ext cx="478080" cy="3024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639880" y="3622680"/>
            <a:ext cx="478080" cy="2232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2639880" y="3645000"/>
            <a:ext cx="478080" cy="3024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2639880" y="3675240"/>
            <a:ext cx="478080" cy="18720"/>
          </a:xfrm>
          <a:prstGeom prst="rect">
            <a:avLst/>
          </a:pr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639880" y="3693960"/>
            <a:ext cx="478080" cy="3204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639880" y="3726000"/>
            <a:ext cx="478080" cy="2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2639880" y="3746520"/>
            <a:ext cx="478080" cy="30240"/>
          </a:xfrm>
          <a:prstGeom prst="rect">
            <a:avLst/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639880" y="3776760"/>
            <a:ext cx="478080" cy="20520"/>
          </a:xfrm>
          <a:prstGeom prst="rect">
            <a:avLst/>
          </a:prstGeom>
          <a:solidFill>
            <a:srgbClr val="bb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639880" y="3797280"/>
            <a:ext cx="478080" cy="30240"/>
          </a:xfrm>
          <a:prstGeom prst="rect">
            <a:avLst/>
          </a:pr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639880" y="3827520"/>
            <a:ext cx="478080" cy="20520"/>
          </a:xfrm>
          <a:prstGeom prst="rect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2639880" y="3848040"/>
            <a:ext cx="478080" cy="3024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639880" y="3878280"/>
            <a:ext cx="478080" cy="2052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2639880" y="3898800"/>
            <a:ext cx="478080" cy="31680"/>
          </a:xfrm>
          <a:prstGeom prst="rect">
            <a:avLst/>
          </a:prstGeom>
          <a:solidFill>
            <a:srgbClr val="b1b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639880" y="3930480"/>
            <a:ext cx="478080" cy="20880"/>
          </a:xfrm>
          <a:prstGeom prst="rect">
            <a:avLst/>
          </a:pr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639880" y="3951360"/>
            <a:ext cx="478080" cy="302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2639880" y="3981600"/>
            <a:ext cx="478080" cy="20520"/>
          </a:xfrm>
          <a:prstGeom prst="rect">
            <a:avLst/>
          </a:pr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639880" y="4002120"/>
            <a:ext cx="478080" cy="30240"/>
          </a:xfrm>
          <a:prstGeom prst="rect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639880" y="4032360"/>
            <a:ext cx="478080" cy="2052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639880" y="4052880"/>
            <a:ext cx="478080" cy="302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639880" y="4083120"/>
            <a:ext cx="478080" cy="316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2639880" y="4114800"/>
            <a:ext cx="478080" cy="3024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2639880" y="4145040"/>
            <a:ext cx="478080" cy="3024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2639880" y="4175280"/>
            <a:ext cx="478080" cy="3168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2639880" y="4206960"/>
            <a:ext cx="478080" cy="3024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639880" y="4237200"/>
            <a:ext cx="478080" cy="298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639880" y="4267080"/>
            <a:ext cx="478080" cy="3024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639880" y="4297320"/>
            <a:ext cx="478080" cy="31680"/>
          </a:xfrm>
          <a:prstGeom prst="rect">
            <a:avLst/>
          </a:pr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639880" y="4329000"/>
            <a:ext cx="478080" cy="3996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2639880" y="4368960"/>
            <a:ext cx="478080" cy="428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2639880" y="4411800"/>
            <a:ext cx="478080" cy="3960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2639880" y="4451400"/>
            <a:ext cx="478080" cy="3960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2639880" y="4491000"/>
            <a:ext cx="478080" cy="5256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639880" y="4543560"/>
            <a:ext cx="478080" cy="5220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2639880" y="4595760"/>
            <a:ext cx="478080" cy="493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2639880" y="4645080"/>
            <a:ext cx="478080" cy="7308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2639880" y="4718160"/>
            <a:ext cx="478080" cy="8244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639880" y="4800600"/>
            <a:ext cx="478080" cy="76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2639880" y="2257560"/>
            <a:ext cx="478080" cy="2619360"/>
          </a:xfrm>
          <a:custGeom>
            <a:avLst/>
            <a:gdLst/>
            <a:ahLst/>
            <a:rect l="l" t="t" r="r" b="b"/>
            <a:pathLst>
              <a:path w="301" h="1650">
                <a:moveTo>
                  <a:pt x="0" y="1539"/>
                </a:moveTo>
                <a:lnTo>
                  <a:pt x="100" y="1539"/>
                </a:lnTo>
                <a:lnTo>
                  <a:pt x="100" y="0"/>
                </a:lnTo>
                <a:lnTo>
                  <a:pt x="202" y="0"/>
                </a:lnTo>
                <a:lnTo>
                  <a:pt x="202" y="1539"/>
                </a:lnTo>
                <a:lnTo>
                  <a:pt x="301" y="1539"/>
                </a:lnTo>
                <a:lnTo>
                  <a:pt x="151" y="1650"/>
                </a:lnTo>
                <a:lnTo>
                  <a:pt x="0" y="153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2639880" y="2257560"/>
            <a:ext cx="478080" cy="2619360"/>
          </a:xfrm>
          <a:custGeom>
            <a:avLst/>
            <a:gdLst/>
            <a:ahLst/>
            <a:rect l="l" t="t" r="r" b="b"/>
            <a:pathLst>
              <a:path w="301" h="1650">
                <a:moveTo>
                  <a:pt x="0" y="1539"/>
                </a:moveTo>
                <a:lnTo>
                  <a:pt x="100" y="1539"/>
                </a:lnTo>
                <a:lnTo>
                  <a:pt x="100" y="0"/>
                </a:lnTo>
                <a:lnTo>
                  <a:pt x="202" y="0"/>
                </a:lnTo>
                <a:lnTo>
                  <a:pt x="202" y="1539"/>
                </a:lnTo>
                <a:lnTo>
                  <a:pt x="301" y="1539"/>
                </a:lnTo>
                <a:lnTo>
                  <a:pt x="151" y="1650"/>
                </a:lnTo>
                <a:lnTo>
                  <a:pt x="0" y="15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2639880" y="2257560"/>
            <a:ext cx="47808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639880" y="2417760"/>
            <a:ext cx="478080" cy="1317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639880" y="2549520"/>
            <a:ext cx="478080" cy="936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2639880" y="2643120"/>
            <a:ext cx="478080" cy="907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2639880" y="2733840"/>
            <a:ext cx="478080" cy="619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2639880" y="2795760"/>
            <a:ext cx="478080" cy="71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2639880" y="2867040"/>
            <a:ext cx="478080" cy="507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2639880" y="2917800"/>
            <a:ext cx="478080" cy="507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2639880" y="2968560"/>
            <a:ext cx="478080" cy="507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2639880" y="3019320"/>
            <a:ext cx="478080" cy="4284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2639880" y="3062160"/>
            <a:ext cx="478080" cy="399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639880" y="3102120"/>
            <a:ext cx="478080" cy="3960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639880" y="3141720"/>
            <a:ext cx="478080" cy="3168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2639880" y="3173400"/>
            <a:ext cx="478080" cy="41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2639880" y="3214800"/>
            <a:ext cx="478080" cy="316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2639880" y="3246480"/>
            <a:ext cx="478080" cy="3024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2639880" y="3276720"/>
            <a:ext cx="478080" cy="4104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639880" y="3317760"/>
            <a:ext cx="478080" cy="30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639880" y="3348000"/>
            <a:ext cx="478080" cy="3024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639880" y="3378240"/>
            <a:ext cx="478080" cy="2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639880" y="3398760"/>
            <a:ext cx="478080" cy="3024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639880" y="3429000"/>
            <a:ext cx="478080" cy="316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2639880" y="3460680"/>
            <a:ext cx="478080" cy="3024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2639880" y="3490920"/>
            <a:ext cx="478080" cy="2052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639880" y="3511440"/>
            <a:ext cx="478080" cy="3024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2639880" y="3541680"/>
            <a:ext cx="478080" cy="302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2639880" y="3571920"/>
            <a:ext cx="478080" cy="20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2639880" y="3592440"/>
            <a:ext cx="478080" cy="3024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2639880" y="3622680"/>
            <a:ext cx="478080" cy="2232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2639880" y="3645000"/>
            <a:ext cx="478080" cy="3024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639880" y="3675240"/>
            <a:ext cx="478080" cy="18720"/>
          </a:xfrm>
          <a:prstGeom prst="rect">
            <a:avLst/>
          </a:pr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639880" y="3693960"/>
            <a:ext cx="478080" cy="3204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639880" y="3726000"/>
            <a:ext cx="478080" cy="20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2639880" y="3746520"/>
            <a:ext cx="478080" cy="30240"/>
          </a:xfrm>
          <a:prstGeom prst="rect">
            <a:avLst/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2639880" y="3776760"/>
            <a:ext cx="478080" cy="20520"/>
          </a:xfrm>
          <a:prstGeom prst="rect">
            <a:avLst/>
          </a:prstGeom>
          <a:solidFill>
            <a:srgbClr val="bb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639880" y="3797280"/>
            <a:ext cx="478080" cy="30240"/>
          </a:xfrm>
          <a:prstGeom prst="rect">
            <a:avLst/>
          </a:pr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2639880" y="3827520"/>
            <a:ext cx="478080" cy="20520"/>
          </a:xfrm>
          <a:prstGeom prst="rect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2639880" y="3848040"/>
            <a:ext cx="478080" cy="3024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2639880" y="3878280"/>
            <a:ext cx="478080" cy="2052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2639880" y="3898800"/>
            <a:ext cx="478080" cy="31680"/>
          </a:xfrm>
          <a:prstGeom prst="rect">
            <a:avLst/>
          </a:prstGeom>
          <a:solidFill>
            <a:srgbClr val="b1b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2639880" y="3930480"/>
            <a:ext cx="478080" cy="20880"/>
          </a:xfrm>
          <a:prstGeom prst="rect">
            <a:avLst/>
          </a:pr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2639880" y="3951360"/>
            <a:ext cx="478080" cy="302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639880" y="3981600"/>
            <a:ext cx="478080" cy="20520"/>
          </a:xfrm>
          <a:prstGeom prst="rect">
            <a:avLst/>
          </a:pr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639880" y="4002120"/>
            <a:ext cx="478080" cy="30240"/>
          </a:xfrm>
          <a:prstGeom prst="rect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639880" y="4032360"/>
            <a:ext cx="478080" cy="2052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2639880" y="4052880"/>
            <a:ext cx="478080" cy="302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2639880" y="4083120"/>
            <a:ext cx="478080" cy="316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2639880" y="4114800"/>
            <a:ext cx="478080" cy="3024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639880" y="4145040"/>
            <a:ext cx="478080" cy="3024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639880" y="4175280"/>
            <a:ext cx="478080" cy="3168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639880" y="4206960"/>
            <a:ext cx="478080" cy="3024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2639880" y="4237200"/>
            <a:ext cx="478080" cy="298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639880" y="4267080"/>
            <a:ext cx="478080" cy="3024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2639880" y="4297320"/>
            <a:ext cx="478080" cy="31680"/>
          </a:xfrm>
          <a:prstGeom prst="rect">
            <a:avLst/>
          </a:pr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2639880" y="4329000"/>
            <a:ext cx="478080" cy="3996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2639880" y="4368960"/>
            <a:ext cx="478080" cy="428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2639880" y="4411800"/>
            <a:ext cx="478080" cy="3960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2639880" y="4451400"/>
            <a:ext cx="478080" cy="3960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2639880" y="4491000"/>
            <a:ext cx="478080" cy="5256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2639880" y="4543560"/>
            <a:ext cx="478080" cy="5220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639880" y="4595760"/>
            <a:ext cx="478080" cy="493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639880" y="4645080"/>
            <a:ext cx="478080" cy="7308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2639880" y="4718160"/>
            <a:ext cx="478080" cy="8244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639880" y="4800600"/>
            <a:ext cx="478080" cy="76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2639880" y="2257560"/>
            <a:ext cx="478080" cy="2619360"/>
          </a:xfrm>
          <a:custGeom>
            <a:avLst/>
            <a:gdLst/>
            <a:ahLst/>
            <a:rect l="l" t="t" r="r" b="b"/>
            <a:pathLst>
              <a:path w="301" h="1650">
                <a:moveTo>
                  <a:pt x="0" y="1539"/>
                </a:moveTo>
                <a:lnTo>
                  <a:pt x="100" y="1539"/>
                </a:lnTo>
                <a:lnTo>
                  <a:pt x="100" y="0"/>
                </a:lnTo>
                <a:lnTo>
                  <a:pt x="202" y="0"/>
                </a:lnTo>
                <a:lnTo>
                  <a:pt x="202" y="1539"/>
                </a:lnTo>
                <a:lnTo>
                  <a:pt x="301" y="1539"/>
                </a:lnTo>
                <a:lnTo>
                  <a:pt x="151" y="1650"/>
                </a:lnTo>
                <a:lnTo>
                  <a:pt x="0" y="1539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576520" y="1871640"/>
            <a:ext cx="8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Regul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532240" y="205272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Gene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2190600" y="1809720"/>
            <a:ext cx="1427400" cy="474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2166840" y="1784520"/>
            <a:ext cx="1425600" cy="47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ироб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166840" y="1784520"/>
            <a:ext cx="1425600" cy="475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2502360" y="3389400"/>
            <a:ext cx="95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Single Bu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190600" y="3235320"/>
            <a:ext cx="1427400" cy="477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2154240" y="3211560"/>
            <a:ext cx="14382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У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Ринок єдиного покупц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2166840" y="3211560"/>
            <a:ext cx="1425600" cy="476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355360" y="18716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Compet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388120" y="205272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Gene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046840" y="1809720"/>
            <a:ext cx="1428480" cy="474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021280" y="1784520"/>
            <a:ext cx="1428840" cy="47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ироб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021280" y="1784520"/>
            <a:ext cx="1428840" cy="475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5476320" y="3389400"/>
            <a:ext cx="70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5046840" y="3235320"/>
            <a:ext cx="1428480" cy="477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021280" y="3160800"/>
            <a:ext cx="140328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Arial"/>
              </a:rPr>
              <a:t>Постачальники кваліфікованих споживачі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5021280" y="3211560"/>
            <a:ext cx="1428840" cy="476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3728880" y="2557440"/>
            <a:ext cx="128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Market Op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2190600" y="2523960"/>
            <a:ext cx="4284720" cy="236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2166840" y="2498760"/>
            <a:ext cx="428328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ор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2166840" y="2498760"/>
            <a:ext cx="4283280" cy="2365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3759480" y="2795760"/>
            <a:ext cx="1288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System Op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2190600" y="2760840"/>
            <a:ext cx="4284720" cy="236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2166840" y="2735280"/>
            <a:ext cx="428328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ор сис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2166840" y="2735280"/>
            <a:ext cx="4283280" cy="2365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224880" y="3984480"/>
            <a:ext cx="236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Distribution Network Op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2190600" y="3951360"/>
            <a:ext cx="428472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2166840" y="3925800"/>
            <a:ext cx="428328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ор розподільчих мер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247480" y="425124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Distributors (supp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628360" y="443376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busi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2190600" y="4189320"/>
            <a:ext cx="1427400" cy="474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141640" y="4164120"/>
            <a:ext cx="14126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Arial"/>
              </a:rPr>
              <a:t>Постачальники за регульованим тариф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166840" y="4164120"/>
            <a:ext cx="1425600" cy="563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2608920" y="4967280"/>
            <a:ext cx="77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Franchi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565360" y="5146560"/>
            <a:ext cx="81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190600" y="4902120"/>
            <a:ext cx="1427400" cy="474840"/>
          </a:xfrm>
          <a:custGeom>
            <a:avLst/>
            <a:gdLst/>
            <a:ahLst/>
            <a:rect l="l" t="t" r="r" b="b"/>
            <a:pathLst>
              <a:path w="899" h="299">
                <a:moveTo>
                  <a:pt x="150" y="0"/>
                </a:moveTo>
                <a:lnTo>
                  <a:pt x="143" y="0"/>
                </a:lnTo>
                <a:lnTo>
                  <a:pt x="134" y="0"/>
                </a:lnTo>
                <a:lnTo>
                  <a:pt x="127" y="1"/>
                </a:lnTo>
                <a:lnTo>
                  <a:pt x="120" y="3"/>
                </a:lnTo>
                <a:lnTo>
                  <a:pt x="112" y="4"/>
                </a:lnTo>
                <a:lnTo>
                  <a:pt x="106" y="6"/>
                </a:lnTo>
                <a:lnTo>
                  <a:pt x="99" y="8"/>
                </a:lnTo>
                <a:lnTo>
                  <a:pt x="91" y="10"/>
                </a:lnTo>
                <a:lnTo>
                  <a:pt x="85" y="14"/>
                </a:lnTo>
                <a:lnTo>
                  <a:pt x="79" y="17"/>
                </a:lnTo>
                <a:lnTo>
                  <a:pt x="72" y="21"/>
                </a:lnTo>
                <a:lnTo>
                  <a:pt x="66" y="25"/>
                </a:lnTo>
                <a:lnTo>
                  <a:pt x="61" y="29"/>
                </a:lnTo>
                <a:lnTo>
                  <a:pt x="55" y="34"/>
                </a:lnTo>
                <a:lnTo>
                  <a:pt x="49" y="38"/>
                </a:lnTo>
                <a:lnTo>
                  <a:pt x="44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6" y="65"/>
                </a:lnTo>
                <a:lnTo>
                  <a:pt x="22" y="72"/>
                </a:lnTo>
                <a:lnTo>
                  <a:pt x="18" y="78"/>
                </a:lnTo>
                <a:lnTo>
                  <a:pt x="15" y="84"/>
                </a:lnTo>
                <a:lnTo>
                  <a:pt x="12" y="91"/>
                </a:lnTo>
                <a:lnTo>
                  <a:pt x="9" y="98"/>
                </a:lnTo>
                <a:lnTo>
                  <a:pt x="7" y="104"/>
                </a:lnTo>
                <a:lnTo>
                  <a:pt x="5" y="112"/>
                </a:lnTo>
                <a:lnTo>
                  <a:pt x="3" y="119"/>
                </a:lnTo>
                <a:lnTo>
                  <a:pt x="2" y="126"/>
                </a:lnTo>
                <a:lnTo>
                  <a:pt x="0" y="134"/>
                </a:lnTo>
                <a:lnTo>
                  <a:pt x="0" y="141"/>
                </a:lnTo>
                <a:lnTo>
                  <a:pt x="0" y="150"/>
                </a:lnTo>
                <a:lnTo>
                  <a:pt x="0" y="157"/>
                </a:lnTo>
                <a:lnTo>
                  <a:pt x="0" y="164"/>
                </a:lnTo>
                <a:lnTo>
                  <a:pt x="2" y="172"/>
                </a:lnTo>
                <a:lnTo>
                  <a:pt x="3" y="179"/>
                </a:lnTo>
                <a:lnTo>
                  <a:pt x="5" y="187"/>
                </a:lnTo>
                <a:lnTo>
                  <a:pt x="7" y="194"/>
                </a:lnTo>
                <a:lnTo>
                  <a:pt x="9" y="201"/>
                </a:lnTo>
                <a:lnTo>
                  <a:pt x="12" y="208"/>
                </a:lnTo>
                <a:lnTo>
                  <a:pt x="15" y="214"/>
                </a:lnTo>
                <a:lnTo>
                  <a:pt x="18" y="220"/>
                </a:lnTo>
                <a:lnTo>
                  <a:pt x="22" y="228"/>
                </a:lnTo>
                <a:lnTo>
                  <a:pt x="26" y="234"/>
                </a:lnTo>
                <a:lnTo>
                  <a:pt x="30" y="239"/>
                </a:lnTo>
                <a:lnTo>
                  <a:pt x="34" y="245"/>
                </a:lnTo>
                <a:lnTo>
                  <a:pt x="38" y="250"/>
                </a:lnTo>
                <a:lnTo>
                  <a:pt x="44" y="256"/>
                </a:lnTo>
                <a:lnTo>
                  <a:pt x="49" y="260"/>
                </a:lnTo>
                <a:lnTo>
                  <a:pt x="55" y="266"/>
                </a:lnTo>
                <a:lnTo>
                  <a:pt x="61" y="270"/>
                </a:lnTo>
                <a:lnTo>
                  <a:pt x="66" y="273"/>
                </a:lnTo>
                <a:lnTo>
                  <a:pt x="72" y="278"/>
                </a:lnTo>
                <a:lnTo>
                  <a:pt x="79" y="281"/>
                </a:lnTo>
                <a:lnTo>
                  <a:pt x="85" y="285"/>
                </a:lnTo>
                <a:lnTo>
                  <a:pt x="91" y="288"/>
                </a:lnTo>
                <a:lnTo>
                  <a:pt x="99" y="290"/>
                </a:lnTo>
                <a:lnTo>
                  <a:pt x="106" y="292"/>
                </a:lnTo>
                <a:lnTo>
                  <a:pt x="112" y="294"/>
                </a:lnTo>
                <a:lnTo>
                  <a:pt x="120" y="296"/>
                </a:lnTo>
                <a:lnTo>
                  <a:pt x="127" y="297"/>
                </a:lnTo>
                <a:lnTo>
                  <a:pt x="134" y="298"/>
                </a:lnTo>
                <a:lnTo>
                  <a:pt x="143" y="298"/>
                </a:lnTo>
                <a:lnTo>
                  <a:pt x="150" y="299"/>
                </a:lnTo>
                <a:lnTo>
                  <a:pt x="749" y="299"/>
                </a:lnTo>
                <a:lnTo>
                  <a:pt x="758" y="298"/>
                </a:lnTo>
                <a:lnTo>
                  <a:pt x="765" y="298"/>
                </a:lnTo>
                <a:lnTo>
                  <a:pt x="773" y="297"/>
                </a:lnTo>
                <a:lnTo>
                  <a:pt x="780" y="296"/>
                </a:lnTo>
                <a:lnTo>
                  <a:pt x="787" y="294"/>
                </a:lnTo>
                <a:lnTo>
                  <a:pt x="794" y="292"/>
                </a:lnTo>
                <a:lnTo>
                  <a:pt x="801" y="290"/>
                </a:lnTo>
                <a:lnTo>
                  <a:pt x="808" y="288"/>
                </a:lnTo>
                <a:lnTo>
                  <a:pt x="815" y="285"/>
                </a:lnTo>
                <a:lnTo>
                  <a:pt x="821" y="281"/>
                </a:lnTo>
                <a:lnTo>
                  <a:pt x="827" y="278"/>
                </a:lnTo>
                <a:lnTo>
                  <a:pt x="834" y="273"/>
                </a:lnTo>
                <a:lnTo>
                  <a:pt x="839" y="270"/>
                </a:lnTo>
                <a:lnTo>
                  <a:pt x="845" y="266"/>
                </a:lnTo>
                <a:lnTo>
                  <a:pt x="851" y="260"/>
                </a:lnTo>
                <a:lnTo>
                  <a:pt x="856" y="256"/>
                </a:lnTo>
                <a:lnTo>
                  <a:pt x="861" y="250"/>
                </a:lnTo>
                <a:lnTo>
                  <a:pt x="865" y="245"/>
                </a:lnTo>
                <a:lnTo>
                  <a:pt x="870" y="239"/>
                </a:lnTo>
                <a:lnTo>
                  <a:pt x="874" y="234"/>
                </a:lnTo>
                <a:lnTo>
                  <a:pt x="878" y="228"/>
                </a:lnTo>
                <a:lnTo>
                  <a:pt x="881" y="220"/>
                </a:lnTo>
                <a:lnTo>
                  <a:pt x="884" y="214"/>
                </a:lnTo>
                <a:lnTo>
                  <a:pt x="888" y="208"/>
                </a:lnTo>
                <a:lnTo>
                  <a:pt x="891" y="201"/>
                </a:lnTo>
                <a:lnTo>
                  <a:pt x="893" y="194"/>
                </a:lnTo>
                <a:lnTo>
                  <a:pt x="895" y="187"/>
                </a:lnTo>
                <a:lnTo>
                  <a:pt x="896" y="179"/>
                </a:lnTo>
                <a:lnTo>
                  <a:pt x="898" y="172"/>
                </a:lnTo>
                <a:lnTo>
                  <a:pt x="899" y="164"/>
                </a:lnTo>
                <a:lnTo>
                  <a:pt x="899" y="157"/>
                </a:lnTo>
                <a:lnTo>
                  <a:pt x="899" y="150"/>
                </a:lnTo>
                <a:lnTo>
                  <a:pt x="899" y="141"/>
                </a:lnTo>
                <a:lnTo>
                  <a:pt x="899" y="134"/>
                </a:lnTo>
                <a:lnTo>
                  <a:pt x="898" y="126"/>
                </a:lnTo>
                <a:lnTo>
                  <a:pt x="896" y="119"/>
                </a:lnTo>
                <a:lnTo>
                  <a:pt x="895" y="112"/>
                </a:lnTo>
                <a:lnTo>
                  <a:pt x="893" y="104"/>
                </a:lnTo>
                <a:lnTo>
                  <a:pt x="891" y="98"/>
                </a:lnTo>
                <a:lnTo>
                  <a:pt x="888" y="91"/>
                </a:lnTo>
                <a:lnTo>
                  <a:pt x="884" y="84"/>
                </a:lnTo>
                <a:lnTo>
                  <a:pt x="881" y="78"/>
                </a:lnTo>
                <a:lnTo>
                  <a:pt x="878" y="72"/>
                </a:lnTo>
                <a:lnTo>
                  <a:pt x="874" y="65"/>
                </a:lnTo>
                <a:lnTo>
                  <a:pt x="870" y="60"/>
                </a:lnTo>
                <a:lnTo>
                  <a:pt x="865" y="54"/>
                </a:lnTo>
                <a:lnTo>
                  <a:pt x="861" y="48"/>
                </a:lnTo>
                <a:lnTo>
                  <a:pt x="856" y="43"/>
                </a:lnTo>
                <a:lnTo>
                  <a:pt x="851" y="38"/>
                </a:lnTo>
                <a:lnTo>
                  <a:pt x="845" y="34"/>
                </a:lnTo>
                <a:lnTo>
                  <a:pt x="839" y="29"/>
                </a:lnTo>
                <a:lnTo>
                  <a:pt x="834" y="25"/>
                </a:lnTo>
                <a:lnTo>
                  <a:pt x="827" y="21"/>
                </a:lnTo>
                <a:lnTo>
                  <a:pt x="821" y="17"/>
                </a:lnTo>
                <a:lnTo>
                  <a:pt x="815" y="14"/>
                </a:lnTo>
                <a:lnTo>
                  <a:pt x="808" y="10"/>
                </a:lnTo>
                <a:lnTo>
                  <a:pt x="801" y="8"/>
                </a:lnTo>
                <a:lnTo>
                  <a:pt x="794" y="6"/>
                </a:lnTo>
                <a:lnTo>
                  <a:pt x="787" y="4"/>
                </a:lnTo>
                <a:lnTo>
                  <a:pt x="780" y="3"/>
                </a:lnTo>
                <a:lnTo>
                  <a:pt x="773" y="1"/>
                </a:lnTo>
                <a:lnTo>
                  <a:pt x="765" y="0"/>
                </a:lnTo>
                <a:lnTo>
                  <a:pt x="758" y="0"/>
                </a:lnTo>
                <a:lnTo>
                  <a:pt x="749" y="0"/>
                </a:lnTo>
                <a:lnTo>
                  <a:pt x="1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2166840" y="4876920"/>
            <a:ext cx="1425600" cy="476280"/>
          </a:xfrm>
          <a:custGeom>
            <a:avLst/>
            <a:gdLst/>
            <a:ahLst/>
            <a:rect l="l" t="t" r="r" b="b"/>
            <a:pathLst>
              <a:path w="898" h="300">
                <a:moveTo>
                  <a:pt x="149" y="0"/>
                </a:moveTo>
                <a:lnTo>
                  <a:pt x="142" y="0"/>
                </a:lnTo>
                <a:lnTo>
                  <a:pt x="134" y="0"/>
                </a:lnTo>
                <a:lnTo>
                  <a:pt x="126" y="1"/>
                </a:lnTo>
                <a:lnTo>
                  <a:pt x="119" y="3"/>
                </a:lnTo>
                <a:lnTo>
                  <a:pt x="111" y="4"/>
                </a:lnTo>
                <a:lnTo>
                  <a:pt x="105" y="6"/>
                </a:lnTo>
                <a:lnTo>
                  <a:pt x="98" y="8"/>
                </a:lnTo>
                <a:lnTo>
                  <a:pt x="90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60" y="30"/>
                </a:lnTo>
                <a:lnTo>
                  <a:pt x="53" y="34"/>
                </a:lnTo>
                <a:lnTo>
                  <a:pt x="48" y="38"/>
                </a:lnTo>
                <a:lnTo>
                  <a:pt x="43" y="43"/>
                </a:lnTo>
                <a:lnTo>
                  <a:pt x="38" y="49"/>
                </a:lnTo>
                <a:lnTo>
                  <a:pt x="33" y="54"/>
                </a:lnTo>
                <a:lnTo>
                  <a:pt x="28" y="60"/>
                </a:lnTo>
                <a:lnTo>
                  <a:pt x="25" y="65"/>
                </a:lnTo>
                <a:lnTo>
                  <a:pt x="21" y="72"/>
                </a:lnTo>
                <a:lnTo>
                  <a:pt x="18" y="78"/>
                </a:lnTo>
                <a:lnTo>
                  <a:pt x="14" y="84"/>
                </a:lnTo>
                <a:lnTo>
                  <a:pt x="11" y="91"/>
                </a:lnTo>
                <a:lnTo>
                  <a:pt x="8" y="98"/>
                </a:lnTo>
                <a:lnTo>
                  <a:pt x="6" y="104"/>
                </a:lnTo>
                <a:lnTo>
                  <a:pt x="4" y="112"/>
                </a:lnTo>
                <a:lnTo>
                  <a:pt x="2" y="119"/>
                </a:lnTo>
                <a:lnTo>
                  <a:pt x="1" y="127"/>
                </a:lnTo>
                <a:lnTo>
                  <a:pt x="0" y="134"/>
                </a:lnTo>
                <a:lnTo>
                  <a:pt x="0" y="141"/>
                </a:lnTo>
                <a:lnTo>
                  <a:pt x="0" y="149"/>
                </a:lnTo>
                <a:lnTo>
                  <a:pt x="0" y="157"/>
                </a:lnTo>
                <a:lnTo>
                  <a:pt x="0" y="165"/>
                </a:lnTo>
                <a:lnTo>
                  <a:pt x="1" y="172"/>
                </a:lnTo>
                <a:lnTo>
                  <a:pt x="2" y="179"/>
                </a:lnTo>
                <a:lnTo>
                  <a:pt x="4" y="187"/>
                </a:lnTo>
                <a:lnTo>
                  <a:pt x="6" y="194"/>
                </a:lnTo>
                <a:lnTo>
                  <a:pt x="8" y="201"/>
                </a:lnTo>
                <a:lnTo>
                  <a:pt x="11" y="208"/>
                </a:lnTo>
                <a:lnTo>
                  <a:pt x="14" y="214"/>
                </a:lnTo>
                <a:lnTo>
                  <a:pt x="18" y="220"/>
                </a:lnTo>
                <a:lnTo>
                  <a:pt x="21" y="227"/>
                </a:lnTo>
                <a:lnTo>
                  <a:pt x="25" y="233"/>
                </a:lnTo>
                <a:lnTo>
                  <a:pt x="29" y="239"/>
                </a:lnTo>
                <a:lnTo>
                  <a:pt x="33" y="245"/>
                </a:lnTo>
                <a:lnTo>
                  <a:pt x="38" y="250"/>
                </a:lnTo>
                <a:lnTo>
                  <a:pt x="43" y="256"/>
                </a:lnTo>
                <a:lnTo>
                  <a:pt x="48" y="261"/>
                </a:lnTo>
                <a:lnTo>
                  <a:pt x="53" y="266"/>
                </a:lnTo>
                <a:lnTo>
                  <a:pt x="60" y="270"/>
                </a:lnTo>
                <a:lnTo>
                  <a:pt x="65" y="273"/>
                </a:lnTo>
                <a:lnTo>
                  <a:pt x="71" y="278"/>
                </a:lnTo>
                <a:lnTo>
                  <a:pt x="78" y="282"/>
                </a:lnTo>
                <a:lnTo>
                  <a:pt x="84" y="285"/>
                </a:lnTo>
                <a:lnTo>
                  <a:pt x="90" y="288"/>
                </a:lnTo>
                <a:lnTo>
                  <a:pt x="98" y="290"/>
                </a:lnTo>
                <a:lnTo>
                  <a:pt x="105" y="292"/>
                </a:lnTo>
                <a:lnTo>
                  <a:pt x="111" y="294"/>
                </a:lnTo>
                <a:lnTo>
                  <a:pt x="119" y="296"/>
                </a:lnTo>
                <a:lnTo>
                  <a:pt x="126" y="297"/>
                </a:lnTo>
                <a:lnTo>
                  <a:pt x="134" y="299"/>
                </a:lnTo>
                <a:lnTo>
                  <a:pt x="142" y="299"/>
                </a:lnTo>
                <a:lnTo>
                  <a:pt x="149" y="300"/>
                </a:lnTo>
                <a:lnTo>
                  <a:pt x="749" y="300"/>
                </a:lnTo>
                <a:lnTo>
                  <a:pt x="756" y="299"/>
                </a:lnTo>
                <a:lnTo>
                  <a:pt x="764" y="299"/>
                </a:lnTo>
                <a:lnTo>
                  <a:pt x="772" y="297"/>
                </a:lnTo>
                <a:lnTo>
                  <a:pt x="779" y="296"/>
                </a:lnTo>
                <a:lnTo>
                  <a:pt x="787" y="294"/>
                </a:lnTo>
                <a:lnTo>
                  <a:pt x="793" y="292"/>
                </a:lnTo>
                <a:lnTo>
                  <a:pt x="800" y="290"/>
                </a:lnTo>
                <a:lnTo>
                  <a:pt x="808" y="288"/>
                </a:lnTo>
                <a:lnTo>
                  <a:pt x="814" y="285"/>
                </a:lnTo>
                <a:lnTo>
                  <a:pt x="820" y="282"/>
                </a:lnTo>
                <a:lnTo>
                  <a:pt x="827" y="278"/>
                </a:lnTo>
                <a:lnTo>
                  <a:pt x="833" y="273"/>
                </a:lnTo>
                <a:lnTo>
                  <a:pt x="838" y="270"/>
                </a:lnTo>
                <a:lnTo>
                  <a:pt x="845" y="266"/>
                </a:lnTo>
                <a:lnTo>
                  <a:pt x="850" y="261"/>
                </a:lnTo>
                <a:lnTo>
                  <a:pt x="855" y="256"/>
                </a:lnTo>
                <a:lnTo>
                  <a:pt x="860" y="250"/>
                </a:lnTo>
                <a:lnTo>
                  <a:pt x="865" y="245"/>
                </a:lnTo>
                <a:lnTo>
                  <a:pt x="869" y="239"/>
                </a:lnTo>
                <a:lnTo>
                  <a:pt x="873" y="233"/>
                </a:lnTo>
                <a:lnTo>
                  <a:pt x="877" y="227"/>
                </a:lnTo>
                <a:lnTo>
                  <a:pt x="880" y="220"/>
                </a:lnTo>
                <a:lnTo>
                  <a:pt x="884" y="214"/>
                </a:lnTo>
                <a:lnTo>
                  <a:pt x="887" y="208"/>
                </a:lnTo>
                <a:lnTo>
                  <a:pt x="890" y="201"/>
                </a:lnTo>
                <a:lnTo>
                  <a:pt x="892" y="194"/>
                </a:lnTo>
                <a:lnTo>
                  <a:pt x="894" y="187"/>
                </a:lnTo>
                <a:lnTo>
                  <a:pt x="895" y="179"/>
                </a:lnTo>
                <a:lnTo>
                  <a:pt x="897" y="172"/>
                </a:lnTo>
                <a:lnTo>
                  <a:pt x="898" y="165"/>
                </a:lnTo>
                <a:lnTo>
                  <a:pt x="898" y="157"/>
                </a:lnTo>
                <a:lnTo>
                  <a:pt x="898" y="149"/>
                </a:lnTo>
                <a:lnTo>
                  <a:pt x="898" y="141"/>
                </a:lnTo>
                <a:lnTo>
                  <a:pt x="898" y="134"/>
                </a:lnTo>
                <a:lnTo>
                  <a:pt x="897" y="127"/>
                </a:lnTo>
                <a:lnTo>
                  <a:pt x="895" y="119"/>
                </a:lnTo>
                <a:lnTo>
                  <a:pt x="894" y="112"/>
                </a:lnTo>
                <a:lnTo>
                  <a:pt x="892" y="104"/>
                </a:lnTo>
                <a:lnTo>
                  <a:pt x="890" y="98"/>
                </a:lnTo>
                <a:lnTo>
                  <a:pt x="887" y="91"/>
                </a:lnTo>
                <a:lnTo>
                  <a:pt x="884" y="84"/>
                </a:lnTo>
                <a:lnTo>
                  <a:pt x="880" y="78"/>
                </a:lnTo>
                <a:lnTo>
                  <a:pt x="877" y="72"/>
                </a:lnTo>
                <a:lnTo>
                  <a:pt x="873" y="65"/>
                </a:lnTo>
                <a:lnTo>
                  <a:pt x="869" y="60"/>
                </a:lnTo>
                <a:lnTo>
                  <a:pt x="865" y="54"/>
                </a:lnTo>
                <a:lnTo>
                  <a:pt x="860" y="49"/>
                </a:lnTo>
                <a:lnTo>
                  <a:pt x="855" y="43"/>
                </a:lnTo>
                <a:lnTo>
                  <a:pt x="850" y="38"/>
                </a:lnTo>
                <a:lnTo>
                  <a:pt x="845" y="34"/>
                </a:lnTo>
                <a:lnTo>
                  <a:pt x="838" y="30"/>
                </a:lnTo>
                <a:lnTo>
                  <a:pt x="833" y="25"/>
                </a:lnTo>
                <a:lnTo>
                  <a:pt x="827" y="21"/>
                </a:lnTo>
                <a:lnTo>
                  <a:pt x="820" y="17"/>
                </a:lnTo>
                <a:lnTo>
                  <a:pt x="814" y="14"/>
                </a:lnTo>
                <a:lnTo>
                  <a:pt x="808" y="11"/>
                </a:lnTo>
                <a:lnTo>
                  <a:pt x="800" y="8"/>
                </a:lnTo>
                <a:lnTo>
                  <a:pt x="793" y="6"/>
                </a:lnTo>
                <a:lnTo>
                  <a:pt x="787" y="4"/>
                </a:lnTo>
                <a:lnTo>
                  <a:pt x="779" y="3"/>
                </a:lnTo>
                <a:lnTo>
                  <a:pt x="772" y="1"/>
                </a:lnTo>
                <a:lnTo>
                  <a:pt x="764" y="0"/>
                </a:lnTo>
                <a:lnTo>
                  <a:pt x="756" y="0"/>
                </a:lnTo>
                <a:lnTo>
                  <a:pt x="749" y="0"/>
                </a:lnTo>
                <a:lnTo>
                  <a:pt x="14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166840" y="4876920"/>
            <a:ext cx="1425600" cy="476280"/>
          </a:xfrm>
          <a:custGeom>
            <a:avLst/>
            <a:gdLst/>
            <a:ahLst/>
            <a:rect l="l" t="t" r="r" b="b"/>
            <a:pathLst>
              <a:path w="898" h="300">
                <a:moveTo>
                  <a:pt x="149" y="0"/>
                </a:moveTo>
                <a:lnTo>
                  <a:pt x="142" y="0"/>
                </a:lnTo>
                <a:lnTo>
                  <a:pt x="134" y="0"/>
                </a:lnTo>
                <a:lnTo>
                  <a:pt x="126" y="1"/>
                </a:lnTo>
                <a:lnTo>
                  <a:pt x="119" y="3"/>
                </a:lnTo>
                <a:lnTo>
                  <a:pt x="111" y="4"/>
                </a:lnTo>
                <a:lnTo>
                  <a:pt x="105" y="6"/>
                </a:lnTo>
                <a:lnTo>
                  <a:pt x="98" y="8"/>
                </a:lnTo>
                <a:lnTo>
                  <a:pt x="90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60" y="30"/>
                </a:lnTo>
                <a:lnTo>
                  <a:pt x="53" y="34"/>
                </a:lnTo>
                <a:lnTo>
                  <a:pt x="48" y="38"/>
                </a:lnTo>
                <a:lnTo>
                  <a:pt x="43" y="43"/>
                </a:lnTo>
                <a:lnTo>
                  <a:pt x="38" y="49"/>
                </a:lnTo>
                <a:lnTo>
                  <a:pt x="33" y="54"/>
                </a:lnTo>
                <a:lnTo>
                  <a:pt x="28" y="60"/>
                </a:lnTo>
                <a:lnTo>
                  <a:pt x="25" y="65"/>
                </a:lnTo>
                <a:lnTo>
                  <a:pt x="21" y="72"/>
                </a:lnTo>
                <a:lnTo>
                  <a:pt x="18" y="78"/>
                </a:lnTo>
                <a:lnTo>
                  <a:pt x="14" y="84"/>
                </a:lnTo>
                <a:lnTo>
                  <a:pt x="11" y="91"/>
                </a:lnTo>
                <a:lnTo>
                  <a:pt x="8" y="98"/>
                </a:lnTo>
                <a:lnTo>
                  <a:pt x="6" y="104"/>
                </a:lnTo>
                <a:lnTo>
                  <a:pt x="4" y="112"/>
                </a:lnTo>
                <a:lnTo>
                  <a:pt x="2" y="119"/>
                </a:lnTo>
                <a:lnTo>
                  <a:pt x="1" y="127"/>
                </a:lnTo>
                <a:lnTo>
                  <a:pt x="0" y="134"/>
                </a:lnTo>
                <a:lnTo>
                  <a:pt x="0" y="141"/>
                </a:lnTo>
                <a:lnTo>
                  <a:pt x="0" y="149"/>
                </a:lnTo>
                <a:lnTo>
                  <a:pt x="0" y="157"/>
                </a:lnTo>
                <a:lnTo>
                  <a:pt x="0" y="165"/>
                </a:lnTo>
                <a:lnTo>
                  <a:pt x="1" y="172"/>
                </a:lnTo>
                <a:lnTo>
                  <a:pt x="2" y="179"/>
                </a:lnTo>
                <a:lnTo>
                  <a:pt x="4" y="187"/>
                </a:lnTo>
                <a:lnTo>
                  <a:pt x="6" y="194"/>
                </a:lnTo>
                <a:lnTo>
                  <a:pt x="8" y="201"/>
                </a:lnTo>
                <a:lnTo>
                  <a:pt x="11" y="208"/>
                </a:lnTo>
                <a:lnTo>
                  <a:pt x="14" y="214"/>
                </a:lnTo>
                <a:lnTo>
                  <a:pt x="18" y="220"/>
                </a:lnTo>
                <a:lnTo>
                  <a:pt x="21" y="227"/>
                </a:lnTo>
                <a:lnTo>
                  <a:pt x="25" y="233"/>
                </a:lnTo>
                <a:lnTo>
                  <a:pt x="29" y="239"/>
                </a:lnTo>
                <a:lnTo>
                  <a:pt x="33" y="245"/>
                </a:lnTo>
                <a:lnTo>
                  <a:pt x="38" y="250"/>
                </a:lnTo>
                <a:lnTo>
                  <a:pt x="43" y="256"/>
                </a:lnTo>
                <a:lnTo>
                  <a:pt x="48" y="261"/>
                </a:lnTo>
                <a:lnTo>
                  <a:pt x="53" y="266"/>
                </a:lnTo>
                <a:lnTo>
                  <a:pt x="60" y="270"/>
                </a:lnTo>
                <a:lnTo>
                  <a:pt x="65" y="273"/>
                </a:lnTo>
                <a:lnTo>
                  <a:pt x="71" y="278"/>
                </a:lnTo>
                <a:lnTo>
                  <a:pt x="78" y="282"/>
                </a:lnTo>
                <a:lnTo>
                  <a:pt x="84" y="285"/>
                </a:lnTo>
                <a:lnTo>
                  <a:pt x="90" y="288"/>
                </a:lnTo>
                <a:lnTo>
                  <a:pt x="98" y="290"/>
                </a:lnTo>
                <a:lnTo>
                  <a:pt x="105" y="292"/>
                </a:lnTo>
                <a:lnTo>
                  <a:pt x="111" y="294"/>
                </a:lnTo>
                <a:lnTo>
                  <a:pt x="119" y="296"/>
                </a:lnTo>
                <a:lnTo>
                  <a:pt x="126" y="297"/>
                </a:lnTo>
                <a:lnTo>
                  <a:pt x="134" y="299"/>
                </a:lnTo>
                <a:lnTo>
                  <a:pt x="142" y="299"/>
                </a:lnTo>
                <a:lnTo>
                  <a:pt x="149" y="300"/>
                </a:lnTo>
                <a:lnTo>
                  <a:pt x="749" y="300"/>
                </a:lnTo>
                <a:lnTo>
                  <a:pt x="756" y="299"/>
                </a:lnTo>
                <a:lnTo>
                  <a:pt x="764" y="299"/>
                </a:lnTo>
                <a:lnTo>
                  <a:pt x="772" y="297"/>
                </a:lnTo>
                <a:lnTo>
                  <a:pt x="779" y="296"/>
                </a:lnTo>
                <a:lnTo>
                  <a:pt x="787" y="294"/>
                </a:lnTo>
                <a:lnTo>
                  <a:pt x="793" y="292"/>
                </a:lnTo>
                <a:lnTo>
                  <a:pt x="800" y="290"/>
                </a:lnTo>
                <a:lnTo>
                  <a:pt x="808" y="288"/>
                </a:lnTo>
                <a:lnTo>
                  <a:pt x="814" y="285"/>
                </a:lnTo>
                <a:lnTo>
                  <a:pt x="820" y="282"/>
                </a:lnTo>
                <a:lnTo>
                  <a:pt x="827" y="278"/>
                </a:lnTo>
                <a:lnTo>
                  <a:pt x="833" y="273"/>
                </a:lnTo>
                <a:lnTo>
                  <a:pt x="838" y="270"/>
                </a:lnTo>
                <a:lnTo>
                  <a:pt x="845" y="266"/>
                </a:lnTo>
                <a:lnTo>
                  <a:pt x="850" y="261"/>
                </a:lnTo>
                <a:lnTo>
                  <a:pt x="855" y="256"/>
                </a:lnTo>
                <a:lnTo>
                  <a:pt x="860" y="250"/>
                </a:lnTo>
                <a:lnTo>
                  <a:pt x="865" y="245"/>
                </a:lnTo>
                <a:lnTo>
                  <a:pt x="869" y="239"/>
                </a:lnTo>
                <a:lnTo>
                  <a:pt x="873" y="233"/>
                </a:lnTo>
                <a:lnTo>
                  <a:pt x="877" y="227"/>
                </a:lnTo>
                <a:lnTo>
                  <a:pt x="880" y="220"/>
                </a:lnTo>
                <a:lnTo>
                  <a:pt x="884" y="214"/>
                </a:lnTo>
                <a:lnTo>
                  <a:pt x="887" y="208"/>
                </a:lnTo>
                <a:lnTo>
                  <a:pt x="890" y="201"/>
                </a:lnTo>
                <a:lnTo>
                  <a:pt x="892" y="194"/>
                </a:lnTo>
                <a:lnTo>
                  <a:pt x="894" y="187"/>
                </a:lnTo>
                <a:lnTo>
                  <a:pt x="895" y="179"/>
                </a:lnTo>
                <a:lnTo>
                  <a:pt x="897" y="172"/>
                </a:lnTo>
                <a:lnTo>
                  <a:pt x="898" y="165"/>
                </a:lnTo>
                <a:lnTo>
                  <a:pt x="898" y="157"/>
                </a:lnTo>
                <a:lnTo>
                  <a:pt x="898" y="149"/>
                </a:lnTo>
                <a:lnTo>
                  <a:pt x="898" y="141"/>
                </a:lnTo>
                <a:lnTo>
                  <a:pt x="898" y="134"/>
                </a:lnTo>
                <a:lnTo>
                  <a:pt x="897" y="127"/>
                </a:lnTo>
                <a:lnTo>
                  <a:pt x="895" y="119"/>
                </a:lnTo>
                <a:lnTo>
                  <a:pt x="894" y="112"/>
                </a:lnTo>
                <a:lnTo>
                  <a:pt x="892" y="104"/>
                </a:lnTo>
                <a:lnTo>
                  <a:pt x="890" y="98"/>
                </a:lnTo>
                <a:lnTo>
                  <a:pt x="887" y="91"/>
                </a:lnTo>
                <a:lnTo>
                  <a:pt x="884" y="84"/>
                </a:lnTo>
                <a:lnTo>
                  <a:pt x="880" y="78"/>
                </a:lnTo>
                <a:lnTo>
                  <a:pt x="877" y="72"/>
                </a:lnTo>
                <a:lnTo>
                  <a:pt x="873" y="65"/>
                </a:lnTo>
                <a:lnTo>
                  <a:pt x="869" y="60"/>
                </a:lnTo>
                <a:lnTo>
                  <a:pt x="865" y="54"/>
                </a:lnTo>
                <a:lnTo>
                  <a:pt x="860" y="49"/>
                </a:lnTo>
                <a:lnTo>
                  <a:pt x="855" y="43"/>
                </a:lnTo>
                <a:lnTo>
                  <a:pt x="850" y="38"/>
                </a:lnTo>
                <a:lnTo>
                  <a:pt x="845" y="34"/>
                </a:lnTo>
                <a:lnTo>
                  <a:pt x="838" y="30"/>
                </a:lnTo>
                <a:lnTo>
                  <a:pt x="833" y="25"/>
                </a:lnTo>
                <a:lnTo>
                  <a:pt x="827" y="21"/>
                </a:lnTo>
                <a:lnTo>
                  <a:pt x="820" y="17"/>
                </a:lnTo>
                <a:lnTo>
                  <a:pt x="814" y="14"/>
                </a:lnTo>
                <a:lnTo>
                  <a:pt x="808" y="11"/>
                </a:lnTo>
                <a:lnTo>
                  <a:pt x="800" y="8"/>
                </a:lnTo>
                <a:lnTo>
                  <a:pt x="793" y="6"/>
                </a:lnTo>
                <a:lnTo>
                  <a:pt x="787" y="4"/>
                </a:lnTo>
                <a:lnTo>
                  <a:pt x="779" y="3"/>
                </a:lnTo>
                <a:lnTo>
                  <a:pt x="772" y="1"/>
                </a:lnTo>
                <a:lnTo>
                  <a:pt x="764" y="0"/>
                </a:lnTo>
                <a:lnTo>
                  <a:pt x="756" y="0"/>
                </a:lnTo>
                <a:lnTo>
                  <a:pt x="749" y="0"/>
                </a:lnTo>
                <a:lnTo>
                  <a:pt x="149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5542200" y="4967280"/>
            <a:ext cx="59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Elig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419800" y="5146560"/>
            <a:ext cx="81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046840" y="4902120"/>
            <a:ext cx="1428480" cy="474840"/>
          </a:xfrm>
          <a:custGeom>
            <a:avLst/>
            <a:gdLst/>
            <a:ahLst/>
            <a:rect l="l" t="t" r="r" b="b"/>
            <a:pathLst>
              <a:path w="900" h="299">
                <a:moveTo>
                  <a:pt x="150" y="0"/>
                </a:moveTo>
                <a:lnTo>
                  <a:pt x="142" y="0"/>
                </a:lnTo>
                <a:lnTo>
                  <a:pt x="134" y="0"/>
                </a:lnTo>
                <a:lnTo>
                  <a:pt x="127" y="1"/>
                </a:lnTo>
                <a:lnTo>
                  <a:pt x="119" y="3"/>
                </a:lnTo>
                <a:lnTo>
                  <a:pt x="112" y="4"/>
                </a:lnTo>
                <a:lnTo>
                  <a:pt x="105" y="6"/>
                </a:lnTo>
                <a:lnTo>
                  <a:pt x="98" y="8"/>
                </a:lnTo>
                <a:lnTo>
                  <a:pt x="91" y="10"/>
                </a:lnTo>
                <a:lnTo>
                  <a:pt x="84" y="14"/>
                </a:lnTo>
                <a:lnTo>
                  <a:pt x="78" y="17"/>
                </a:lnTo>
                <a:lnTo>
                  <a:pt x="72" y="21"/>
                </a:lnTo>
                <a:lnTo>
                  <a:pt x="65" y="25"/>
                </a:lnTo>
                <a:lnTo>
                  <a:pt x="60" y="29"/>
                </a:lnTo>
                <a:lnTo>
                  <a:pt x="55" y="34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30" y="60"/>
                </a:lnTo>
                <a:lnTo>
                  <a:pt x="25" y="65"/>
                </a:lnTo>
                <a:lnTo>
                  <a:pt x="21" y="72"/>
                </a:lnTo>
                <a:lnTo>
                  <a:pt x="18" y="78"/>
                </a:lnTo>
                <a:lnTo>
                  <a:pt x="15" y="84"/>
                </a:lnTo>
                <a:lnTo>
                  <a:pt x="12" y="91"/>
                </a:lnTo>
                <a:lnTo>
                  <a:pt x="8" y="98"/>
                </a:lnTo>
                <a:lnTo>
                  <a:pt x="6" y="104"/>
                </a:lnTo>
                <a:lnTo>
                  <a:pt x="4" y="112"/>
                </a:lnTo>
                <a:lnTo>
                  <a:pt x="3" y="119"/>
                </a:lnTo>
                <a:lnTo>
                  <a:pt x="2" y="126"/>
                </a:lnTo>
                <a:lnTo>
                  <a:pt x="0" y="134"/>
                </a:lnTo>
                <a:lnTo>
                  <a:pt x="0" y="141"/>
                </a:lnTo>
                <a:lnTo>
                  <a:pt x="0" y="150"/>
                </a:lnTo>
                <a:lnTo>
                  <a:pt x="0" y="157"/>
                </a:lnTo>
                <a:lnTo>
                  <a:pt x="0" y="164"/>
                </a:lnTo>
                <a:lnTo>
                  <a:pt x="2" y="172"/>
                </a:lnTo>
                <a:lnTo>
                  <a:pt x="3" y="179"/>
                </a:lnTo>
                <a:lnTo>
                  <a:pt x="4" y="187"/>
                </a:lnTo>
                <a:lnTo>
                  <a:pt x="6" y="194"/>
                </a:lnTo>
                <a:lnTo>
                  <a:pt x="8" y="201"/>
                </a:lnTo>
                <a:lnTo>
                  <a:pt x="12" y="208"/>
                </a:lnTo>
                <a:lnTo>
                  <a:pt x="15" y="214"/>
                </a:lnTo>
                <a:lnTo>
                  <a:pt x="18" y="220"/>
                </a:lnTo>
                <a:lnTo>
                  <a:pt x="21" y="228"/>
                </a:lnTo>
                <a:lnTo>
                  <a:pt x="25" y="234"/>
                </a:lnTo>
                <a:lnTo>
                  <a:pt x="30" y="239"/>
                </a:lnTo>
                <a:lnTo>
                  <a:pt x="34" y="245"/>
                </a:lnTo>
                <a:lnTo>
                  <a:pt x="38" y="250"/>
                </a:lnTo>
                <a:lnTo>
                  <a:pt x="43" y="256"/>
                </a:lnTo>
                <a:lnTo>
                  <a:pt x="48" y="260"/>
                </a:lnTo>
                <a:lnTo>
                  <a:pt x="55" y="266"/>
                </a:lnTo>
                <a:lnTo>
                  <a:pt x="60" y="270"/>
                </a:lnTo>
                <a:lnTo>
                  <a:pt x="65" y="273"/>
                </a:lnTo>
                <a:lnTo>
                  <a:pt x="72" y="278"/>
                </a:lnTo>
                <a:lnTo>
                  <a:pt x="78" y="281"/>
                </a:lnTo>
                <a:lnTo>
                  <a:pt x="84" y="285"/>
                </a:lnTo>
                <a:lnTo>
                  <a:pt x="91" y="288"/>
                </a:lnTo>
                <a:lnTo>
                  <a:pt x="98" y="290"/>
                </a:lnTo>
                <a:lnTo>
                  <a:pt x="105" y="292"/>
                </a:lnTo>
                <a:lnTo>
                  <a:pt x="112" y="294"/>
                </a:lnTo>
                <a:lnTo>
                  <a:pt x="119" y="296"/>
                </a:lnTo>
                <a:lnTo>
                  <a:pt x="127" y="297"/>
                </a:lnTo>
                <a:lnTo>
                  <a:pt x="134" y="298"/>
                </a:lnTo>
                <a:lnTo>
                  <a:pt x="142" y="298"/>
                </a:lnTo>
                <a:lnTo>
                  <a:pt x="150" y="299"/>
                </a:lnTo>
                <a:lnTo>
                  <a:pt x="749" y="299"/>
                </a:lnTo>
                <a:lnTo>
                  <a:pt x="757" y="298"/>
                </a:lnTo>
                <a:lnTo>
                  <a:pt x="765" y="298"/>
                </a:lnTo>
                <a:lnTo>
                  <a:pt x="772" y="297"/>
                </a:lnTo>
                <a:lnTo>
                  <a:pt x="779" y="296"/>
                </a:lnTo>
                <a:lnTo>
                  <a:pt x="787" y="294"/>
                </a:lnTo>
                <a:lnTo>
                  <a:pt x="794" y="292"/>
                </a:lnTo>
                <a:lnTo>
                  <a:pt x="802" y="290"/>
                </a:lnTo>
                <a:lnTo>
                  <a:pt x="808" y="288"/>
                </a:lnTo>
                <a:lnTo>
                  <a:pt x="814" y="285"/>
                </a:lnTo>
                <a:lnTo>
                  <a:pt x="821" y="281"/>
                </a:lnTo>
                <a:lnTo>
                  <a:pt x="827" y="278"/>
                </a:lnTo>
                <a:lnTo>
                  <a:pt x="833" y="273"/>
                </a:lnTo>
                <a:lnTo>
                  <a:pt x="840" y="270"/>
                </a:lnTo>
                <a:lnTo>
                  <a:pt x="845" y="266"/>
                </a:lnTo>
                <a:lnTo>
                  <a:pt x="850" y="260"/>
                </a:lnTo>
                <a:lnTo>
                  <a:pt x="855" y="256"/>
                </a:lnTo>
                <a:lnTo>
                  <a:pt x="861" y="250"/>
                </a:lnTo>
                <a:lnTo>
                  <a:pt x="865" y="245"/>
                </a:lnTo>
                <a:lnTo>
                  <a:pt x="870" y="239"/>
                </a:lnTo>
                <a:lnTo>
                  <a:pt x="873" y="234"/>
                </a:lnTo>
                <a:lnTo>
                  <a:pt x="878" y="228"/>
                </a:lnTo>
                <a:lnTo>
                  <a:pt x="881" y="220"/>
                </a:lnTo>
                <a:lnTo>
                  <a:pt x="884" y="214"/>
                </a:lnTo>
                <a:lnTo>
                  <a:pt x="887" y="208"/>
                </a:lnTo>
                <a:lnTo>
                  <a:pt x="890" y="201"/>
                </a:lnTo>
                <a:lnTo>
                  <a:pt x="892" y="194"/>
                </a:lnTo>
                <a:lnTo>
                  <a:pt x="894" y="187"/>
                </a:lnTo>
                <a:lnTo>
                  <a:pt x="897" y="179"/>
                </a:lnTo>
                <a:lnTo>
                  <a:pt x="898" y="172"/>
                </a:lnTo>
                <a:lnTo>
                  <a:pt x="899" y="164"/>
                </a:lnTo>
                <a:lnTo>
                  <a:pt x="899" y="157"/>
                </a:lnTo>
                <a:lnTo>
                  <a:pt x="900" y="150"/>
                </a:lnTo>
                <a:lnTo>
                  <a:pt x="899" y="141"/>
                </a:lnTo>
                <a:lnTo>
                  <a:pt x="899" y="134"/>
                </a:lnTo>
                <a:lnTo>
                  <a:pt x="898" y="126"/>
                </a:lnTo>
                <a:lnTo>
                  <a:pt x="897" y="119"/>
                </a:lnTo>
                <a:lnTo>
                  <a:pt x="894" y="112"/>
                </a:lnTo>
                <a:lnTo>
                  <a:pt x="892" y="104"/>
                </a:lnTo>
                <a:lnTo>
                  <a:pt x="890" y="98"/>
                </a:lnTo>
                <a:lnTo>
                  <a:pt x="887" y="91"/>
                </a:lnTo>
                <a:lnTo>
                  <a:pt x="884" y="84"/>
                </a:lnTo>
                <a:lnTo>
                  <a:pt x="881" y="78"/>
                </a:lnTo>
                <a:lnTo>
                  <a:pt x="878" y="72"/>
                </a:lnTo>
                <a:lnTo>
                  <a:pt x="873" y="65"/>
                </a:lnTo>
                <a:lnTo>
                  <a:pt x="870" y="60"/>
                </a:lnTo>
                <a:lnTo>
                  <a:pt x="865" y="54"/>
                </a:lnTo>
                <a:lnTo>
                  <a:pt x="861" y="48"/>
                </a:lnTo>
                <a:lnTo>
                  <a:pt x="855" y="43"/>
                </a:lnTo>
                <a:lnTo>
                  <a:pt x="850" y="38"/>
                </a:lnTo>
                <a:lnTo>
                  <a:pt x="845" y="34"/>
                </a:lnTo>
                <a:lnTo>
                  <a:pt x="840" y="29"/>
                </a:lnTo>
                <a:lnTo>
                  <a:pt x="833" y="25"/>
                </a:lnTo>
                <a:lnTo>
                  <a:pt x="827" y="21"/>
                </a:lnTo>
                <a:lnTo>
                  <a:pt x="821" y="17"/>
                </a:lnTo>
                <a:lnTo>
                  <a:pt x="814" y="14"/>
                </a:lnTo>
                <a:lnTo>
                  <a:pt x="808" y="10"/>
                </a:lnTo>
                <a:lnTo>
                  <a:pt x="802" y="8"/>
                </a:lnTo>
                <a:lnTo>
                  <a:pt x="794" y="6"/>
                </a:lnTo>
                <a:lnTo>
                  <a:pt x="787" y="4"/>
                </a:lnTo>
                <a:lnTo>
                  <a:pt x="779" y="3"/>
                </a:lnTo>
                <a:lnTo>
                  <a:pt x="772" y="1"/>
                </a:lnTo>
                <a:lnTo>
                  <a:pt x="765" y="0"/>
                </a:lnTo>
                <a:lnTo>
                  <a:pt x="757" y="0"/>
                </a:lnTo>
                <a:lnTo>
                  <a:pt x="749" y="0"/>
                </a:lnTo>
                <a:lnTo>
                  <a:pt x="1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5021280" y="4876920"/>
            <a:ext cx="1428840" cy="476280"/>
          </a:xfrm>
          <a:custGeom>
            <a:avLst/>
            <a:gdLst/>
            <a:ahLst/>
            <a:rect l="l" t="t" r="r" b="b"/>
            <a:pathLst>
              <a:path w="900" h="300">
                <a:moveTo>
                  <a:pt x="150" y="0"/>
                </a:moveTo>
                <a:lnTo>
                  <a:pt x="141" y="0"/>
                </a:lnTo>
                <a:lnTo>
                  <a:pt x="134" y="0"/>
                </a:lnTo>
                <a:lnTo>
                  <a:pt x="127" y="1"/>
                </a:lnTo>
                <a:lnTo>
                  <a:pt x="119" y="3"/>
                </a:lnTo>
                <a:lnTo>
                  <a:pt x="112" y="4"/>
                </a:lnTo>
                <a:lnTo>
                  <a:pt x="106" y="6"/>
                </a:lnTo>
                <a:lnTo>
                  <a:pt x="98" y="8"/>
                </a:lnTo>
                <a:lnTo>
                  <a:pt x="91" y="11"/>
                </a:lnTo>
                <a:lnTo>
                  <a:pt x="85" y="14"/>
                </a:lnTo>
                <a:lnTo>
                  <a:pt x="78" y="17"/>
                </a:lnTo>
                <a:lnTo>
                  <a:pt x="72" y="21"/>
                </a:lnTo>
                <a:lnTo>
                  <a:pt x="66" y="25"/>
                </a:lnTo>
                <a:lnTo>
                  <a:pt x="60" y="30"/>
                </a:lnTo>
                <a:lnTo>
                  <a:pt x="54" y="34"/>
                </a:lnTo>
                <a:lnTo>
                  <a:pt x="49" y="38"/>
                </a:lnTo>
                <a:lnTo>
                  <a:pt x="43" y="43"/>
                </a:lnTo>
                <a:lnTo>
                  <a:pt x="38" y="49"/>
                </a:lnTo>
                <a:lnTo>
                  <a:pt x="34" y="54"/>
                </a:lnTo>
                <a:lnTo>
                  <a:pt x="30" y="60"/>
                </a:lnTo>
                <a:lnTo>
                  <a:pt x="25" y="65"/>
                </a:lnTo>
                <a:lnTo>
                  <a:pt x="21" y="72"/>
                </a:lnTo>
                <a:lnTo>
                  <a:pt x="18" y="78"/>
                </a:lnTo>
                <a:lnTo>
                  <a:pt x="15" y="84"/>
                </a:lnTo>
                <a:lnTo>
                  <a:pt x="12" y="91"/>
                </a:lnTo>
                <a:lnTo>
                  <a:pt x="9" y="98"/>
                </a:lnTo>
                <a:lnTo>
                  <a:pt x="6" y="104"/>
                </a:lnTo>
                <a:lnTo>
                  <a:pt x="4" y="112"/>
                </a:lnTo>
                <a:lnTo>
                  <a:pt x="3" y="119"/>
                </a:lnTo>
                <a:lnTo>
                  <a:pt x="2" y="127"/>
                </a:lnTo>
                <a:lnTo>
                  <a:pt x="0" y="134"/>
                </a:lnTo>
                <a:lnTo>
                  <a:pt x="0" y="141"/>
                </a:lnTo>
                <a:lnTo>
                  <a:pt x="0" y="149"/>
                </a:lnTo>
                <a:lnTo>
                  <a:pt x="0" y="157"/>
                </a:lnTo>
                <a:lnTo>
                  <a:pt x="0" y="165"/>
                </a:lnTo>
                <a:lnTo>
                  <a:pt x="2" y="172"/>
                </a:lnTo>
                <a:lnTo>
                  <a:pt x="3" y="179"/>
                </a:lnTo>
                <a:lnTo>
                  <a:pt x="4" y="187"/>
                </a:lnTo>
                <a:lnTo>
                  <a:pt x="6" y="194"/>
                </a:lnTo>
                <a:lnTo>
                  <a:pt x="9" y="201"/>
                </a:lnTo>
                <a:lnTo>
                  <a:pt x="12" y="208"/>
                </a:lnTo>
                <a:lnTo>
                  <a:pt x="15" y="214"/>
                </a:lnTo>
                <a:lnTo>
                  <a:pt x="18" y="220"/>
                </a:lnTo>
                <a:lnTo>
                  <a:pt x="21" y="227"/>
                </a:lnTo>
                <a:lnTo>
                  <a:pt x="25" y="233"/>
                </a:lnTo>
                <a:lnTo>
                  <a:pt x="30" y="239"/>
                </a:lnTo>
                <a:lnTo>
                  <a:pt x="34" y="245"/>
                </a:lnTo>
                <a:lnTo>
                  <a:pt x="38" y="250"/>
                </a:lnTo>
                <a:lnTo>
                  <a:pt x="43" y="256"/>
                </a:lnTo>
                <a:lnTo>
                  <a:pt x="49" y="261"/>
                </a:lnTo>
                <a:lnTo>
                  <a:pt x="54" y="266"/>
                </a:lnTo>
                <a:lnTo>
                  <a:pt x="60" y="270"/>
                </a:lnTo>
                <a:lnTo>
                  <a:pt x="66" y="273"/>
                </a:lnTo>
                <a:lnTo>
                  <a:pt x="72" y="278"/>
                </a:lnTo>
                <a:lnTo>
                  <a:pt x="78" y="282"/>
                </a:lnTo>
                <a:lnTo>
                  <a:pt x="85" y="285"/>
                </a:lnTo>
                <a:lnTo>
                  <a:pt x="91" y="288"/>
                </a:lnTo>
                <a:lnTo>
                  <a:pt x="98" y="290"/>
                </a:lnTo>
                <a:lnTo>
                  <a:pt x="106" y="292"/>
                </a:lnTo>
                <a:lnTo>
                  <a:pt x="112" y="294"/>
                </a:lnTo>
                <a:lnTo>
                  <a:pt x="119" y="296"/>
                </a:lnTo>
                <a:lnTo>
                  <a:pt x="127" y="297"/>
                </a:lnTo>
                <a:lnTo>
                  <a:pt x="134" y="299"/>
                </a:lnTo>
                <a:lnTo>
                  <a:pt x="141" y="299"/>
                </a:lnTo>
                <a:lnTo>
                  <a:pt x="150" y="300"/>
                </a:lnTo>
                <a:lnTo>
                  <a:pt x="749" y="300"/>
                </a:lnTo>
                <a:lnTo>
                  <a:pt x="756" y="299"/>
                </a:lnTo>
                <a:lnTo>
                  <a:pt x="765" y="299"/>
                </a:lnTo>
                <a:lnTo>
                  <a:pt x="772" y="297"/>
                </a:lnTo>
                <a:lnTo>
                  <a:pt x="780" y="296"/>
                </a:lnTo>
                <a:lnTo>
                  <a:pt x="787" y="294"/>
                </a:lnTo>
                <a:lnTo>
                  <a:pt x="794" y="292"/>
                </a:lnTo>
                <a:lnTo>
                  <a:pt x="802" y="290"/>
                </a:lnTo>
                <a:lnTo>
                  <a:pt x="808" y="288"/>
                </a:lnTo>
                <a:lnTo>
                  <a:pt x="814" y="285"/>
                </a:lnTo>
                <a:lnTo>
                  <a:pt x="821" y="282"/>
                </a:lnTo>
                <a:lnTo>
                  <a:pt x="827" y="278"/>
                </a:lnTo>
                <a:lnTo>
                  <a:pt x="833" y="273"/>
                </a:lnTo>
                <a:lnTo>
                  <a:pt x="840" y="270"/>
                </a:lnTo>
                <a:lnTo>
                  <a:pt x="845" y="266"/>
                </a:lnTo>
                <a:lnTo>
                  <a:pt x="850" y="261"/>
                </a:lnTo>
                <a:lnTo>
                  <a:pt x="856" y="256"/>
                </a:lnTo>
                <a:lnTo>
                  <a:pt x="861" y="250"/>
                </a:lnTo>
                <a:lnTo>
                  <a:pt x="865" y="245"/>
                </a:lnTo>
                <a:lnTo>
                  <a:pt x="870" y="239"/>
                </a:lnTo>
                <a:lnTo>
                  <a:pt x="874" y="233"/>
                </a:lnTo>
                <a:lnTo>
                  <a:pt x="878" y="227"/>
                </a:lnTo>
                <a:lnTo>
                  <a:pt x="881" y="220"/>
                </a:lnTo>
                <a:lnTo>
                  <a:pt x="884" y="214"/>
                </a:lnTo>
                <a:lnTo>
                  <a:pt x="887" y="208"/>
                </a:lnTo>
                <a:lnTo>
                  <a:pt x="890" y="201"/>
                </a:lnTo>
                <a:lnTo>
                  <a:pt x="893" y="194"/>
                </a:lnTo>
                <a:lnTo>
                  <a:pt x="895" y="187"/>
                </a:lnTo>
                <a:lnTo>
                  <a:pt x="897" y="179"/>
                </a:lnTo>
                <a:lnTo>
                  <a:pt x="898" y="172"/>
                </a:lnTo>
                <a:lnTo>
                  <a:pt x="899" y="165"/>
                </a:lnTo>
                <a:lnTo>
                  <a:pt x="899" y="157"/>
                </a:lnTo>
                <a:lnTo>
                  <a:pt x="900" y="149"/>
                </a:lnTo>
                <a:lnTo>
                  <a:pt x="899" y="141"/>
                </a:lnTo>
                <a:lnTo>
                  <a:pt x="899" y="134"/>
                </a:lnTo>
                <a:lnTo>
                  <a:pt x="898" y="127"/>
                </a:lnTo>
                <a:lnTo>
                  <a:pt x="897" y="119"/>
                </a:lnTo>
                <a:lnTo>
                  <a:pt x="895" y="112"/>
                </a:lnTo>
                <a:lnTo>
                  <a:pt x="893" y="104"/>
                </a:lnTo>
                <a:lnTo>
                  <a:pt x="890" y="98"/>
                </a:lnTo>
                <a:lnTo>
                  <a:pt x="887" y="91"/>
                </a:lnTo>
                <a:lnTo>
                  <a:pt x="884" y="84"/>
                </a:lnTo>
                <a:lnTo>
                  <a:pt x="881" y="78"/>
                </a:lnTo>
                <a:lnTo>
                  <a:pt x="878" y="72"/>
                </a:lnTo>
                <a:lnTo>
                  <a:pt x="874" y="65"/>
                </a:lnTo>
                <a:lnTo>
                  <a:pt x="870" y="60"/>
                </a:lnTo>
                <a:lnTo>
                  <a:pt x="865" y="54"/>
                </a:lnTo>
                <a:lnTo>
                  <a:pt x="861" y="49"/>
                </a:lnTo>
                <a:lnTo>
                  <a:pt x="856" y="43"/>
                </a:lnTo>
                <a:lnTo>
                  <a:pt x="850" y="38"/>
                </a:lnTo>
                <a:lnTo>
                  <a:pt x="845" y="34"/>
                </a:lnTo>
                <a:lnTo>
                  <a:pt x="840" y="30"/>
                </a:lnTo>
                <a:lnTo>
                  <a:pt x="833" y="25"/>
                </a:lnTo>
                <a:lnTo>
                  <a:pt x="827" y="21"/>
                </a:lnTo>
                <a:lnTo>
                  <a:pt x="821" y="17"/>
                </a:lnTo>
                <a:lnTo>
                  <a:pt x="814" y="14"/>
                </a:lnTo>
                <a:lnTo>
                  <a:pt x="808" y="11"/>
                </a:lnTo>
                <a:lnTo>
                  <a:pt x="802" y="8"/>
                </a:lnTo>
                <a:lnTo>
                  <a:pt x="794" y="6"/>
                </a:lnTo>
                <a:lnTo>
                  <a:pt x="787" y="4"/>
                </a:lnTo>
                <a:lnTo>
                  <a:pt x="780" y="3"/>
                </a:lnTo>
                <a:lnTo>
                  <a:pt x="772" y="1"/>
                </a:lnTo>
                <a:lnTo>
                  <a:pt x="765" y="0"/>
                </a:lnTo>
                <a:lnTo>
                  <a:pt x="756" y="0"/>
                </a:lnTo>
                <a:lnTo>
                  <a:pt x="749" y="0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021280" y="4876920"/>
            <a:ext cx="1428840" cy="476280"/>
          </a:xfrm>
          <a:custGeom>
            <a:avLst/>
            <a:gdLst/>
            <a:ahLst/>
            <a:rect l="l" t="t" r="r" b="b"/>
            <a:pathLst>
              <a:path w="900" h="300">
                <a:moveTo>
                  <a:pt x="150" y="0"/>
                </a:moveTo>
                <a:lnTo>
                  <a:pt x="141" y="0"/>
                </a:lnTo>
                <a:lnTo>
                  <a:pt x="134" y="0"/>
                </a:lnTo>
                <a:lnTo>
                  <a:pt x="127" y="1"/>
                </a:lnTo>
                <a:lnTo>
                  <a:pt x="119" y="3"/>
                </a:lnTo>
                <a:lnTo>
                  <a:pt x="112" y="4"/>
                </a:lnTo>
                <a:lnTo>
                  <a:pt x="106" y="6"/>
                </a:lnTo>
                <a:lnTo>
                  <a:pt x="98" y="8"/>
                </a:lnTo>
                <a:lnTo>
                  <a:pt x="91" y="11"/>
                </a:lnTo>
                <a:lnTo>
                  <a:pt x="85" y="14"/>
                </a:lnTo>
                <a:lnTo>
                  <a:pt x="78" y="17"/>
                </a:lnTo>
                <a:lnTo>
                  <a:pt x="72" y="21"/>
                </a:lnTo>
                <a:lnTo>
                  <a:pt x="66" y="25"/>
                </a:lnTo>
                <a:lnTo>
                  <a:pt x="60" y="30"/>
                </a:lnTo>
                <a:lnTo>
                  <a:pt x="54" y="34"/>
                </a:lnTo>
                <a:lnTo>
                  <a:pt x="49" y="38"/>
                </a:lnTo>
                <a:lnTo>
                  <a:pt x="43" y="43"/>
                </a:lnTo>
                <a:lnTo>
                  <a:pt x="38" y="49"/>
                </a:lnTo>
                <a:lnTo>
                  <a:pt x="34" y="54"/>
                </a:lnTo>
                <a:lnTo>
                  <a:pt x="30" y="60"/>
                </a:lnTo>
                <a:lnTo>
                  <a:pt x="25" y="65"/>
                </a:lnTo>
                <a:lnTo>
                  <a:pt x="21" y="72"/>
                </a:lnTo>
                <a:lnTo>
                  <a:pt x="18" y="78"/>
                </a:lnTo>
                <a:lnTo>
                  <a:pt x="15" y="84"/>
                </a:lnTo>
                <a:lnTo>
                  <a:pt x="12" y="91"/>
                </a:lnTo>
                <a:lnTo>
                  <a:pt x="9" y="98"/>
                </a:lnTo>
                <a:lnTo>
                  <a:pt x="6" y="104"/>
                </a:lnTo>
                <a:lnTo>
                  <a:pt x="4" y="112"/>
                </a:lnTo>
                <a:lnTo>
                  <a:pt x="3" y="119"/>
                </a:lnTo>
                <a:lnTo>
                  <a:pt x="2" y="127"/>
                </a:lnTo>
                <a:lnTo>
                  <a:pt x="0" y="134"/>
                </a:lnTo>
                <a:lnTo>
                  <a:pt x="0" y="141"/>
                </a:lnTo>
                <a:lnTo>
                  <a:pt x="0" y="149"/>
                </a:lnTo>
                <a:lnTo>
                  <a:pt x="0" y="157"/>
                </a:lnTo>
                <a:lnTo>
                  <a:pt x="0" y="165"/>
                </a:lnTo>
                <a:lnTo>
                  <a:pt x="2" y="172"/>
                </a:lnTo>
                <a:lnTo>
                  <a:pt x="3" y="179"/>
                </a:lnTo>
                <a:lnTo>
                  <a:pt x="4" y="187"/>
                </a:lnTo>
                <a:lnTo>
                  <a:pt x="6" y="194"/>
                </a:lnTo>
                <a:lnTo>
                  <a:pt x="9" y="201"/>
                </a:lnTo>
                <a:lnTo>
                  <a:pt x="12" y="208"/>
                </a:lnTo>
                <a:lnTo>
                  <a:pt x="15" y="214"/>
                </a:lnTo>
                <a:lnTo>
                  <a:pt x="18" y="220"/>
                </a:lnTo>
                <a:lnTo>
                  <a:pt x="21" y="227"/>
                </a:lnTo>
                <a:lnTo>
                  <a:pt x="25" y="233"/>
                </a:lnTo>
                <a:lnTo>
                  <a:pt x="30" y="239"/>
                </a:lnTo>
                <a:lnTo>
                  <a:pt x="34" y="245"/>
                </a:lnTo>
                <a:lnTo>
                  <a:pt x="38" y="250"/>
                </a:lnTo>
                <a:lnTo>
                  <a:pt x="43" y="256"/>
                </a:lnTo>
                <a:lnTo>
                  <a:pt x="49" y="261"/>
                </a:lnTo>
                <a:lnTo>
                  <a:pt x="54" y="266"/>
                </a:lnTo>
                <a:lnTo>
                  <a:pt x="60" y="270"/>
                </a:lnTo>
                <a:lnTo>
                  <a:pt x="66" y="273"/>
                </a:lnTo>
                <a:lnTo>
                  <a:pt x="72" y="278"/>
                </a:lnTo>
                <a:lnTo>
                  <a:pt x="78" y="282"/>
                </a:lnTo>
                <a:lnTo>
                  <a:pt x="85" y="285"/>
                </a:lnTo>
                <a:lnTo>
                  <a:pt x="91" y="288"/>
                </a:lnTo>
                <a:lnTo>
                  <a:pt x="98" y="290"/>
                </a:lnTo>
                <a:lnTo>
                  <a:pt x="106" y="292"/>
                </a:lnTo>
                <a:lnTo>
                  <a:pt x="112" y="294"/>
                </a:lnTo>
                <a:lnTo>
                  <a:pt x="119" y="296"/>
                </a:lnTo>
                <a:lnTo>
                  <a:pt x="127" y="297"/>
                </a:lnTo>
                <a:lnTo>
                  <a:pt x="134" y="299"/>
                </a:lnTo>
                <a:lnTo>
                  <a:pt x="141" y="299"/>
                </a:lnTo>
                <a:lnTo>
                  <a:pt x="150" y="300"/>
                </a:lnTo>
                <a:lnTo>
                  <a:pt x="749" y="300"/>
                </a:lnTo>
                <a:lnTo>
                  <a:pt x="756" y="299"/>
                </a:lnTo>
                <a:lnTo>
                  <a:pt x="765" y="299"/>
                </a:lnTo>
                <a:lnTo>
                  <a:pt x="772" y="297"/>
                </a:lnTo>
                <a:lnTo>
                  <a:pt x="780" y="296"/>
                </a:lnTo>
                <a:lnTo>
                  <a:pt x="787" y="294"/>
                </a:lnTo>
                <a:lnTo>
                  <a:pt x="794" y="292"/>
                </a:lnTo>
                <a:lnTo>
                  <a:pt x="802" y="290"/>
                </a:lnTo>
                <a:lnTo>
                  <a:pt x="808" y="288"/>
                </a:lnTo>
                <a:lnTo>
                  <a:pt x="814" y="285"/>
                </a:lnTo>
                <a:lnTo>
                  <a:pt x="821" y="282"/>
                </a:lnTo>
                <a:lnTo>
                  <a:pt x="827" y="278"/>
                </a:lnTo>
                <a:lnTo>
                  <a:pt x="833" y="273"/>
                </a:lnTo>
                <a:lnTo>
                  <a:pt x="840" y="270"/>
                </a:lnTo>
                <a:lnTo>
                  <a:pt x="845" y="266"/>
                </a:lnTo>
                <a:lnTo>
                  <a:pt x="850" y="261"/>
                </a:lnTo>
                <a:lnTo>
                  <a:pt x="856" y="256"/>
                </a:lnTo>
                <a:lnTo>
                  <a:pt x="861" y="250"/>
                </a:lnTo>
                <a:lnTo>
                  <a:pt x="865" y="245"/>
                </a:lnTo>
                <a:lnTo>
                  <a:pt x="870" y="239"/>
                </a:lnTo>
                <a:lnTo>
                  <a:pt x="874" y="233"/>
                </a:lnTo>
                <a:lnTo>
                  <a:pt x="878" y="227"/>
                </a:lnTo>
                <a:lnTo>
                  <a:pt x="881" y="220"/>
                </a:lnTo>
                <a:lnTo>
                  <a:pt x="884" y="214"/>
                </a:lnTo>
                <a:lnTo>
                  <a:pt x="887" y="208"/>
                </a:lnTo>
                <a:lnTo>
                  <a:pt x="890" y="201"/>
                </a:lnTo>
                <a:lnTo>
                  <a:pt x="893" y="194"/>
                </a:lnTo>
                <a:lnTo>
                  <a:pt x="895" y="187"/>
                </a:lnTo>
                <a:lnTo>
                  <a:pt x="897" y="179"/>
                </a:lnTo>
                <a:lnTo>
                  <a:pt x="898" y="172"/>
                </a:lnTo>
                <a:lnTo>
                  <a:pt x="899" y="165"/>
                </a:lnTo>
                <a:lnTo>
                  <a:pt x="899" y="157"/>
                </a:lnTo>
                <a:lnTo>
                  <a:pt x="900" y="149"/>
                </a:lnTo>
                <a:lnTo>
                  <a:pt x="899" y="141"/>
                </a:lnTo>
                <a:lnTo>
                  <a:pt x="899" y="134"/>
                </a:lnTo>
                <a:lnTo>
                  <a:pt x="898" y="127"/>
                </a:lnTo>
                <a:lnTo>
                  <a:pt x="897" y="119"/>
                </a:lnTo>
                <a:lnTo>
                  <a:pt x="895" y="112"/>
                </a:lnTo>
                <a:lnTo>
                  <a:pt x="893" y="104"/>
                </a:lnTo>
                <a:lnTo>
                  <a:pt x="890" y="98"/>
                </a:lnTo>
                <a:lnTo>
                  <a:pt x="887" y="91"/>
                </a:lnTo>
                <a:lnTo>
                  <a:pt x="884" y="84"/>
                </a:lnTo>
                <a:lnTo>
                  <a:pt x="881" y="78"/>
                </a:lnTo>
                <a:lnTo>
                  <a:pt x="878" y="72"/>
                </a:lnTo>
                <a:lnTo>
                  <a:pt x="874" y="65"/>
                </a:lnTo>
                <a:lnTo>
                  <a:pt x="870" y="60"/>
                </a:lnTo>
                <a:lnTo>
                  <a:pt x="865" y="54"/>
                </a:lnTo>
                <a:lnTo>
                  <a:pt x="861" y="49"/>
                </a:lnTo>
                <a:lnTo>
                  <a:pt x="856" y="43"/>
                </a:lnTo>
                <a:lnTo>
                  <a:pt x="850" y="38"/>
                </a:lnTo>
                <a:lnTo>
                  <a:pt x="845" y="34"/>
                </a:lnTo>
                <a:lnTo>
                  <a:pt x="840" y="30"/>
                </a:lnTo>
                <a:lnTo>
                  <a:pt x="833" y="25"/>
                </a:lnTo>
                <a:lnTo>
                  <a:pt x="827" y="21"/>
                </a:lnTo>
                <a:lnTo>
                  <a:pt x="821" y="17"/>
                </a:lnTo>
                <a:lnTo>
                  <a:pt x="814" y="14"/>
                </a:lnTo>
                <a:lnTo>
                  <a:pt x="808" y="11"/>
                </a:lnTo>
                <a:lnTo>
                  <a:pt x="802" y="8"/>
                </a:lnTo>
                <a:lnTo>
                  <a:pt x="794" y="6"/>
                </a:lnTo>
                <a:lnTo>
                  <a:pt x="787" y="4"/>
                </a:lnTo>
                <a:lnTo>
                  <a:pt x="780" y="3"/>
                </a:lnTo>
                <a:lnTo>
                  <a:pt x="772" y="1"/>
                </a:lnTo>
                <a:lnTo>
                  <a:pt x="765" y="0"/>
                </a:lnTo>
                <a:lnTo>
                  <a:pt x="756" y="0"/>
                </a:lnTo>
                <a:lnTo>
                  <a:pt x="749" y="0"/>
                </a:lnTo>
                <a:lnTo>
                  <a:pt x="15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rot="16200000">
            <a:off x="295920" y="3287160"/>
            <a:ext cx="30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Futura Md BT"/>
              </a:rPr>
              <a:t>ПУЛ</a:t>
            </a:r>
            <a:r>
              <a:rPr b="1" lang="en-US" sz="1600" spc="-1" strike="noStrike">
                <a:solidFill>
                  <a:srgbClr val="333399"/>
                </a:solidFill>
                <a:latin typeface="Futura Md BT"/>
              </a:rPr>
              <a:t>/</a:t>
            </a:r>
            <a:r>
              <a:rPr b="1" lang="uk-UA" sz="1600" spc="-1" strike="noStrike">
                <a:solidFill>
                  <a:srgbClr val="333399"/>
                </a:solidFill>
                <a:latin typeface="Futura Md BT"/>
              </a:rPr>
              <a:t>Ринок єдиного покупц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rot="5400000">
            <a:off x="5047200" y="3477240"/>
            <a:ext cx="354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Futura Md BT"/>
              </a:rPr>
              <a:t>Балансуючий ринок і двосторонні догов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468360" y="22716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Фізичне функціонування системи координується централі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2225520" y="4897440"/>
            <a:ext cx="1347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Arial"/>
              </a:rPr>
              <a:t>Некваліфіковані споживач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018040" y="4878360"/>
            <a:ext cx="143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Arial"/>
              </a:rPr>
              <a:t>Кваліфіковані споживач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2166840" y="3925800"/>
            <a:ext cx="4283280" cy="23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B967-7CF4-4598-BC96-B053F059CD0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/>
          <p:nvPr/>
        </p:nvSpPr>
        <p:spPr>
          <a:xfrm>
            <a:off x="468360" y="171360"/>
            <a:ext cx="82184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Система постачання на етапах 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015920" y="1397160"/>
            <a:ext cx="50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2209680" y="1397160"/>
            <a:ext cx="50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556080" y="1409760"/>
            <a:ext cx="50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4927680" y="1397160"/>
            <a:ext cx="50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6337440" y="1422360"/>
            <a:ext cx="50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1003320" y="3517920"/>
            <a:ext cx="2819520" cy="2044800"/>
          </a:xfrm>
          <a:prstGeom prst="hexagon">
            <a:avLst>
              <a:gd name="adj" fmla="val 34472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1587600" y="55879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6692760" y="3949560"/>
            <a:ext cx="1282680" cy="73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6705720" y="3975120"/>
            <a:ext cx="116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незалеж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1943280" y="3683160"/>
            <a:ext cx="8254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790640" y="3619440"/>
            <a:ext cx="1282680" cy="736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962520" y="4699080"/>
            <a:ext cx="1714320" cy="1320840"/>
          </a:xfrm>
          <a:prstGeom prst="hexagon">
            <a:avLst>
              <a:gd name="adj" fmla="val 3244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5041800" y="56642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2882880" y="2171880"/>
            <a:ext cx="1701720" cy="9651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2793960" y="2298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П Енергор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1409760" y="4444920"/>
            <a:ext cx="228600" cy="2034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793960" y="5041800"/>
            <a:ext cx="228600" cy="2034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4470480" y="5638680"/>
            <a:ext cx="228600" cy="2034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3149640" y="4419720"/>
            <a:ext cx="228600" cy="2030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4686480" y="5029200"/>
            <a:ext cx="228600" cy="2030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4902120" y="5435640"/>
            <a:ext cx="228600" cy="2030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1994040" y="5105520"/>
            <a:ext cx="228600" cy="2030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1295280" y="1866960"/>
            <a:ext cx="1575000" cy="71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2590920" y="1854360"/>
            <a:ext cx="52056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3822840" y="18795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4508280" y="1854360"/>
            <a:ext cx="68580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 flipH="1">
            <a:off x="4571640" y="1879560"/>
            <a:ext cx="199404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168880" y="1892160"/>
            <a:ext cx="1968480" cy="207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642000" y="1892160"/>
            <a:ext cx="851040" cy="207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2933640" y="3124080"/>
            <a:ext cx="55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H="1">
            <a:off x="1562040" y="4254480"/>
            <a:ext cx="432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>
            <a:off x="3289320" y="4330800"/>
            <a:ext cx="33782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5041800" y="4584600"/>
            <a:ext cx="1866960" cy="9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4470480" y="2959200"/>
            <a:ext cx="2374920" cy="1104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rot="1434600">
            <a:off x="4774320" y="306540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бала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AB4E-7003-48A0-8666-22B6D3DFCD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/>
          <p:nvPr/>
        </p:nvSpPr>
        <p:spPr>
          <a:xfrm>
            <a:off x="1015920" y="1397160"/>
            <a:ext cx="50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2209680" y="1397160"/>
            <a:ext cx="50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556080" y="1409760"/>
            <a:ext cx="50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4927680" y="1397160"/>
            <a:ext cx="50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6337440" y="1422360"/>
            <a:ext cx="50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1003320" y="3517920"/>
            <a:ext cx="2819520" cy="2044800"/>
          </a:xfrm>
          <a:prstGeom prst="hexagon">
            <a:avLst>
              <a:gd name="adj" fmla="val 34472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1587600" y="55879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6692760" y="3949560"/>
            <a:ext cx="1282680" cy="73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6680160" y="3975120"/>
            <a:ext cx="11937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незалеж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2006640" y="3670200"/>
            <a:ext cx="7621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790640" y="3619440"/>
            <a:ext cx="1282680" cy="736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962520" y="4699080"/>
            <a:ext cx="1714320" cy="1320840"/>
          </a:xfrm>
          <a:prstGeom prst="hexagon">
            <a:avLst>
              <a:gd name="adj" fmla="val 3244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5041800" y="56642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2882880" y="2171880"/>
            <a:ext cx="1701720" cy="9651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2844720" y="229860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П Енергор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409760" y="4444920"/>
            <a:ext cx="228600" cy="2034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2793960" y="5041800"/>
            <a:ext cx="228600" cy="2034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4470480" y="5638680"/>
            <a:ext cx="228600" cy="2034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149640" y="4419720"/>
            <a:ext cx="228600" cy="2030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4686480" y="5029200"/>
            <a:ext cx="228600" cy="2030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4902120" y="5435640"/>
            <a:ext cx="228600" cy="2030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994040" y="5105520"/>
            <a:ext cx="228600" cy="2030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295280" y="1866960"/>
            <a:ext cx="1575000" cy="71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2590920" y="1854360"/>
            <a:ext cx="52056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3822840" y="18795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4508280" y="1854360"/>
            <a:ext cx="68580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 flipH="1">
            <a:off x="4571640" y="1879560"/>
            <a:ext cx="199404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168880" y="1892160"/>
            <a:ext cx="1968480" cy="207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6642000" y="1892160"/>
            <a:ext cx="851040" cy="207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 flipH="1">
            <a:off x="2933640" y="3124080"/>
            <a:ext cx="55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 flipH="1">
            <a:off x="1562040" y="4254480"/>
            <a:ext cx="432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3289320" y="4330800"/>
            <a:ext cx="33782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H="1">
            <a:off x="5054760" y="4584600"/>
            <a:ext cx="1854000" cy="9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444920" y="2933640"/>
            <a:ext cx="2400480" cy="113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 rot="1434600">
            <a:off x="4774320" y="306540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бала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4114800" y="3619440"/>
            <a:ext cx="774720" cy="646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3911760" y="3568680"/>
            <a:ext cx="1282680" cy="736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4686120" y="1854360"/>
            <a:ext cx="50796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5092200" y="1879560"/>
            <a:ext cx="1498680" cy="18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4089240" y="3137040"/>
            <a:ext cx="444600" cy="431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4635360" y="4305240"/>
            <a:ext cx="15264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2984400" y="4241880"/>
            <a:ext cx="1270080" cy="8762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7264440" y="1308240"/>
            <a:ext cx="144792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пустити чи ні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468360" y="171360"/>
            <a:ext cx="82184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Система постачання на етапах 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703A-95A3-4315-9D77-6AFD9D7A93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/>
          <p:nvPr/>
        </p:nvSpPr>
        <p:spPr>
          <a:xfrm>
            <a:off x="676440" y="1219320"/>
            <a:ext cx="7681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calaSans-Italic"/>
              </a:rPr>
              <a:t>“</a:t>
            </a:r>
            <a:r>
              <a:rPr b="0" i="1" lang="uk-UA" sz="2400" spc="-1" strike="noStrike">
                <a:solidFill>
                  <a:srgbClr val="000000"/>
                </a:solidFill>
                <a:latin typeface="ScalaSans-Italic"/>
              </a:rPr>
              <a:t>Ринки електроенергії не викристалізовуються самостійно через “невидиму руку”</a:t>
            </a:r>
            <a:r>
              <a:rPr b="0" lang="en-US" sz="2400" spc="-1" strike="noStrike">
                <a:solidFill>
                  <a:srgbClr val="000000"/>
                </a:solidFill>
                <a:latin typeface="ScalaSans"/>
              </a:rPr>
              <a:t> (</a:t>
            </a:r>
            <a:r>
              <a:rPr b="0" lang="uk-UA" sz="2400" spc="-1" strike="noStrike">
                <a:solidFill>
                  <a:srgbClr val="000000"/>
                </a:solidFill>
                <a:latin typeface="ScalaSans"/>
              </a:rPr>
              <a:t>Йосков</a:t>
            </a:r>
            <a:r>
              <a:rPr b="0" lang="en-US" sz="2400" spc="-1" strike="noStrike">
                <a:solidFill>
                  <a:srgbClr val="000000"/>
                </a:solidFill>
                <a:latin typeface="ScalaSans"/>
              </a:rPr>
              <a:t>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calaSans-Ital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calaSans-Italic"/>
              </a:rPr>
              <a:t>“</a:t>
            </a:r>
            <a:r>
              <a:rPr b="0" i="1" lang="uk-UA" sz="2400" spc="-1" strike="noStrike">
                <a:solidFill>
                  <a:srgbClr val="000000"/>
                </a:solidFill>
                <a:latin typeface="ScalaSans-Italic"/>
              </a:rPr>
              <a:t>Ринки електроенергії потрібно будувати, вони не можуть раптом виникнути</a:t>
            </a:r>
            <a:r>
              <a:rPr b="0" i="1" lang="en-US" sz="2400" spc="-1" strike="noStrike">
                <a:solidFill>
                  <a:srgbClr val="000000"/>
                </a:solidFill>
                <a:latin typeface="ScalaSans-Italic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ScalaSans"/>
              </a:rPr>
              <a:t> (</a:t>
            </a:r>
            <a:r>
              <a:rPr b="0" lang="uk-UA" sz="2400" spc="-1" strike="noStrike">
                <a:solidFill>
                  <a:srgbClr val="000000"/>
                </a:solidFill>
                <a:latin typeface="ScalaSans"/>
              </a:rPr>
              <a:t>Хоган</a:t>
            </a:r>
            <a:r>
              <a:rPr b="0" lang="en-US" sz="2400" spc="-1" strike="noStrike">
                <a:solidFill>
                  <a:srgbClr val="000000"/>
                </a:solidFill>
                <a:latin typeface="ScalaSans"/>
              </a:rPr>
              <a:t>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468360" y="171360"/>
            <a:ext cx="82184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Наприкінц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482760" y="4470480"/>
            <a:ext cx="82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Сучасний конкурентний ринок електроенергії в Україні необхідно будувати сумісними зусиллями усіх учасників і зацікавлених стор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14D6-FD32-45B8-A57A-E0F7FBF467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44784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Мета проекту 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ити та узгодити докладну архітектуру нового ринку и процесу переходу до нього, конкретизуючи або коригуючи Концепці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ити проекти усіх документів, необхідних для функціонування нового ринк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сти навчання, роз'яснювання, тренування та створити імітаційну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рекомендації щодо організації впровад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ED22-B4E8-4F90-ABFE-E4721D76CA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3000" y="1371600"/>
            <a:ext cx="1604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яці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-5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08920" y="1303200"/>
            <a:ext cx="165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яці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8-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060640" y="766800"/>
          <a:ext cx="5207040" cy="51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766800"/>
                    <a:ext cx="520704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7280" y="152280"/>
            <a:ext cx="8615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Напрями робі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BDFB-0F68-40C0-8B0A-B5C27D901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3000" y="1371600"/>
            <a:ext cx="1604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яці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-5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08920" y="1303200"/>
            <a:ext cx="165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яці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8-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60640" y="766800"/>
          <a:ext cx="5207040" cy="51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766800"/>
                    <a:ext cx="520704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7280" y="152280"/>
            <a:ext cx="8615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Напрями робі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3073320"/>
            <a:ext cx="1651320" cy="812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2880" y="4267080"/>
            <a:ext cx="3911400" cy="133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орядження КМ №1056-р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 28 листопада 2007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хід до нового ринк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2009 до 2014 року в 4 етап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3495-B430-4A25-AB07-4C9CAD1B01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7280" y="152280"/>
            <a:ext cx="8615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Напрями робі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2463840"/>
            <a:ext cx="482760" cy="2984400"/>
          </a:xfrm>
          <a:custGeom>
            <a:avLst/>
            <a:gdLst>
              <a:gd name="textAreaLeft" fmla="*/ 0 w 482760"/>
              <a:gd name="textAreaRight" fmla="*/ 483120 w 48276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31000" y="927000"/>
            <a:ext cx="3105000" cy="506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228600" indent="-228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же надані проекти документ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тальний опис функціонування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декс магістральних мер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авила комерційного обл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 про ринок електро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рхітектура інформаційних систем і прогноз коштори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руктура впровадження  нового ри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5520" y="817560"/>
          <a:ext cx="52056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817560"/>
                    <a:ext cx="52056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3200" y="3137040"/>
            <a:ext cx="1650960" cy="81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4292640"/>
            <a:ext cx="287028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озпорядження КМ №1056-р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ід 28 листопада 2007 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ехід до нового ринку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 2009 до 2014 року в 4 етап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BD0D-4D51-452A-9593-B8255BB533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Arial"/>
              </a:rPr>
              <a:t>Зміс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туп до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Ключові характеристики нового ринк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цес переход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A806-9910-497C-A0A9-6D82D0B981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631800" y="1341360"/>
            <a:ext cx="7665840" cy="4560840"/>
            <a:chOff x="631800" y="1341360"/>
            <a:chExt cx="7665840" cy="4560840"/>
          </a:xfrm>
        </p:grpSpPr>
        <p:grpSp>
          <p:nvGrpSpPr>
            <p:cNvPr id="80" name=""/>
            <p:cNvGrpSpPr/>
            <p:nvPr/>
          </p:nvGrpSpPr>
          <p:grpSpPr>
            <a:xfrm>
              <a:off x="631800" y="5487840"/>
              <a:ext cx="7596000" cy="414360"/>
              <a:chOff x="631800" y="5487840"/>
              <a:chExt cx="7596000" cy="414360"/>
            </a:xfrm>
          </p:grpSpPr>
          <p:sp>
            <p:nvSpPr>
              <p:cNvPr id="81" name=""/>
              <p:cNvSpPr/>
              <p:nvPr/>
            </p:nvSpPr>
            <p:spPr>
              <a:xfrm>
                <a:off x="631800" y="5492520"/>
                <a:ext cx="2350440" cy="409680"/>
              </a:xfrm>
              <a:custGeom>
                <a:avLst/>
                <a:gdLst/>
                <a:ahLst/>
                <a:rect l="l" t="t" r="r" b="b"/>
                <a:pathLst>
                  <a:path w="3102" h="258">
                    <a:moveTo>
                      <a:pt x="2703" y="0"/>
                    </a:moveTo>
                    <a:lnTo>
                      <a:pt x="0" y="0"/>
                    </a:lnTo>
                    <a:lnTo>
                      <a:pt x="398" y="128"/>
                    </a:lnTo>
                    <a:lnTo>
                      <a:pt x="0" y="258"/>
                    </a:lnTo>
                    <a:lnTo>
                      <a:pt x="2703" y="258"/>
                    </a:lnTo>
                    <a:lnTo>
                      <a:pt x="3102" y="128"/>
                    </a:lnTo>
                    <a:lnTo>
                      <a:pt x="270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21760" y="5591160"/>
                <a:ext cx="1358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500" spc="-1" strike="noStrike">
                    <a:solidFill>
                      <a:srgbClr val="000000"/>
                    </a:solidFill>
                    <a:latin typeface="Arial"/>
                  </a:rPr>
                  <a:t>Виробництво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89680" y="5492520"/>
                <a:ext cx="2315160" cy="409680"/>
              </a:xfrm>
              <a:custGeom>
                <a:avLst/>
                <a:gdLst/>
                <a:ahLst/>
                <a:rect l="l" t="t" r="r" b="b"/>
                <a:pathLst>
                  <a:path w="3054" h="258">
                    <a:moveTo>
                      <a:pt x="2661" y="0"/>
                    </a:moveTo>
                    <a:lnTo>
                      <a:pt x="0" y="0"/>
                    </a:lnTo>
                    <a:lnTo>
                      <a:pt x="393" y="128"/>
                    </a:lnTo>
                    <a:lnTo>
                      <a:pt x="0" y="258"/>
                    </a:lnTo>
                    <a:lnTo>
                      <a:pt x="2661" y="258"/>
                    </a:lnTo>
                    <a:lnTo>
                      <a:pt x="3054" y="128"/>
                    </a:lnTo>
                    <a:lnTo>
                      <a:pt x="2661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983760" y="5591160"/>
                <a:ext cx="909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500" spc="-1" strike="noStrike">
                    <a:solidFill>
                      <a:srgbClr val="000000"/>
                    </a:solidFill>
                    <a:latin typeface="Arial"/>
                  </a:rPr>
                  <a:t>Передача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914080" y="5487840"/>
                <a:ext cx="2313720" cy="409680"/>
              </a:xfrm>
              <a:custGeom>
                <a:avLst/>
                <a:gdLst/>
                <a:ahLst/>
                <a:rect l="l" t="t" r="r" b="b"/>
                <a:pathLst>
                  <a:path w="3054" h="258">
                    <a:moveTo>
                      <a:pt x="2662" y="0"/>
                    </a:moveTo>
                    <a:lnTo>
                      <a:pt x="0" y="0"/>
                    </a:lnTo>
                    <a:lnTo>
                      <a:pt x="393" y="128"/>
                    </a:lnTo>
                    <a:lnTo>
                      <a:pt x="0" y="258"/>
                    </a:lnTo>
                    <a:lnTo>
                      <a:pt x="2662" y="258"/>
                    </a:lnTo>
                    <a:lnTo>
                      <a:pt x="3054" y="128"/>
                    </a:lnTo>
                    <a:lnTo>
                      <a:pt x="2662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58760" y="5586120"/>
                <a:ext cx="1192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500" spc="-1" strike="noStrike">
                    <a:solidFill>
                      <a:srgbClr val="000000"/>
                    </a:solidFill>
                    <a:latin typeface="Arial"/>
                  </a:rPr>
                  <a:t>Споживанн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31800" y="2336760"/>
              <a:ext cx="1185840" cy="2536200"/>
              <a:chOff x="631800" y="2336760"/>
              <a:chExt cx="1185840" cy="2536200"/>
            </a:xfrm>
          </p:grpSpPr>
          <p:sp>
            <p:nvSpPr>
              <p:cNvPr id="88" name=""/>
              <p:cNvSpPr/>
              <p:nvPr/>
            </p:nvSpPr>
            <p:spPr>
              <a:xfrm>
                <a:off x="631800" y="2336760"/>
                <a:ext cx="1185840" cy="377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1120" y="2409480"/>
                <a:ext cx="1003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родав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31800" y="2823840"/>
                <a:ext cx="1185840" cy="376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71120" y="2896920"/>
                <a:ext cx="1003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родав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31800" y="3309840"/>
                <a:ext cx="1185840" cy="377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71120" y="3382920"/>
                <a:ext cx="1003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родав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1800" y="3797280"/>
                <a:ext cx="1185840" cy="376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1120" y="3868560"/>
                <a:ext cx="10036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родав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1800" y="4281480"/>
                <a:ext cx="1185840" cy="3790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1120" y="4354200"/>
                <a:ext cx="10036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родав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1800" y="4657680"/>
              <a:ext cx="7665840" cy="730080"/>
              <a:chOff x="631800" y="4657680"/>
              <a:chExt cx="7665840" cy="73008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631800" y="4952880"/>
                <a:ext cx="7665840" cy="42840"/>
                <a:chOff x="631800" y="4952880"/>
                <a:chExt cx="7665840" cy="428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3180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7552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11960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36368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60740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85148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3964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58336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82744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07152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31560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55932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80340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04748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29120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535280" y="4952880"/>
                  <a:ext cx="1375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77756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2164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26572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0944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75352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9760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24168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8540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72948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97356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21728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46136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70544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94952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193240" y="4952880"/>
                  <a:ext cx="10440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698640" y="4657680"/>
                <a:ext cx="1424160" cy="730080"/>
              </a:xfrm>
              <a:custGeom>
                <a:avLst/>
                <a:gdLst/>
                <a:ahLst/>
                <a:rect l="l" t="t" r="r" b="b"/>
                <a:pathLst>
                  <a:path w="1880" h="460">
                    <a:moveTo>
                      <a:pt x="238" y="0"/>
                    </a:moveTo>
                    <a:lnTo>
                      <a:pt x="0" y="135"/>
                    </a:lnTo>
                    <a:lnTo>
                      <a:pt x="0" y="325"/>
                    </a:lnTo>
                    <a:lnTo>
                      <a:pt x="238" y="460"/>
                    </a:lnTo>
                    <a:lnTo>
                      <a:pt x="1642" y="460"/>
                    </a:lnTo>
                    <a:lnTo>
                      <a:pt x="1880" y="325"/>
                    </a:lnTo>
                    <a:lnTo>
                      <a:pt x="1880" y="135"/>
                    </a:lnTo>
                    <a:lnTo>
                      <a:pt x="1642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766680" y="4756320"/>
              <a:ext cx="1279440" cy="25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ffffff"/>
                  </a:solidFill>
                  <a:latin typeface="Arial"/>
                </a:rPr>
                <a:t>Систем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41920" y="5035680"/>
              <a:ext cx="1191960" cy="25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ffffff"/>
                  </a:solidFill>
                  <a:latin typeface="Arial"/>
                </a:rPr>
                <a:t>Операто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6834240" y="2336760"/>
              <a:ext cx="1185840" cy="2323800"/>
              <a:chOff x="6834240" y="2336760"/>
              <a:chExt cx="1185840" cy="2323800"/>
            </a:xfrm>
          </p:grpSpPr>
          <p:sp>
            <p:nvSpPr>
              <p:cNvPr id="136" name=""/>
              <p:cNvSpPr/>
              <p:nvPr/>
            </p:nvSpPr>
            <p:spPr>
              <a:xfrm>
                <a:off x="6834240" y="2336760"/>
                <a:ext cx="1185840" cy="377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52760" y="2409480"/>
                <a:ext cx="840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окуп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34240" y="2823840"/>
                <a:ext cx="1185840" cy="376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051320" y="2896920"/>
                <a:ext cx="840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окуп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34240" y="3309840"/>
                <a:ext cx="1185840" cy="377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51320" y="3382920"/>
                <a:ext cx="840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окуп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834240" y="3797280"/>
                <a:ext cx="1185840" cy="376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51320" y="3868560"/>
                <a:ext cx="840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окуп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34240" y="4281480"/>
                <a:ext cx="1185840" cy="3790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51320" y="4354200"/>
                <a:ext cx="840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окуп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31800" y="1341360"/>
              <a:ext cx="7387920" cy="500040"/>
              <a:chOff x="631800" y="1341360"/>
              <a:chExt cx="7387920" cy="500040"/>
            </a:xfrm>
          </p:grpSpPr>
          <p:sp>
            <p:nvSpPr>
              <p:cNvPr id="147" name=""/>
              <p:cNvSpPr/>
              <p:nvPr/>
            </p:nvSpPr>
            <p:spPr>
              <a:xfrm>
                <a:off x="631800" y="1341360"/>
                <a:ext cx="1186200" cy="5000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09360" y="1474560"/>
                <a:ext cx="723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Імпорт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33520" y="1341360"/>
                <a:ext cx="1186200" cy="5000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37280" y="1474560"/>
                <a:ext cx="876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Експорт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376440" y="1947960"/>
              <a:ext cx="2090880" cy="2239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16280" y="2471760"/>
              <a:ext cx="14166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000000"/>
                  </a:solidFill>
                  <a:latin typeface="Times New Roman"/>
                </a:rPr>
                <a:t>Пул-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000000"/>
                  </a:solidFill>
                  <a:latin typeface="Times New Roman"/>
                </a:rPr>
                <a:t>Єдиний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000000"/>
                  </a:solidFill>
                  <a:latin typeface="Times New Roman"/>
                </a:rPr>
                <a:t>покупец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843200" y="3602160"/>
              <a:ext cx="1672920" cy="915840"/>
              <a:chOff x="1843200" y="3602160"/>
              <a:chExt cx="1672920" cy="915840"/>
            </a:xfrm>
          </p:grpSpPr>
          <p:sp>
            <p:nvSpPr>
              <p:cNvPr id="154" name=""/>
              <p:cNvSpPr/>
              <p:nvPr/>
            </p:nvSpPr>
            <p:spPr>
              <a:xfrm flipV="1">
                <a:off x="1843200" y="3651120"/>
                <a:ext cx="1594440" cy="86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16400" y="360216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132" h="62">
                    <a:moveTo>
                      <a:pt x="50" y="62"/>
                    </a:moveTo>
                    <a:lnTo>
                      <a:pt x="132" y="3"/>
                    </a:lnTo>
                    <a:lnTo>
                      <a:pt x="0" y="0"/>
                    </a:lnTo>
                    <a:lnTo>
                      <a:pt x="5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843200" y="3419640"/>
              <a:ext cx="1603080" cy="600840"/>
              <a:chOff x="1843200" y="3419640"/>
              <a:chExt cx="1603080" cy="60084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1843200" y="3471480"/>
                <a:ext cx="1519920" cy="54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48000" y="341964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131" h="66">
                    <a:moveTo>
                      <a:pt x="35" y="66"/>
                    </a:moveTo>
                    <a:lnTo>
                      <a:pt x="131" y="13"/>
                    </a:lnTo>
                    <a:lnTo>
                      <a:pt x="0" y="0"/>
                    </a:lnTo>
                    <a:lnTo>
                      <a:pt x="3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843200" y="3235320"/>
              <a:ext cx="1532880" cy="286920"/>
              <a:chOff x="1843200" y="3235320"/>
              <a:chExt cx="1532880" cy="28692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1843200" y="3287160"/>
                <a:ext cx="144684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80680" y="3235320"/>
                <a:ext cx="95400" cy="108000"/>
              </a:xfrm>
              <a:custGeom>
                <a:avLst/>
                <a:gdLst/>
                <a:ahLst/>
                <a:rect l="l" t="t" r="r" b="b"/>
                <a:pathLst>
                  <a:path w="127" h="68">
                    <a:moveTo>
                      <a:pt x="17" y="68"/>
                    </a:moveTo>
                    <a:lnTo>
                      <a:pt x="127" y="25"/>
                    </a:lnTo>
                    <a:lnTo>
                      <a:pt x="0" y="0"/>
                    </a:lnTo>
                    <a:lnTo>
                      <a:pt x="1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843200" y="2971800"/>
              <a:ext cx="1532880" cy="109440"/>
              <a:chOff x="1843200" y="2971800"/>
              <a:chExt cx="1532880" cy="109440"/>
            </a:xfrm>
          </p:grpSpPr>
          <p:sp>
            <p:nvSpPr>
              <p:cNvPr id="163" name=""/>
              <p:cNvSpPr/>
              <p:nvPr/>
            </p:nvSpPr>
            <p:spPr>
              <a:xfrm>
                <a:off x="1843200" y="3025800"/>
                <a:ext cx="1445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85720" y="2971800"/>
                <a:ext cx="90360" cy="10944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0" y="69"/>
                    </a:moveTo>
                    <a:lnTo>
                      <a:pt x="119" y="34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843200" y="2529000"/>
              <a:ext cx="1603080" cy="288720"/>
              <a:chOff x="1843200" y="2529000"/>
              <a:chExt cx="1603080" cy="288720"/>
            </a:xfrm>
          </p:grpSpPr>
          <p:sp>
            <p:nvSpPr>
              <p:cNvPr id="166" name=""/>
              <p:cNvSpPr/>
              <p:nvPr/>
            </p:nvSpPr>
            <p:spPr>
              <a:xfrm>
                <a:off x="1843200" y="2529000"/>
                <a:ext cx="1517040" cy="2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0880" y="2709720"/>
                <a:ext cx="95400" cy="108000"/>
              </a:xfrm>
              <a:custGeom>
                <a:avLst/>
                <a:gdLst/>
                <a:ahLst/>
                <a:rect l="l" t="t" r="r" b="b"/>
                <a:pathLst>
                  <a:path w="127" h="68">
                    <a:moveTo>
                      <a:pt x="0" y="68"/>
                    </a:moveTo>
                    <a:lnTo>
                      <a:pt x="127" y="42"/>
                    </a:lnTo>
                    <a:lnTo>
                      <a:pt x="17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843200" y="1533600"/>
              <a:ext cx="1742760" cy="919080"/>
              <a:chOff x="1843200" y="1533600"/>
              <a:chExt cx="1742760" cy="919080"/>
            </a:xfrm>
          </p:grpSpPr>
          <p:sp>
            <p:nvSpPr>
              <p:cNvPr id="169" name=""/>
              <p:cNvSpPr/>
              <p:nvPr/>
            </p:nvSpPr>
            <p:spPr>
              <a:xfrm>
                <a:off x="1843200" y="1533600"/>
                <a:ext cx="1662480" cy="86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84440" y="2354400"/>
                <a:ext cx="101520" cy="982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62"/>
                    </a:moveTo>
                    <a:lnTo>
                      <a:pt x="134" y="57"/>
                    </a:lnTo>
                    <a:lnTo>
                      <a:pt x="50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256360" y="1611360"/>
              <a:ext cx="1602720" cy="833040"/>
              <a:chOff x="5256360" y="1611360"/>
              <a:chExt cx="1602720" cy="833040"/>
            </a:xfrm>
          </p:grpSpPr>
          <p:sp>
            <p:nvSpPr>
              <p:cNvPr id="172" name=""/>
              <p:cNvSpPr/>
              <p:nvPr/>
            </p:nvSpPr>
            <p:spPr>
              <a:xfrm flipV="1">
                <a:off x="5256360" y="1658520"/>
                <a:ext cx="1522440" cy="78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59360" y="161136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132" h="62">
                    <a:moveTo>
                      <a:pt x="48" y="62"/>
                    </a:moveTo>
                    <a:lnTo>
                      <a:pt x="132" y="3"/>
                    </a:lnTo>
                    <a:lnTo>
                      <a:pt x="0" y="0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396040" y="2568600"/>
              <a:ext cx="1463040" cy="207720"/>
              <a:chOff x="5396040" y="2568600"/>
              <a:chExt cx="1463040" cy="20772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5396040" y="2620440"/>
                <a:ext cx="137700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765480" y="256860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125" h="68">
                    <a:moveTo>
                      <a:pt x="12" y="68"/>
                    </a:moveTo>
                    <a:lnTo>
                      <a:pt x="125" y="27"/>
                    </a:lnTo>
                    <a:lnTo>
                      <a:pt x="0" y="0"/>
                    </a:lnTo>
                    <a:lnTo>
                      <a:pt x="12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465880" y="2971800"/>
              <a:ext cx="1393200" cy="109440"/>
              <a:chOff x="5465880" y="2971800"/>
              <a:chExt cx="1393200" cy="109440"/>
            </a:xfrm>
          </p:grpSpPr>
          <p:sp>
            <p:nvSpPr>
              <p:cNvPr id="178" name=""/>
              <p:cNvSpPr/>
              <p:nvPr/>
            </p:nvSpPr>
            <p:spPr>
              <a:xfrm>
                <a:off x="5465880" y="3025800"/>
                <a:ext cx="130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69800" y="2971800"/>
                <a:ext cx="89280" cy="10944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0" y="69"/>
                    </a:moveTo>
                    <a:lnTo>
                      <a:pt x="119" y="34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396040" y="3357720"/>
              <a:ext cx="1463040" cy="210960"/>
              <a:chOff x="5396040" y="3357720"/>
              <a:chExt cx="1463040" cy="210960"/>
            </a:xfrm>
          </p:grpSpPr>
          <p:sp>
            <p:nvSpPr>
              <p:cNvPr id="181" name=""/>
              <p:cNvSpPr/>
              <p:nvPr/>
            </p:nvSpPr>
            <p:spPr>
              <a:xfrm>
                <a:off x="5396040" y="3357720"/>
                <a:ext cx="137700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765480" y="3459240"/>
                <a:ext cx="93600" cy="109440"/>
              </a:xfrm>
              <a:custGeom>
                <a:avLst/>
                <a:gdLst/>
                <a:ahLst/>
                <a:rect l="l" t="t" r="r" b="b"/>
                <a:pathLst>
                  <a:path w="125" h="69">
                    <a:moveTo>
                      <a:pt x="0" y="69"/>
                    </a:moveTo>
                    <a:lnTo>
                      <a:pt x="125" y="40"/>
                    </a:lnTo>
                    <a:lnTo>
                      <a:pt x="12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326200" y="3606840"/>
              <a:ext cx="1532880" cy="442800"/>
              <a:chOff x="5326200" y="3606840"/>
              <a:chExt cx="1532880" cy="442800"/>
            </a:xfrm>
          </p:grpSpPr>
          <p:sp>
            <p:nvSpPr>
              <p:cNvPr id="184" name=""/>
              <p:cNvSpPr/>
              <p:nvPr/>
            </p:nvSpPr>
            <p:spPr>
              <a:xfrm>
                <a:off x="5326200" y="3606840"/>
                <a:ext cx="144828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60800" y="394488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130" h="66">
                    <a:moveTo>
                      <a:pt x="0" y="66"/>
                    </a:moveTo>
                    <a:lnTo>
                      <a:pt x="130" y="48"/>
                    </a:lnTo>
                    <a:lnTo>
                      <a:pt x="28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256360" y="3772080"/>
              <a:ext cx="1602720" cy="758160"/>
              <a:chOff x="5256360" y="3772080"/>
              <a:chExt cx="1602720" cy="758160"/>
            </a:xfrm>
          </p:grpSpPr>
          <p:sp>
            <p:nvSpPr>
              <p:cNvPr id="187" name=""/>
              <p:cNvSpPr/>
              <p:nvPr/>
            </p:nvSpPr>
            <p:spPr>
              <a:xfrm>
                <a:off x="5256360" y="3772080"/>
                <a:ext cx="1521000" cy="70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59360" y="4427640"/>
                <a:ext cx="99720" cy="102600"/>
              </a:xfrm>
              <a:custGeom>
                <a:avLst/>
                <a:gdLst/>
                <a:ahLst/>
                <a:rect l="l" t="t" r="r" b="b"/>
                <a:pathLst>
                  <a:path w="132" h="65">
                    <a:moveTo>
                      <a:pt x="0" y="65"/>
                    </a:moveTo>
                    <a:lnTo>
                      <a:pt x="132" y="57"/>
                    </a:lnTo>
                    <a:lnTo>
                      <a:pt x="44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8440" y="167760"/>
            <a:ext cx="8218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Існуюча модель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C351-445A-4CB6-9768-D77334D292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430200" y="244440"/>
            <a:ext cx="8218440" cy="5657760"/>
            <a:chOff x="430200" y="244440"/>
            <a:chExt cx="8218440" cy="5657760"/>
          </a:xfrm>
        </p:grpSpPr>
        <p:sp>
          <p:nvSpPr>
            <p:cNvPr id="191" name=""/>
            <p:cNvSpPr/>
            <p:nvPr/>
          </p:nvSpPr>
          <p:spPr>
            <a:xfrm flipV="1">
              <a:off x="1581120" y="3098520"/>
              <a:ext cx="5237280" cy="13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581120" y="2577960"/>
              <a:ext cx="52624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581120" y="1688760"/>
              <a:ext cx="5237280" cy="18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1120" y="3111480"/>
              <a:ext cx="5237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98560" y="2425680"/>
              <a:ext cx="501984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11160" y="1625760"/>
              <a:ext cx="5007240" cy="27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581120" y="1523880"/>
              <a:ext cx="5249880" cy="25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581120" y="2451240"/>
              <a:ext cx="523728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581120" y="2945880"/>
              <a:ext cx="52372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581120" y="3492360"/>
              <a:ext cx="5262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20880" y="1473120"/>
              <a:ext cx="4997520" cy="24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81120" y="4483080"/>
              <a:ext cx="52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31800" y="5487840"/>
              <a:ext cx="7596000" cy="414360"/>
              <a:chOff x="631800" y="5487840"/>
              <a:chExt cx="7596000" cy="414360"/>
            </a:xfrm>
          </p:grpSpPr>
          <p:sp>
            <p:nvSpPr>
              <p:cNvPr id="204" name=""/>
              <p:cNvSpPr/>
              <p:nvPr/>
            </p:nvSpPr>
            <p:spPr>
              <a:xfrm>
                <a:off x="631800" y="5492520"/>
                <a:ext cx="2350440" cy="409680"/>
              </a:xfrm>
              <a:custGeom>
                <a:avLst/>
                <a:gdLst/>
                <a:ahLst/>
                <a:rect l="l" t="t" r="r" b="b"/>
                <a:pathLst>
                  <a:path w="3102" h="258">
                    <a:moveTo>
                      <a:pt x="2703" y="0"/>
                    </a:moveTo>
                    <a:lnTo>
                      <a:pt x="0" y="0"/>
                    </a:lnTo>
                    <a:lnTo>
                      <a:pt x="398" y="128"/>
                    </a:lnTo>
                    <a:lnTo>
                      <a:pt x="0" y="258"/>
                    </a:lnTo>
                    <a:lnTo>
                      <a:pt x="2703" y="258"/>
                    </a:lnTo>
                    <a:lnTo>
                      <a:pt x="3102" y="128"/>
                    </a:lnTo>
                    <a:lnTo>
                      <a:pt x="270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21760" y="5591160"/>
                <a:ext cx="1358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500" spc="-1" strike="noStrike">
                    <a:solidFill>
                      <a:srgbClr val="000000"/>
                    </a:solidFill>
                    <a:latin typeface="Arial"/>
                  </a:rPr>
                  <a:t>Виробництво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89680" y="5492520"/>
                <a:ext cx="2315160" cy="409680"/>
              </a:xfrm>
              <a:custGeom>
                <a:avLst/>
                <a:gdLst/>
                <a:ahLst/>
                <a:rect l="l" t="t" r="r" b="b"/>
                <a:pathLst>
                  <a:path w="3054" h="258">
                    <a:moveTo>
                      <a:pt x="2661" y="0"/>
                    </a:moveTo>
                    <a:lnTo>
                      <a:pt x="0" y="0"/>
                    </a:lnTo>
                    <a:lnTo>
                      <a:pt x="393" y="128"/>
                    </a:lnTo>
                    <a:lnTo>
                      <a:pt x="0" y="258"/>
                    </a:lnTo>
                    <a:lnTo>
                      <a:pt x="2661" y="258"/>
                    </a:lnTo>
                    <a:lnTo>
                      <a:pt x="3054" y="128"/>
                    </a:lnTo>
                    <a:lnTo>
                      <a:pt x="2661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83760" y="5591160"/>
                <a:ext cx="909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500" spc="-1" strike="noStrike">
                    <a:solidFill>
                      <a:srgbClr val="000000"/>
                    </a:solidFill>
                    <a:latin typeface="Arial"/>
                  </a:rPr>
                  <a:t>Передача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14080" y="5487840"/>
                <a:ext cx="2313720" cy="409680"/>
              </a:xfrm>
              <a:custGeom>
                <a:avLst/>
                <a:gdLst/>
                <a:ahLst/>
                <a:rect l="l" t="t" r="r" b="b"/>
                <a:pathLst>
                  <a:path w="3054" h="258">
                    <a:moveTo>
                      <a:pt x="2662" y="0"/>
                    </a:moveTo>
                    <a:lnTo>
                      <a:pt x="0" y="0"/>
                    </a:lnTo>
                    <a:lnTo>
                      <a:pt x="393" y="128"/>
                    </a:lnTo>
                    <a:lnTo>
                      <a:pt x="0" y="258"/>
                    </a:lnTo>
                    <a:lnTo>
                      <a:pt x="2662" y="258"/>
                    </a:lnTo>
                    <a:lnTo>
                      <a:pt x="3054" y="128"/>
                    </a:lnTo>
                    <a:lnTo>
                      <a:pt x="2662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58760" y="5586120"/>
                <a:ext cx="1192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500" spc="-1" strike="noStrike">
                    <a:solidFill>
                      <a:srgbClr val="000000"/>
                    </a:solidFill>
                    <a:latin typeface="Arial"/>
                  </a:rPr>
                  <a:t>Споживанн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31800" y="2336760"/>
              <a:ext cx="1185840" cy="2536200"/>
              <a:chOff x="631800" y="2336760"/>
              <a:chExt cx="1185840" cy="2536200"/>
            </a:xfrm>
          </p:grpSpPr>
          <p:sp>
            <p:nvSpPr>
              <p:cNvPr id="211" name=""/>
              <p:cNvSpPr/>
              <p:nvPr/>
            </p:nvSpPr>
            <p:spPr>
              <a:xfrm>
                <a:off x="631800" y="2336760"/>
                <a:ext cx="1185840" cy="377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1120" y="2409480"/>
                <a:ext cx="1003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родав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31800" y="2823840"/>
                <a:ext cx="1185840" cy="376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1120" y="2896920"/>
                <a:ext cx="1003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родав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1800" y="3309840"/>
                <a:ext cx="1185840" cy="377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1120" y="3382920"/>
                <a:ext cx="1003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родав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1800" y="3797280"/>
                <a:ext cx="1185840" cy="376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1120" y="3868560"/>
                <a:ext cx="10036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родав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31800" y="4281480"/>
                <a:ext cx="1185840" cy="3790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1120" y="4354200"/>
                <a:ext cx="10036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родав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31800" y="4657680"/>
              <a:ext cx="7665840" cy="730080"/>
              <a:chOff x="631800" y="4657680"/>
              <a:chExt cx="7665840" cy="73008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631800" y="4952880"/>
                <a:ext cx="7665840" cy="42840"/>
                <a:chOff x="631800" y="4952880"/>
                <a:chExt cx="7665840" cy="428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3180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7552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11960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36368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0740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85148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09556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3964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58336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82744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07152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1560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55932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80340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4748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9120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535280" y="4952880"/>
                  <a:ext cx="1375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77756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2164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6572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50944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75352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99760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24168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400" y="4952880"/>
                  <a:ext cx="13932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72948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97356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21728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6136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70544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949520" y="4952880"/>
                  <a:ext cx="13896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193240" y="4952880"/>
                  <a:ext cx="104400" cy="4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3698640" y="4657680"/>
                <a:ext cx="1424160" cy="730080"/>
              </a:xfrm>
              <a:custGeom>
                <a:avLst/>
                <a:gdLst/>
                <a:ahLst/>
                <a:rect l="l" t="t" r="r" b="b"/>
                <a:pathLst>
                  <a:path w="1880" h="460">
                    <a:moveTo>
                      <a:pt x="238" y="0"/>
                    </a:moveTo>
                    <a:lnTo>
                      <a:pt x="0" y="135"/>
                    </a:lnTo>
                    <a:lnTo>
                      <a:pt x="0" y="325"/>
                    </a:lnTo>
                    <a:lnTo>
                      <a:pt x="238" y="460"/>
                    </a:lnTo>
                    <a:lnTo>
                      <a:pt x="1642" y="460"/>
                    </a:lnTo>
                    <a:lnTo>
                      <a:pt x="1880" y="325"/>
                    </a:lnTo>
                    <a:lnTo>
                      <a:pt x="1880" y="135"/>
                    </a:lnTo>
                    <a:lnTo>
                      <a:pt x="1642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3766680" y="4756320"/>
              <a:ext cx="1279440" cy="25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ffffff"/>
                  </a:solidFill>
                  <a:latin typeface="Arial"/>
                </a:rPr>
                <a:t>Систем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41920" y="5035680"/>
              <a:ext cx="1191960" cy="25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ffffff"/>
                  </a:solidFill>
                  <a:latin typeface="Arial"/>
                </a:rPr>
                <a:t>Операто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834240" y="2336760"/>
              <a:ext cx="1185840" cy="2323800"/>
              <a:chOff x="6834240" y="2336760"/>
              <a:chExt cx="1185840" cy="2323800"/>
            </a:xfrm>
          </p:grpSpPr>
          <p:sp>
            <p:nvSpPr>
              <p:cNvPr id="259" name=""/>
              <p:cNvSpPr/>
              <p:nvPr/>
            </p:nvSpPr>
            <p:spPr>
              <a:xfrm>
                <a:off x="6834240" y="2336760"/>
                <a:ext cx="1185840" cy="377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52760" y="2409480"/>
                <a:ext cx="840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окуп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34240" y="2823840"/>
                <a:ext cx="1185840" cy="376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51320" y="2896920"/>
                <a:ext cx="840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окуп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34240" y="3309840"/>
                <a:ext cx="1185840" cy="377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51320" y="3382920"/>
                <a:ext cx="840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окуп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34240" y="3797280"/>
                <a:ext cx="1185840" cy="376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51320" y="3868560"/>
                <a:ext cx="840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окуп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34240" y="4281480"/>
                <a:ext cx="1185840" cy="3790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51320" y="4354200"/>
                <a:ext cx="840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Покупці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31800" y="1341360"/>
              <a:ext cx="7387920" cy="500040"/>
              <a:chOff x="631800" y="1341360"/>
              <a:chExt cx="7387920" cy="500040"/>
            </a:xfrm>
          </p:grpSpPr>
          <p:sp>
            <p:nvSpPr>
              <p:cNvPr id="270" name=""/>
              <p:cNvSpPr/>
              <p:nvPr/>
            </p:nvSpPr>
            <p:spPr>
              <a:xfrm>
                <a:off x="631800" y="1341360"/>
                <a:ext cx="1186200" cy="5000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909360" y="1474560"/>
                <a:ext cx="723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Імпорт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33520" y="1341360"/>
                <a:ext cx="1186200" cy="5000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37280" y="1474560"/>
                <a:ext cx="876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700" spc="-1" strike="noStrike">
                    <a:solidFill>
                      <a:srgbClr val="000000"/>
                    </a:solidFill>
                    <a:latin typeface="Arial"/>
                  </a:rPr>
                  <a:t>Експорт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30200" y="244440"/>
              <a:ext cx="82184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0000"/>
                  </a:solidFill>
                  <a:latin typeface="Arial"/>
                </a:rPr>
                <a:t>Модель з двосторонніми договорам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B97D-54D5-46FC-9EA6-CD95110FBB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1:15:51Z</dcterms:created>
  <dc:creator>sdjorovic</dc:creator>
  <dc:description/>
  <dc:language>en-US</dc:language>
  <cp:lastModifiedBy>Punina</cp:lastModifiedBy>
  <dcterms:modified xsi:type="dcterms:W3CDTF">2008-09-21T09:47:23Z</dcterms:modified>
  <cp:revision>348</cp:revision>
  <dc:subject/>
  <dc:title>Slide 1</dc:title>
</cp:coreProperties>
</file>